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456-DB51-4F89-A818-68183CB8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D4D-FC40-4A6F-99A0-FF1BFE63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DDA-B0DA-4574-914D-DABCCDA6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BD4-3D28-4138-817E-26EDC852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FE2-FF59-4796-89E3-BECA6F9B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8F8-6B79-469E-BED9-DAC6F2D4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455-33D1-416F-A6D7-715615D6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8CB-3C80-4E33-BB8E-80412BA9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B56-FCBC-47AE-B06C-021415B4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9AE-CAF5-437E-BB94-AADC1C0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BE9-71EE-48A4-A4A7-57978F7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EBD-49C9-4C42-A5F8-C9AAB8A5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57EE-B222-430C-8E76-4CE8CFC5D6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Chapter Nine</a:t>
            </a:r>
            <a:br>
              <a:rPr sz="4000"/>
            </a:b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Series, Sequences and Probabilit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625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-11,25-33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Ink 5"/>
          <p:cNvSpPr/>
          <p:nvPr/>
        </p:nvSpPr>
        <p:spPr>
          <a:xfrm>
            <a:off x="1009800" y="5902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03" y="16396"/>
                </a:moveTo>
                <a:lnTo>
                  <a:pt x="2803" y="1639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9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qu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where there is a specific pattern to the set of numbers contained within it; it is usually infin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The function values     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…,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n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… are called the </a:t>
            </a:r>
            <a:r>
              <a:rPr b="0" lang="en-US" sz="5500" spc="-1" strike="noStrike" u="sng">
                <a:solidFill>
                  <a:srgbClr val="ccffff"/>
                </a:solidFill>
                <a:uFillTx/>
                <a:latin typeface="Arial"/>
              </a:rPr>
              <a:t>terms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 of the sequence</a:t>
            </a:r>
            <a:endParaRPr b="0" lang="en-US" sz="5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the first four terms of each sequence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3n – 2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4"/>
          <p:cNvSpPr/>
          <p:nvPr/>
        </p:nvSpPr>
        <p:spPr>
          <a:xfrm>
            <a:off x="339840" y="2133720"/>
            <a:ext cx="2224080" cy="1974600"/>
          </a:xfrm>
          <a:custGeom>
            <a:avLst/>
            <a:gdLst/>
            <a:ahLst/>
            <a:rect l="l" t="t" r="r" b="b"/>
            <a:pathLst>
              <a:path w="6177" h="5483">
                <a:moveTo>
                  <a:pt x="1612" y="5928"/>
                </a:moveTo>
                <a:cubicBezTo>
                  <a:pt x="1602" y="6011"/>
                  <a:pt x="1596" y="6048"/>
                  <a:pt x="1563" y="6127"/>
                </a:cubicBezTo>
                <a:cubicBezTo>
                  <a:pt x="1516" y="6240"/>
                  <a:pt x="1451" y="6357"/>
                  <a:pt x="1414" y="6474"/>
                </a:cubicBezTo>
                <a:cubicBezTo>
                  <a:pt x="1364" y="6631"/>
                  <a:pt x="1313" y="6786"/>
                  <a:pt x="1265" y="6945"/>
                </a:cubicBezTo>
                <a:cubicBezTo>
                  <a:pt x="1207" y="7138"/>
                  <a:pt x="1166" y="7322"/>
                  <a:pt x="1116" y="7516"/>
                </a:cubicBezTo>
                <a:cubicBezTo>
                  <a:pt x="1049" y="7775"/>
                  <a:pt x="1022" y="8021"/>
                  <a:pt x="992" y="8285"/>
                </a:cubicBezTo>
                <a:cubicBezTo>
                  <a:pt x="967" y="8506"/>
                  <a:pt x="960" y="8712"/>
                  <a:pt x="967" y="8930"/>
                </a:cubicBezTo>
                <a:cubicBezTo>
                  <a:pt x="975" y="9160"/>
                  <a:pt x="982" y="9371"/>
                  <a:pt x="1017" y="9599"/>
                </a:cubicBezTo>
                <a:cubicBezTo>
                  <a:pt x="1046" y="9790"/>
                  <a:pt x="1101" y="9959"/>
                  <a:pt x="1141" y="10145"/>
                </a:cubicBezTo>
                <a:cubicBezTo>
                  <a:pt x="1173" y="10294"/>
                  <a:pt x="1239" y="10424"/>
                  <a:pt x="1290" y="10567"/>
                </a:cubicBezTo>
                <a:cubicBezTo>
                  <a:pt x="1325" y="10665"/>
                  <a:pt x="1374" y="10754"/>
                  <a:pt x="1414" y="10840"/>
                </a:cubicBezTo>
              </a:path>
              <a:path w="6177" h="5483">
                <a:moveTo>
                  <a:pt x="1339" y="10418"/>
                </a:moveTo>
                <a:cubicBezTo>
                  <a:pt x="1404" y="10427"/>
                  <a:pt x="1439" y="10463"/>
                  <a:pt x="1488" y="10492"/>
                </a:cubicBezTo>
                <a:cubicBezTo>
                  <a:pt x="1530" y="10517"/>
                  <a:pt x="1631" y="10561"/>
                  <a:pt x="1662" y="10592"/>
                </a:cubicBezTo>
                <a:cubicBezTo>
                  <a:pt x="1708" y="10638"/>
                  <a:pt x="1812" y="10737"/>
                  <a:pt x="1712" y="10790"/>
                </a:cubicBezTo>
                <a:cubicBezTo>
                  <a:pt x="1637" y="10830"/>
                  <a:pt x="1575" y="10852"/>
                  <a:pt x="1513" y="10914"/>
                </a:cubicBezTo>
                <a:cubicBezTo>
                  <a:pt x="1479" y="10948"/>
                  <a:pt x="1411" y="11005"/>
                  <a:pt x="1439" y="11063"/>
                </a:cubicBezTo>
                <a:cubicBezTo>
                  <a:pt x="1447" y="11063"/>
                  <a:pt x="1455" y="11063"/>
                  <a:pt x="1463" y="11063"/>
                </a:cubicBezTo>
              </a:path>
              <a:path w="6177" h="5483">
                <a:moveTo>
                  <a:pt x="2084" y="10592"/>
                </a:moveTo>
                <a:cubicBezTo>
                  <a:pt x="2084" y="10674"/>
                  <a:pt x="2092" y="10741"/>
                  <a:pt x="2059" y="10815"/>
                </a:cubicBezTo>
                <a:cubicBezTo>
                  <a:pt x="2026" y="10888"/>
                  <a:pt x="1989" y="10963"/>
                  <a:pt x="1960" y="11038"/>
                </a:cubicBezTo>
                <a:cubicBezTo>
                  <a:pt x="1943" y="11081"/>
                  <a:pt x="1910" y="11306"/>
                  <a:pt x="1910" y="11187"/>
                </a:cubicBezTo>
                <a:cubicBezTo>
                  <a:pt x="1910" y="11102"/>
                  <a:pt x="1942" y="10996"/>
                  <a:pt x="1960" y="10914"/>
                </a:cubicBezTo>
                <a:cubicBezTo>
                  <a:pt x="1985" y="10799"/>
                  <a:pt x="2024" y="10679"/>
                  <a:pt x="2059" y="10567"/>
                </a:cubicBezTo>
                <a:cubicBezTo>
                  <a:pt x="2091" y="10465"/>
                  <a:pt x="2103" y="10369"/>
                  <a:pt x="2133" y="10269"/>
                </a:cubicBezTo>
                <a:cubicBezTo>
                  <a:pt x="2163" y="10169"/>
                  <a:pt x="2200" y="10070"/>
                  <a:pt x="2232" y="9971"/>
                </a:cubicBezTo>
                <a:cubicBezTo>
                  <a:pt x="2282" y="10021"/>
                  <a:pt x="2280" y="10055"/>
                  <a:pt x="2307" y="10145"/>
                </a:cubicBezTo>
                <a:cubicBezTo>
                  <a:pt x="2332" y="10230"/>
                  <a:pt x="2368" y="10331"/>
                  <a:pt x="2381" y="10418"/>
                </a:cubicBezTo>
                <a:cubicBezTo>
                  <a:pt x="2402" y="10556"/>
                  <a:pt x="2410" y="10708"/>
                  <a:pt x="2456" y="10840"/>
                </a:cubicBezTo>
                <a:cubicBezTo>
                  <a:pt x="2499" y="10963"/>
                  <a:pt x="2509" y="11053"/>
                  <a:pt x="2604" y="11137"/>
                </a:cubicBezTo>
              </a:path>
              <a:path w="6177" h="5483">
                <a:moveTo>
                  <a:pt x="2158" y="10840"/>
                </a:moveTo>
                <a:cubicBezTo>
                  <a:pt x="2220" y="10870"/>
                  <a:pt x="2283" y="10864"/>
                  <a:pt x="2356" y="10864"/>
                </a:cubicBezTo>
                <a:cubicBezTo>
                  <a:pt x="2373" y="10864"/>
                  <a:pt x="2389" y="10864"/>
                  <a:pt x="2406" y="10864"/>
                </a:cubicBezTo>
              </a:path>
              <a:path w="6177" h="5483">
                <a:moveTo>
                  <a:pt x="2853" y="11063"/>
                </a:moveTo>
                <a:cubicBezTo>
                  <a:pt x="2843" y="11142"/>
                  <a:pt x="2828" y="11202"/>
                  <a:pt x="2828" y="11286"/>
                </a:cubicBezTo>
                <a:cubicBezTo>
                  <a:pt x="2828" y="11327"/>
                  <a:pt x="2828" y="11369"/>
                  <a:pt x="2828" y="11410"/>
                </a:cubicBezTo>
              </a:path>
              <a:path w="6177" h="5483">
                <a:moveTo>
                  <a:pt x="3026" y="10790"/>
                </a:moveTo>
                <a:cubicBezTo>
                  <a:pt x="3095" y="10721"/>
                  <a:pt x="3111" y="10767"/>
                  <a:pt x="3200" y="10740"/>
                </a:cubicBezTo>
                <a:cubicBezTo>
                  <a:pt x="3228" y="10713"/>
                  <a:pt x="3242" y="10705"/>
                  <a:pt x="3274" y="10716"/>
                </a:cubicBezTo>
              </a:path>
              <a:path w="6177" h="5483">
                <a:moveTo>
                  <a:pt x="3175" y="10914"/>
                </a:moveTo>
                <a:cubicBezTo>
                  <a:pt x="3256" y="10936"/>
                  <a:pt x="3315" y="10939"/>
                  <a:pt x="3398" y="10939"/>
                </a:cubicBezTo>
                <a:cubicBezTo>
                  <a:pt x="3406" y="10939"/>
                  <a:pt x="3415" y="10939"/>
                  <a:pt x="3423" y="10939"/>
                </a:cubicBezTo>
              </a:path>
              <a:path w="6177" h="5483">
                <a:moveTo>
                  <a:pt x="3820" y="10294"/>
                </a:moveTo>
                <a:cubicBezTo>
                  <a:pt x="3853" y="10269"/>
                  <a:pt x="3906" y="10208"/>
                  <a:pt x="3944" y="10195"/>
                </a:cubicBezTo>
                <a:cubicBezTo>
                  <a:pt x="4015" y="10172"/>
                  <a:pt x="4070" y="10201"/>
                  <a:pt x="4093" y="10269"/>
                </a:cubicBezTo>
                <a:cubicBezTo>
                  <a:pt x="4117" y="10341"/>
                  <a:pt x="4060" y="10435"/>
                  <a:pt x="4018" y="10492"/>
                </a:cubicBezTo>
                <a:cubicBezTo>
                  <a:pt x="3985" y="10536"/>
                  <a:pt x="3945" y="10554"/>
                  <a:pt x="3919" y="10592"/>
                </a:cubicBezTo>
                <a:cubicBezTo>
                  <a:pt x="3911" y="10608"/>
                  <a:pt x="3902" y="10625"/>
                  <a:pt x="3894" y="10641"/>
                </a:cubicBezTo>
                <a:cubicBezTo>
                  <a:pt x="3945" y="10581"/>
                  <a:pt x="3972" y="10578"/>
                  <a:pt x="4018" y="10641"/>
                </a:cubicBezTo>
                <a:cubicBezTo>
                  <a:pt x="4074" y="10717"/>
                  <a:pt x="4137" y="10848"/>
                  <a:pt x="4142" y="10939"/>
                </a:cubicBezTo>
                <a:cubicBezTo>
                  <a:pt x="4145" y="10990"/>
                  <a:pt x="4145" y="11079"/>
                  <a:pt x="4093" y="11112"/>
                </a:cubicBezTo>
                <a:cubicBezTo>
                  <a:pt x="4051" y="11138"/>
                  <a:pt x="3920" y="11156"/>
                  <a:pt x="3870" y="11137"/>
                </a:cubicBezTo>
                <a:cubicBezTo>
                  <a:pt x="3832" y="11122"/>
                  <a:pt x="3805" y="11101"/>
                  <a:pt x="3795" y="11063"/>
                </a:cubicBezTo>
              </a:path>
              <a:path w="6177" h="5483">
                <a:moveTo>
                  <a:pt x="4539" y="10368"/>
                </a:moveTo>
                <a:cubicBezTo>
                  <a:pt x="4508" y="10437"/>
                  <a:pt x="4468" y="10499"/>
                  <a:pt x="4440" y="10567"/>
                </a:cubicBezTo>
                <a:cubicBezTo>
                  <a:pt x="4402" y="10659"/>
                  <a:pt x="4371" y="10764"/>
                  <a:pt x="4390" y="10864"/>
                </a:cubicBezTo>
                <a:cubicBezTo>
                  <a:pt x="4409" y="10964"/>
                  <a:pt x="4421" y="11023"/>
                  <a:pt x="4490" y="11088"/>
                </a:cubicBezTo>
                <a:cubicBezTo>
                  <a:pt x="4555" y="11149"/>
                  <a:pt x="4574" y="11176"/>
                  <a:pt x="4663" y="11187"/>
                </a:cubicBezTo>
              </a:path>
              <a:path w="6177" h="5483">
                <a:moveTo>
                  <a:pt x="4837" y="10492"/>
                </a:moveTo>
                <a:cubicBezTo>
                  <a:pt x="4876" y="10571"/>
                  <a:pt x="4854" y="10674"/>
                  <a:pt x="4862" y="10765"/>
                </a:cubicBezTo>
                <a:cubicBezTo>
                  <a:pt x="4876" y="10925"/>
                  <a:pt x="4861" y="11083"/>
                  <a:pt x="4887" y="11237"/>
                </a:cubicBezTo>
                <a:cubicBezTo>
                  <a:pt x="4900" y="11314"/>
                  <a:pt x="4900" y="11282"/>
                  <a:pt x="4911" y="11237"/>
                </a:cubicBezTo>
              </a:path>
              <a:path w="6177" h="5483">
                <a:moveTo>
                  <a:pt x="5035" y="10269"/>
                </a:moveTo>
                <a:cubicBezTo>
                  <a:pt x="5071" y="10314"/>
                  <a:pt x="5113" y="10364"/>
                  <a:pt x="5135" y="10418"/>
                </a:cubicBezTo>
                <a:cubicBezTo>
                  <a:pt x="5179" y="10527"/>
                  <a:pt x="5223" y="10630"/>
                  <a:pt x="5259" y="10740"/>
                </a:cubicBezTo>
                <a:cubicBezTo>
                  <a:pt x="5291" y="10837"/>
                  <a:pt x="5308" y="10911"/>
                  <a:pt x="5308" y="11013"/>
                </a:cubicBezTo>
                <a:cubicBezTo>
                  <a:pt x="5308" y="11074"/>
                  <a:pt x="5296" y="11140"/>
                  <a:pt x="5259" y="11187"/>
                </a:cubicBezTo>
                <a:cubicBezTo>
                  <a:pt x="5221" y="11235"/>
                  <a:pt x="5200" y="11251"/>
                  <a:pt x="5184" y="11187"/>
                </a:cubicBezTo>
              </a:path>
              <a:path w="6177" h="5483">
                <a:moveTo>
                  <a:pt x="5606" y="10840"/>
                </a:moveTo>
                <a:cubicBezTo>
                  <a:pt x="5685" y="10840"/>
                  <a:pt x="5752" y="10821"/>
                  <a:pt x="5829" y="10815"/>
                </a:cubicBezTo>
                <a:cubicBezTo>
                  <a:pt x="5837" y="10815"/>
                  <a:pt x="5846" y="10815"/>
                  <a:pt x="5854" y="10815"/>
                </a:cubicBezTo>
              </a:path>
              <a:path w="6177" h="5483">
                <a:moveTo>
                  <a:pt x="6028" y="10517"/>
                </a:moveTo>
                <a:cubicBezTo>
                  <a:pt x="6120" y="10424"/>
                  <a:pt x="6111" y="10476"/>
                  <a:pt x="6226" y="10492"/>
                </a:cubicBezTo>
                <a:cubicBezTo>
                  <a:pt x="6336" y="10507"/>
                  <a:pt x="6301" y="10557"/>
                  <a:pt x="6325" y="10641"/>
                </a:cubicBezTo>
                <a:cubicBezTo>
                  <a:pt x="6350" y="10729"/>
                  <a:pt x="6355" y="10773"/>
                  <a:pt x="6325" y="10864"/>
                </a:cubicBezTo>
                <a:cubicBezTo>
                  <a:pt x="6291" y="10964"/>
                  <a:pt x="6258" y="10992"/>
                  <a:pt x="6201" y="11063"/>
                </a:cubicBezTo>
                <a:cubicBezTo>
                  <a:pt x="6158" y="11116"/>
                  <a:pt x="6152" y="11124"/>
                  <a:pt x="6102" y="11162"/>
                </a:cubicBezTo>
                <a:cubicBezTo>
                  <a:pt x="6125" y="11083"/>
                  <a:pt x="6165" y="11055"/>
                  <a:pt x="6251" y="11088"/>
                </a:cubicBezTo>
                <a:cubicBezTo>
                  <a:pt x="6308" y="11110"/>
                  <a:pt x="6408" y="11138"/>
                  <a:pt x="6449" y="11187"/>
                </a:cubicBezTo>
                <a:cubicBezTo>
                  <a:pt x="6508" y="11256"/>
                  <a:pt x="6527" y="11251"/>
                  <a:pt x="6598" y="11286"/>
                </a:cubicBezTo>
                <a:cubicBezTo>
                  <a:pt x="6621" y="11309"/>
                  <a:pt x="6625" y="11317"/>
                  <a:pt x="6648" y="11311"/>
                </a:cubicBezTo>
              </a:path>
              <a:path w="6177" h="5483">
                <a:moveTo>
                  <a:pt x="6796" y="10864"/>
                </a:moveTo>
                <a:cubicBezTo>
                  <a:pt x="6871" y="10828"/>
                  <a:pt x="6910" y="10815"/>
                  <a:pt x="6995" y="10815"/>
                </a:cubicBezTo>
              </a:path>
              <a:path w="6177" h="5483">
                <a:moveTo>
                  <a:pt x="6871" y="10988"/>
                </a:moveTo>
                <a:cubicBezTo>
                  <a:pt x="6994" y="11015"/>
                  <a:pt x="6996" y="11015"/>
                  <a:pt x="7119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5"/>
          <p:cNvSpPr/>
          <p:nvPr/>
        </p:nvSpPr>
        <p:spPr>
          <a:xfrm>
            <a:off x="2795760" y="3776760"/>
            <a:ext cx="26640" cy="393480"/>
          </a:xfrm>
          <a:custGeom>
            <a:avLst/>
            <a:gdLst/>
            <a:ahLst/>
            <a:rect l="l" t="t" r="r" b="b"/>
            <a:pathLst>
              <a:path w="75" h="1093">
                <a:moveTo>
                  <a:pt x="7789" y="10492"/>
                </a:moveTo>
                <a:cubicBezTo>
                  <a:pt x="7780" y="10576"/>
                  <a:pt x="7764" y="10612"/>
                  <a:pt x="7764" y="10716"/>
                </a:cubicBezTo>
                <a:cubicBezTo>
                  <a:pt x="7764" y="10878"/>
                  <a:pt x="7771" y="11030"/>
                  <a:pt x="7789" y="11187"/>
                </a:cubicBezTo>
                <a:cubicBezTo>
                  <a:pt x="7800" y="11286"/>
                  <a:pt x="7809" y="11385"/>
                  <a:pt x="7813" y="11485"/>
                </a:cubicBezTo>
                <a:cubicBezTo>
                  <a:pt x="7816" y="11574"/>
                  <a:pt x="7842" y="11573"/>
                  <a:pt x="7813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6"/>
          <p:cNvSpPr/>
          <p:nvPr/>
        </p:nvSpPr>
        <p:spPr>
          <a:xfrm>
            <a:off x="3670200" y="3589200"/>
            <a:ext cx="1965600" cy="750960"/>
          </a:xfrm>
          <a:custGeom>
            <a:avLst/>
            <a:gdLst/>
            <a:ahLst/>
            <a:rect l="l" t="t" r="r" b="b"/>
            <a:pathLst>
              <a:path w="5458" h="2085">
                <a:moveTo>
                  <a:pt x="10244" y="11261"/>
                </a:moveTo>
                <a:cubicBezTo>
                  <a:pt x="10212" y="11360"/>
                  <a:pt x="10195" y="11430"/>
                  <a:pt x="10195" y="11534"/>
                </a:cubicBezTo>
                <a:cubicBezTo>
                  <a:pt x="10195" y="11559"/>
                  <a:pt x="10195" y="11584"/>
                  <a:pt x="10195" y="11609"/>
                </a:cubicBezTo>
                <a:cubicBezTo>
                  <a:pt x="10195" y="11522"/>
                  <a:pt x="10217" y="11448"/>
                  <a:pt x="10220" y="11361"/>
                </a:cubicBezTo>
                <a:cubicBezTo>
                  <a:pt x="10226" y="11170"/>
                  <a:pt x="10235" y="10978"/>
                  <a:pt x="10244" y="10790"/>
                </a:cubicBezTo>
                <a:cubicBezTo>
                  <a:pt x="10248" y="10697"/>
                  <a:pt x="10231" y="10472"/>
                  <a:pt x="10269" y="10368"/>
                </a:cubicBezTo>
                <a:cubicBezTo>
                  <a:pt x="10284" y="10327"/>
                  <a:pt x="10305" y="10226"/>
                  <a:pt x="10344" y="10195"/>
                </a:cubicBezTo>
                <a:cubicBezTo>
                  <a:pt x="10352" y="10203"/>
                  <a:pt x="10360" y="10212"/>
                  <a:pt x="10368" y="10220"/>
                </a:cubicBezTo>
                <a:cubicBezTo>
                  <a:pt x="10402" y="10294"/>
                  <a:pt x="10413" y="10368"/>
                  <a:pt x="10443" y="10443"/>
                </a:cubicBezTo>
                <a:cubicBezTo>
                  <a:pt x="10485" y="10549"/>
                  <a:pt x="10513" y="10655"/>
                  <a:pt x="10542" y="10765"/>
                </a:cubicBezTo>
                <a:cubicBezTo>
                  <a:pt x="10573" y="10882"/>
                  <a:pt x="10590" y="11027"/>
                  <a:pt x="10641" y="11137"/>
                </a:cubicBezTo>
                <a:cubicBezTo>
                  <a:pt x="10688" y="11238"/>
                  <a:pt x="10744" y="11333"/>
                  <a:pt x="10790" y="11435"/>
                </a:cubicBezTo>
                <a:cubicBezTo>
                  <a:pt x="10818" y="11497"/>
                  <a:pt x="10862" y="11555"/>
                  <a:pt x="10889" y="11609"/>
                </a:cubicBezTo>
                <a:cubicBezTo>
                  <a:pt x="10897" y="11617"/>
                  <a:pt x="10906" y="11625"/>
                  <a:pt x="10914" y="11633"/>
                </a:cubicBezTo>
              </a:path>
              <a:path w="5458" h="2085">
                <a:moveTo>
                  <a:pt x="10443" y="11311"/>
                </a:moveTo>
                <a:cubicBezTo>
                  <a:pt x="10526" y="11334"/>
                  <a:pt x="10606" y="11351"/>
                  <a:pt x="10691" y="11361"/>
                </a:cubicBezTo>
              </a:path>
              <a:path w="5458" h="2085">
                <a:moveTo>
                  <a:pt x="11286" y="11460"/>
                </a:moveTo>
                <a:cubicBezTo>
                  <a:pt x="11305" y="11566"/>
                  <a:pt x="11323" y="11680"/>
                  <a:pt x="11336" y="11782"/>
                </a:cubicBezTo>
                <a:cubicBezTo>
                  <a:pt x="11348" y="11870"/>
                  <a:pt x="11330" y="11850"/>
                  <a:pt x="11385" y="11906"/>
                </a:cubicBezTo>
              </a:path>
              <a:path w="5458" h="2085">
                <a:moveTo>
                  <a:pt x="11509" y="11112"/>
                </a:moveTo>
                <a:cubicBezTo>
                  <a:pt x="11597" y="11095"/>
                  <a:pt x="11668" y="11088"/>
                  <a:pt x="11757" y="11088"/>
                </a:cubicBezTo>
              </a:path>
              <a:path w="5458" h="2085">
                <a:moveTo>
                  <a:pt x="11658" y="11212"/>
                </a:moveTo>
                <a:cubicBezTo>
                  <a:pt x="11791" y="11232"/>
                  <a:pt x="11802" y="11252"/>
                  <a:pt x="11906" y="11212"/>
                </a:cubicBezTo>
              </a:path>
              <a:path w="5458" h="2085">
                <a:moveTo>
                  <a:pt x="12502" y="10344"/>
                </a:moveTo>
                <a:cubicBezTo>
                  <a:pt x="12477" y="10425"/>
                  <a:pt x="12477" y="10482"/>
                  <a:pt x="12477" y="10567"/>
                </a:cubicBezTo>
                <a:cubicBezTo>
                  <a:pt x="12477" y="10665"/>
                  <a:pt x="12513" y="10746"/>
                  <a:pt x="12526" y="10840"/>
                </a:cubicBezTo>
                <a:cubicBezTo>
                  <a:pt x="12526" y="10891"/>
                  <a:pt x="12527" y="10910"/>
                  <a:pt x="12551" y="10939"/>
                </a:cubicBezTo>
              </a:path>
              <a:path w="5458" h="2085">
                <a:moveTo>
                  <a:pt x="12353" y="11013"/>
                </a:moveTo>
                <a:cubicBezTo>
                  <a:pt x="12468" y="11013"/>
                  <a:pt x="12565" y="11032"/>
                  <a:pt x="12675" y="11038"/>
                </a:cubicBezTo>
                <a:cubicBezTo>
                  <a:pt x="12725" y="11038"/>
                  <a:pt x="12741" y="11038"/>
                  <a:pt x="12774" y="11038"/>
                </a:cubicBezTo>
              </a:path>
              <a:path w="5458" h="2085">
                <a:moveTo>
                  <a:pt x="12576" y="11237"/>
                </a:moveTo>
                <a:cubicBezTo>
                  <a:pt x="12576" y="11253"/>
                  <a:pt x="12576" y="11270"/>
                  <a:pt x="12576" y="11286"/>
                </a:cubicBezTo>
                <a:cubicBezTo>
                  <a:pt x="12642" y="11277"/>
                  <a:pt x="12652" y="11260"/>
                  <a:pt x="12700" y="11212"/>
                </a:cubicBezTo>
                <a:cubicBezTo>
                  <a:pt x="12745" y="11167"/>
                  <a:pt x="12822" y="11180"/>
                  <a:pt x="12874" y="11212"/>
                </a:cubicBezTo>
                <a:cubicBezTo>
                  <a:pt x="12912" y="11236"/>
                  <a:pt x="12921" y="11342"/>
                  <a:pt x="12923" y="11385"/>
                </a:cubicBezTo>
                <a:cubicBezTo>
                  <a:pt x="12926" y="11447"/>
                  <a:pt x="12900" y="11510"/>
                  <a:pt x="12874" y="11559"/>
                </a:cubicBezTo>
                <a:cubicBezTo>
                  <a:pt x="12855" y="11595"/>
                  <a:pt x="12805" y="11686"/>
                  <a:pt x="12750" y="11683"/>
                </a:cubicBezTo>
                <a:cubicBezTo>
                  <a:pt x="12733" y="11675"/>
                  <a:pt x="12717" y="11666"/>
                  <a:pt x="12700" y="11658"/>
                </a:cubicBezTo>
                <a:cubicBezTo>
                  <a:pt x="12744" y="11606"/>
                  <a:pt x="12783" y="11581"/>
                  <a:pt x="12849" y="11633"/>
                </a:cubicBezTo>
                <a:cubicBezTo>
                  <a:pt x="12886" y="11662"/>
                  <a:pt x="12929" y="11721"/>
                  <a:pt x="12973" y="11733"/>
                </a:cubicBezTo>
                <a:cubicBezTo>
                  <a:pt x="12989" y="11733"/>
                  <a:pt x="13006" y="11733"/>
                  <a:pt x="13022" y="11733"/>
                </a:cubicBezTo>
              </a:path>
              <a:path w="5458" h="2085">
                <a:moveTo>
                  <a:pt x="12378" y="10195"/>
                </a:moveTo>
                <a:cubicBezTo>
                  <a:pt x="12322" y="10241"/>
                  <a:pt x="12331" y="10253"/>
                  <a:pt x="12303" y="10344"/>
                </a:cubicBezTo>
                <a:cubicBezTo>
                  <a:pt x="12276" y="10431"/>
                  <a:pt x="12230" y="10502"/>
                  <a:pt x="12204" y="10592"/>
                </a:cubicBezTo>
                <a:cubicBezTo>
                  <a:pt x="12167" y="10722"/>
                  <a:pt x="12154" y="10830"/>
                  <a:pt x="12154" y="10964"/>
                </a:cubicBezTo>
                <a:cubicBezTo>
                  <a:pt x="12154" y="11097"/>
                  <a:pt x="12174" y="11167"/>
                  <a:pt x="12229" y="11286"/>
                </a:cubicBezTo>
                <a:cubicBezTo>
                  <a:pt x="12285" y="11406"/>
                  <a:pt x="12365" y="11533"/>
                  <a:pt x="12477" y="11609"/>
                </a:cubicBezTo>
                <a:cubicBezTo>
                  <a:pt x="12597" y="11691"/>
                  <a:pt x="12681" y="11677"/>
                  <a:pt x="12824" y="11683"/>
                </a:cubicBezTo>
              </a:path>
              <a:path w="5458" h="2085">
                <a:moveTo>
                  <a:pt x="13047" y="10120"/>
                </a:moveTo>
                <a:cubicBezTo>
                  <a:pt x="13134" y="10270"/>
                  <a:pt x="13232" y="10423"/>
                  <a:pt x="13271" y="10592"/>
                </a:cubicBezTo>
                <a:cubicBezTo>
                  <a:pt x="13316" y="10789"/>
                  <a:pt x="13358" y="10987"/>
                  <a:pt x="13395" y="11187"/>
                </a:cubicBezTo>
                <a:cubicBezTo>
                  <a:pt x="13424" y="11346"/>
                  <a:pt x="13435" y="11521"/>
                  <a:pt x="13419" y="11683"/>
                </a:cubicBezTo>
                <a:cubicBezTo>
                  <a:pt x="13409" y="11790"/>
                  <a:pt x="13391" y="11877"/>
                  <a:pt x="13320" y="11956"/>
                </a:cubicBezTo>
                <a:cubicBezTo>
                  <a:pt x="13276" y="12005"/>
                  <a:pt x="13269" y="11946"/>
                  <a:pt x="13246" y="11906"/>
                </a:cubicBezTo>
              </a:path>
              <a:path w="5458" h="2085">
                <a:moveTo>
                  <a:pt x="13469" y="9971"/>
                </a:moveTo>
                <a:cubicBezTo>
                  <a:pt x="13491" y="10059"/>
                  <a:pt x="13526" y="10134"/>
                  <a:pt x="13543" y="10220"/>
                </a:cubicBezTo>
                <a:cubicBezTo>
                  <a:pt x="13543" y="10279"/>
                  <a:pt x="13546" y="10305"/>
                  <a:pt x="13568" y="10344"/>
                </a:cubicBezTo>
              </a:path>
              <a:path w="5458" h="2085">
                <a:moveTo>
                  <a:pt x="13915" y="11088"/>
                </a:moveTo>
                <a:cubicBezTo>
                  <a:pt x="13987" y="11068"/>
                  <a:pt x="14045" y="11044"/>
                  <a:pt x="14114" y="11038"/>
                </a:cubicBezTo>
                <a:cubicBezTo>
                  <a:pt x="14122" y="11038"/>
                  <a:pt x="14131" y="11038"/>
                  <a:pt x="14139" y="11038"/>
                </a:cubicBezTo>
              </a:path>
              <a:path w="5458" h="2085">
                <a:moveTo>
                  <a:pt x="14015" y="11261"/>
                </a:moveTo>
                <a:cubicBezTo>
                  <a:pt x="14111" y="11334"/>
                  <a:pt x="14163" y="11328"/>
                  <a:pt x="14288" y="11311"/>
                </a:cubicBezTo>
              </a:path>
              <a:path w="5458" h="2085">
                <a:moveTo>
                  <a:pt x="14759" y="10344"/>
                </a:moveTo>
                <a:cubicBezTo>
                  <a:pt x="14759" y="10471"/>
                  <a:pt x="14772" y="10593"/>
                  <a:pt x="14784" y="10716"/>
                </a:cubicBezTo>
                <a:cubicBezTo>
                  <a:pt x="14796" y="10835"/>
                  <a:pt x="14840" y="10949"/>
                  <a:pt x="14858" y="11063"/>
                </a:cubicBezTo>
                <a:cubicBezTo>
                  <a:pt x="14858" y="11079"/>
                  <a:pt x="14858" y="11096"/>
                  <a:pt x="14858" y="11112"/>
                </a:cubicBezTo>
              </a:path>
              <a:path w="5458" h="2085">
                <a:moveTo>
                  <a:pt x="14684" y="11237"/>
                </a:moveTo>
                <a:cubicBezTo>
                  <a:pt x="14739" y="11204"/>
                  <a:pt x="14790" y="11212"/>
                  <a:pt x="14858" y="11212"/>
                </a:cubicBezTo>
                <a:cubicBezTo>
                  <a:pt x="14962" y="11212"/>
                  <a:pt x="15032" y="11195"/>
                  <a:pt x="15131" y="11162"/>
                </a:cubicBezTo>
              </a:path>
              <a:path w="5458" h="2085">
                <a:moveTo>
                  <a:pt x="14957" y="11509"/>
                </a:moveTo>
                <a:cubicBezTo>
                  <a:pt x="14992" y="11482"/>
                  <a:pt x="15041" y="11429"/>
                  <a:pt x="15081" y="11410"/>
                </a:cubicBezTo>
                <a:cubicBezTo>
                  <a:pt x="15124" y="11390"/>
                  <a:pt x="15276" y="11348"/>
                  <a:pt x="15304" y="11410"/>
                </a:cubicBezTo>
                <a:cubicBezTo>
                  <a:pt x="15327" y="11462"/>
                  <a:pt x="15294" y="11607"/>
                  <a:pt x="15280" y="11658"/>
                </a:cubicBezTo>
                <a:cubicBezTo>
                  <a:pt x="15260" y="11728"/>
                  <a:pt x="15233" y="11787"/>
                  <a:pt x="15205" y="11857"/>
                </a:cubicBezTo>
                <a:cubicBezTo>
                  <a:pt x="15170" y="11945"/>
                  <a:pt x="15170" y="11968"/>
                  <a:pt x="15081" y="11981"/>
                </a:cubicBezTo>
                <a:cubicBezTo>
                  <a:pt x="15112" y="11873"/>
                  <a:pt x="15152" y="11926"/>
                  <a:pt x="15255" y="11931"/>
                </a:cubicBezTo>
                <a:cubicBezTo>
                  <a:pt x="15330" y="11935"/>
                  <a:pt x="15386" y="11972"/>
                  <a:pt x="15453" y="12005"/>
                </a:cubicBezTo>
                <a:cubicBezTo>
                  <a:pt x="15528" y="12042"/>
                  <a:pt x="15568" y="12055"/>
                  <a:pt x="15652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7"/>
          <p:cNvSpPr/>
          <p:nvPr/>
        </p:nvSpPr>
        <p:spPr>
          <a:xfrm>
            <a:off x="723960" y="4197240"/>
            <a:ext cx="2178000" cy="606600"/>
          </a:xfrm>
          <a:custGeom>
            <a:avLst/>
            <a:gdLst/>
            <a:ahLst/>
            <a:rect l="l" t="t" r="r" b="b"/>
            <a:pathLst>
              <a:path w="6054" h="1688">
                <a:moveTo>
                  <a:pt x="2232" y="11881"/>
                </a:moveTo>
                <a:cubicBezTo>
                  <a:pt x="2253" y="11933"/>
                  <a:pt x="2236" y="11992"/>
                  <a:pt x="2208" y="12055"/>
                </a:cubicBezTo>
                <a:cubicBezTo>
                  <a:pt x="2172" y="12138"/>
                  <a:pt x="2142" y="12219"/>
                  <a:pt x="2108" y="12303"/>
                </a:cubicBezTo>
                <a:cubicBezTo>
                  <a:pt x="2077" y="12381"/>
                  <a:pt x="2060" y="12468"/>
                  <a:pt x="2034" y="12551"/>
                </a:cubicBezTo>
                <a:cubicBezTo>
                  <a:pt x="2013" y="12633"/>
                  <a:pt x="2005" y="12649"/>
                  <a:pt x="2009" y="12700"/>
                </a:cubicBezTo>
                <a:cubicBezTo>
                  <a:pt x="2054" y="12644"/>
                  <a:pt x="2061" y="12592"/>
                  <a:pt x="2084" y="12526"/>
                </a:cubicBezTo>
                <a:cubicBezTo>
                  <a:pt x="2122" y="12416"/>
                  <a:pt x="2127" y="12313"/>
                  <a:pt x="2158" y="12204"/>
                </a:cubicBezTo>
                <a:cubicBezTo>
                  <a:pt x="2184" y="12114"/>
                  <a:pt x="2222" y="12024"/>
                  <a:pt x="2232" y="11931"/>
                </a:cubicBezTo>
                <a:cubicBezTo>
                  <a:pt x="2241" y="11853"/>
                  <a:pt x="2245" y="11756"/>
                  <a:pt x="2282" y="11683"/>
                </a:cubicBezTo>
                <a:cubicBezTo>
                  <a:pt x="2290" y="11675"/>
                  <a:pt x="2299" y="11666"/>
                  <a:pt x="2307" y="11658"/>
                </a:cubicBezTo>
                <a:cubicBezTo>
                  <a:pt x="2354" y="11718"/>
                  <a:pt x="2359" y="11766"/>
                  <a:pt x="2381" y="11832"/>
                </a:cubicBezTo>
                <a:cubicBezTo>
                  <a:pt x="2413" y="11927"/>
                  <a:pt x="2435" y="12009"/>
                  <a:pt x="2456" y="12105"/>
                </a:cubicBezTo>
                <a:cubicBezTo>
                  <a:pt x="2476" y="12199"/>
                  <a:pt x="2521" y="12289"/>
                  <a:pt x="2555" y="12378"/>
                </a:cubicBezTo>
                <a:cubicBezTo>
                  <a:pt x="2587" y="12463"/>
                  <a:pt x="2613" y="12545"/>
                  <a:pt x="2654" y="12626"/>
                </a:cubicBezTo>
                <a:cubicBezTo>
                  <a:pt x="2680" y="12678"/>
                  <a:pt x="2699" y="12824"/>
                  <a:pt x="2729" y="12774"/>
                </a:cubicBezTo>
                <a:cubicBezTo>
                  <a:pt x="2729" y="12758"/>
                  <a:pt x="2729" y="12741"/>
                  <a:pt x="2729" y="12725"/>
                </a:cubicBezTo>
              </a:path>
              <a:path w="6054" h="1688">
                <a:moveTo>
                  <a:pt x="2307" y="12427"/>
                </a:moveTo>
                <a:cubicBezTo>
                  <a:pt x="2359" y="12458"/>
                  <a:pt x="2440" y="12486"/>
                  <a:pt x="2505" y="12502"/>
                </a:cubicBezTo>
                <a:cubicBezTo>
                  <a:pt x="2513" y="12502"/>
                  <a:pt x="2522" y="12502"/>
                  <a:pt x="2530" y="12502"/>
                </a:cubicBezTo>
              </a:path>
              <a:path w="6054" h="1688">
                <a:moveTo>
                  <a:pt x="2927" y="12477"/>
                </a:moveTo>
                <a:cubicBezTo>
                  <a:pt x="3059" y="12514"/>
                  <a:pt x="3027" y="12496"/>
                  <a:pt x="3076" y="12601"/>
                </a:cubicBezTo>
                <a:cubicBezTo>
                  <a:pt x="3097" y="12646"/>
                  <a:pt x="3076" y="12745"/>
                  <a:pt x="3051" y="12799"/>
                </a:cubicBezTo>
                <a:cubicBezTo>
                  <a:pt x="3035" y="12833"/>
                  <a:pt x="2979" y="12872"/>
                  <a:pt x="2952" y="12898"/>
                </a:cubicBezTo>
                <a:cubicBezTo>
                  <a:pt x="2958" y="12860"/>
                  <a:pt x="2975" y="12789"/>
                  <a:pt x="3026" y="12774"/>
                </a:cubicBezTo>
                <a:cubicBezTo>
                  <a:pt x="3079" y="12759"/>
                  <a:pt x="3123" y="12832"/>
                  <a:pt x="3150" y="12874"/>
                </a:cubicBezTo>
                <a:cubicBezTo>
                  <a:pt x="3181" y="12922"/>
                  <a:pt x="3208" y="12957"/>
                  <a:pt x="3249" y="12998"/>
                </a:cubicBezTo>
                <a:cubicBezTo>
                  <a:pt x="3278" y="13027"/>
                  <a:pt x="3288" y="13038"/>
                  <a:pt x="3324" y="13047"/>
                </a:cubicBezTo>
              </a:path>
              <a:path w="6054" h="1688">
                <a:moveTo>
                  <a:pt x="3473" y="12353"/>
                </a:moveTo>
                <a:cubicBezTo>
                  <a:pt x="3536" y="12329"/>
                  <a:pt x="3578" y="12328"/>
                  <a:pt x="3646" y="12328"/>
                </a:cubicBezTo>
              </a:path>
              <a:path w="6054" h="1688">
                <a:moveTo>
                  <a:pt x="3497" y="12452"/>
                </a:moveTo>
                <a:cubicBezTo>
                  <a:pt x="3560" y="12476"/>
                  <a:pt x="3602" y="12477"/>
                  <a:pt x="3671" y="12477"/>
                </a:cubicBezTo>
              </a:path>
              <a:path w="6054" h="1688">
                <a:moveTo>
                  <a:pt x="4018" y="12005"/>
                </a:moveTo>
                <a:cubicBezTo>
                  <a:pt x="4075" y="11950"/>
                  <a:pt x="4096" y="11946"/>
                  <a:pt x="4167" y="11981"/>
                </a:cubicBezTo>
                <a:cubicBezTo>
                  <a:pt x="4234" y="12014"/>
                  <a:pt x="4262" y="12031"/>
                  <a:pt x="4266" y="12105"/>
                </a:cubicBezTo>
                <a:cubicBezTo>
                  <a:pt x="4271" y="12187"/>
                  <a:pt x="4232" y="12240"/>
                  <a:pt x="4167" y="12278"/>
                </a:cubicBezTo>
                <a:cubicBezTo>
                  <a:pt x="4124" y="12300"/>
                  <a:pt x="4112" y="12313"/>
                  <a:pt x="4093" y="12278"/>
                </a:cubicBezTo>
                <a:cubicBezTo>
                  <a:pt x="4176" y="12278"/>
                  <a:pt x="4229" y="12283"/>
                  <a:pt x="4291" y="12353"/>
                </a:cubicBezTo>
                <a:cubicBezTo>
                  <a:pt x="4329" y="12396"/>
                  <a:pt x="4357" y="12472"/>
                  <a:pt x="4366" y="12526"/>
                </a:cubicBezTo>
                <a:cubicBezTo>
                  <a:pt x="4376" y="12585"/>
                  <a:pt x="4380" y="12669"/>
                  <a:pt x="4316" y="12700"/>
                </a:cubicBezTo>
                <a:cubicBezTo>
                  <a:pt x="4254" y="12730"/>
                  <a:pt x="4172" y="12715"/>
                  <a:pt x="4118" y="12675"/>
                </a:cubicBezTo>
                <a:cubicBezTo>
                  <a:pt x="4067" y="12638"/>
                  <a:pt x="4030" y="12610"/>
                  <a:pt x="4018" y="12551"/>
                </a:cubicBezTo>
                <a:cubicBezTo>
                  <a:pt x="4018" y="12535"/>
                  <a:pt x="4018" y="12518"/>
                  <a:pt x="4018" y="12502"/>
                </a:cubicBezTo>
              </a:path>
              <a:path w="6054" h="1688">
                <a:moveTo>
                  <a:pt x="4688" y="11956"/>
                </a:moveTo>
                <a:cubicBezTo>
                  <a:pt x="4715" y="12028"/>
                  <a:pt x="4710" y="12080"/>
                  <a:pt x="4688" y="12154"/>
                </a:cubicBezTo>
                <a:cubicBezTo>
                  <a:pt x="4660" y="12248"/>
                  <a:pt x="4638" y="12301"/>
                  <a:pt x="4638" y="12402"/>
                </a:cubicBezTo>
                <a:cubicBezTo>
                  <a:pt x="4638" y="12498"/>
                  <a:pt x="4628" y="12585"/>
                  <a:pt x="4663" y="12675"/>
                </a:cubicBezTo>
                <a:cubicBezTo>
                  <a:pt x="4669" y="12691"/>
                  <a:pt x="4731" y="12832"/>
                  <a:pt x="4762" y="12824"/>
                </a:cubicBezTo>
                <a:cubicBezTo>
                  <a:pt x="4762" y="12816"/>
                  <a:pt x="4762" y="12807"/>
                  <a:pt x="4762" y="12799"/>
                </a:cubicBezTo>
              </a:path>
              <a:path w="6054" h="1688">
                <a:moveTo>
                  <a:pt x="4911" y="12080"/>
                </a:moveTo>
                <a:cubicBezTo>
                  <a:pt x="4971" y="12116"/>
                  <a:pt x="5022" y="12082"/>
                  <a:pt x="5085" y="12105"/>
                </a:cubicBezTo>
                <a:cubicBezTo>
                  <a:pt x="5131" y="12122"/>
                  <a:pt x="5197" y="12177"/>
                  <a:pt x="5209" y="12229"/>
                </a:cubicBezTo>
                <a:cubicBezTo>
                  <a:pt x="5232" y="12326"/>
                  <a:pt x="5219" y="12485"/>
                  <a:pt x="5184" y="12576"/>
                </a:cubicBezTo>
                <a:cubicBezTo>
                  <a:pt x="5168" y="12618"/>
                  <a:pt x="5122" y="12699"/>
                  <a:pt x="5085" y="12725"/>
                </a:cubicBezTo>
                <a:cubicBezTo>
                  <a:pt x="5035" y="12750"/>
                  <a:pt x="5019" y="12758"/>
                  <a:pt x="4986" y="12774"/>
                </a:cubicBezTo>
                <a:cubicBezTo>
                  <a:pt x="4944" y="12723"/>
                  <a:pt x="4930" y="12686"/>
                  <a:pt x="4961" y="12626"/>
                </a:cubicBezTo>
                <a:cubicBezTo>
                  <a:pt x="4979" y="12591"/>
                  <a:pt x="5048" y="12535"/>
                  <a:pt x="5085" y="12526"/>
                </a:cubicBezTo>
                <a:cubicBezTo>
                  <a:pt x="5149" y="12511"/>
                  <a:pt x="5218" y="12568"/>
                  <a:pt x="5234" y="12626"/>
                </a:cubicBezTo>
                <a:cubicBezTo>
                  <a:pt x="5252" y="12692"/>
                  <a:pt x="5278" y="12754"/>
                  <a:pt x="5308" y="12824"/>
                </a:cubicBezTo>
                <a:cubicBezTo>
                  <a:pt x="5316" y="12841"/>
                  <a:pt x="5325" y="12857"/>
                  <a:pt x="5333" y="12874"/>
                </a:cubicBezTo>
              </a:path>
              <a:path w="6054" h="1688">
                <a:moveTo>
                  <a:pt x="5432" y="11881"/>
                </a:moveTo>
                <a:cubicBezTo>
                  <a:pt x="5473" y="11932"/>
                  <a:pt x="5507" y="11993"/>
                  <a:pt x="5531" y="12055"/>
                </a:cubicBezTo>
                <a:cubicBezTo>
                  <a:pt x="5583" y="12188"/>
                  <a:pt x="5636" y="12360"/>
                  <a:pt x="5655" y="12502"/>
                </a:cubicBezTo>
                <a:cubicBezTo>
                  <a:pt x="5666" y="12590"/>
                  <a:pt x="5679" y="12746"/>
                  <a:pt x="5631" y="12824"/>
                </a:cubicBezTo>
                <a:cubicBezTo>
                  <a:pt x="5612" y="12855"/>
                  <a:pt x="5566" y="12958"/>
                  <a:pt x="5531" y="12898"/>
                </a:cubicBezTo>
                <a:cubicBezTo>
                  <a:pt x="5531" y="12890"/>
                  <a:pt x="5531" y="12882"/>
                  <a:pt x="5531" y="12874"/>
                </a:cubicBezTo>
              </a:path>
              <a:path w="6054" h="1688">
                <a:moveTo>
                  <a:pt x="5904" y="12526"/>
                </a:moveTo>
                <a:cubicBezTo>
                  <a:pt x="5987" y="12534"/>
                  <a:pt x="6050" y="12547"/>
                  <a:pt x="6127" y="12576"/>
                </a:cubicBezTo>
              </a:path>
              <a:path w="6054" h="1688">
                <a:moveTo>
                  <a:pt x="6524" y="12105"/>
                </a:moveTo>
                <a:cubicBezTo>
                  <a:pt x="6524" y="12178"/>
                  <a:pt x="6502" y="12233"/>
                  <a:pt x="6499" y="12303"/>
                </a:cubicBezTo>
                <a:cubicBezTo>
                  <a:pt x="6490" y="12508"/>
                  <a:pt x="6435" y="12895"/>
                  <a:pt x="6524" y="13072"/>
                </a:cubicBezTo>
              </a:path>
              <a:path w="6054" h="1688">
                <a:moveTo>
                  <a:pt x="6896" y="12576"/>
                </a:moveTo>
                <a:cubicBezTo>
                  <a:pt x="6962" y="12559"/>
                  <a:pt x="7000" y="12551"/>
                  <a:pt x="7069" y="12551"/>
                </a:cubicBezTo>
              </a:path>
              <a:path w="6054" h="1688">
                <a:moveTo>
                  <a:pt x="7020" y="12725"/>
                </a:moveTo>
                <a:cubicBezTo>
                  <a:pt x="7092" y="12743"/>
                  <a:pt x="7143" y="12750"/>
                  <a:pt x="7218" y="12750"/>
                </a:cubicBezTo>
              </a:path>
              <a:path w="6054" h="1688">
                <a:moveTo>
                  <a:pt x="7665" y="12179"/>
                </a:moveTo>
                <a:cubicBezTo>
                  <a:pt x="7621" y="12229"/>
                  <a:pt x="7588" y="12281"/>
                  <a:pt x="7541" y="12328"/>
                </a:cubicBezTo>
                <a:cubicBezTo>
                  <a:pt x="7492" y="12377"/>
                  <a:pt x="7471" y="12421"/>
                  <a:pt x="7516" y="12477"/>
                </a:cubicBezTo>
                <a:cubicBezTo>
                  <a:pt x="7563" y="12536"/>
                  <a:pt x="7605" y="12513"/>
                  <a:pt x="7665" y="12551"/>
                </a:cubicBezTo>
                <a:cubicBezTo>
                  <a:pt x="7713" y="12581"/>
                  <a:pt x="7776" y="12599"/>
                  <a:pt x="7838" y="12601"/>
                </a:cubicBezTo>
                <a:cubicBezTo>
                  <a:pt x="7921" y="12601"/>
                  <a:pt x="7937" y="12601"/>
                  <a:pt x="7987" y="12601"/>
                </a:cubicBezTo>
              </a:path>
              <a:path w="6054" h="1688">
                <a:moveTo>
                  <a:pt x="8062" y="11981"/>
                </a:moveTo>
                <a:cubicBezTo>
                  <a:pt x="8052" y="12047"/>
                  <a:pt x="8028" y="12110"/>
                  <a:pt x="8012" y="12179"/>
                </a:cubicBezTo>
                <a:cubicBezTo>
                  <a:pt x="7986" y="12290"/>
                  <a:pt x="7987" y="12387"/>
                  <a:pt x="7987" y="12502"/>
                </a:cubicBezTo>
                <a:cubicBezTo>
                  <a:pt x="7987" y="12655"/>
                  <a:pt x="7997" y="12798"/>
                  <a:pt x="8012" y="12948"/>
                </a:cubicBezTo>
                <a:cubicBezTo>
                  <a:pt x="8025" y="13077"/>
                  <a:pt x="8012" y="13215"/>
                  <a:pt x="8012" y="13345"/>
                </a:cubicBezTo>
              </a:path>
              <a:path w="6054" h="1688">
                <a:moveTo>
                  <a:pt x="6201" y="12055"/>
                </a:moveTo>
                <a:cubicBezTo>
                  <a:pt x="6258" y="12055"/>
                  <a:pt x="6328" y="12054"/>
                  <a:pt x="6375" y="12030"/>
                </a:cubicBezTo>
                <a:cubicBezTo>
                  <a:pt x="6428" y="12004"/>
                  <a:pt x="6483" y="11985"/>
                  <a:pt x="6548" y="11981"/>
                </a:cubicBezTo>
                <a:cubicBezTo>
                  <a:pt x="6584" y="11979"/>
                  <a:pt x="6685" y="12011"/>
                  <a:pt x="6697" y="12055"/>
                </a:cubicBezTo>
                <a:cubicBezTo>
                  <a:pt x="6721" y="12145"/>
                  <a:pt x="6685" y="12246"/>
                  <a:pt x="6672" y="12328"/>
                </a:cubicBezTo>
                <a:cubicBezTo>
                  <a:pt x="6662" y="12393"/>
                  <a:pt x="6640" y="12459"/>
                  <a:pt x="6623" y="12526"/>
                </a:cubicBezTo>
                <a:cubicBezTo>
                  <a:pt x="6605" y="12596"/>
                  <a:pt x="6567" y="12668"/>
                  <a:pt x="6524" y="12725"/>
                </a:cubicBezTo>
                <a:cubicBezTo>
                  <a:pt x="6459" y="12813"/>
                  <a:pt x="6427" y="12706"/>
                  <a:pt x="6424" y="12650"/>
                </a:cubicBezTo>
                <a:cubicBezTo>
                  <a:pt x="6424" y="12606"/>
                  <a:pt x="6421" y="12592"/>
                  <a:pt x="6449" y="12576"/>
                </a:cubicBezTo>
                <a:cubicBezTo>
                  <a:pt x="6487" y="12614"/>
                  <a:pt x="6521" y="12655"/>
                  <a:pt x="6548" y="12700"/>
                </a:cubicBezTo>
                <a:cubicBezTo>
                  <a:pt x="6590" y="12771"/>
                  <a:pt x="6640" y="12837"/>
                  <a:pt x="6697" y="12898"/>
                </a:cubicBezTo>
                <a:cubicBezTo>
                  <a:pt x="6731" y="12934"/>
                  <a:pt x="6881" y="13134"/>
                  <a:pt x="6945" y="13097"/>
                </a:cubicBezTo>
                <a:cubicBezTo>
                  <a:pt x="6945" y="13089"/>
                  <a:pt x="6945" y="13080"/>
                  <a:pt x="6945" y="13072"/>
                </a:cubicBezTo>
              </a:path>
              <a:path w="6054" h="1688">
                <a:moveTo>
                  <a:pt x="6499" y="12055"/>
                </a:moveTo>
                <a:cubicBezTo>
                  <a:pt x="6491" y="12047"/>
                  <a:pt x="6482" y="12038"/>
                  <a:pt x="6474" y="12030"/>
                </a:cubicBezTo>
                <a:cubicBezTo>
                  <a:pt x="6489" y="12103"/>
                  <a:pt x="6515" y="12057"/>
                  <a:pt x="6573" y="12005"/>
                </a:cubicBezTo>
                <a:cubicBezTo>
                  <a:pt x="6625" y="11959"/>
                  <a:pt x="6665" y="11936"/>
                  <a:pt x="6722" y="11981"/>
                </a:cubicBezTo>
                <a:cubicBezTo>
                  <a:pt x="6765" y="12015"/>
                  <a:pt x="6782" y="12151"/>
                  <a:pt x="6772" y="12204"/>
                </a:cubicBezTo>
                <a:cubicBezTo>
                  <a:pt x="6760" y="12270"/>
                  <a:pt x="6738" y="12371"/>
                  <a:pt x="6697" y="12427"/>
                </a:cubicBezTo>
                <a:cubicBezTo>
                  <a:pt x="6648" y="12494"/>
                  <a:pt x="6607" y="12551"/>
                  <a:pt x="6548" y="12601"/>
                </a:cubicBezTo>
                <a:cubicBezTo>
                  <a:pt x="6496" y="12645"/>
                  <a:pt x="6458" y="12672"/>
                  <a:pt x="6400" y="12626"/>
                </a:cubicBezTo>
                <a:cubicBezTo>
                  <a:pt x="6365" y="12598"/>
                  <a:pt x="6354" y="12481"/>
                  <a:pt x="6400" y="12452"/>
                </a:cubicBezTo>
                <a:cubicBezTo>
                  <a:pt x="6453" y="12419"/>
                  <a:pt x="6500" y="12440"/>
                  <a:pt x="6548" y="12477"/>
                </a:cubicBezTo>
                <a:cubicBezTo>
                  <a:pt x="6588" y="12507"/>
                  <a:pt x="6634" y="12545"/>
                  <a:pt x="6672" y="12576"/>
                </a:cubicBezTo>
                <a:cubicBezTo>
                  <a:pt x="6736" y="12629"/>
                  <a:pt x="6784" y="12692"/>
                  <a:pt x="6846" y="12750"/>
                </a:cubicBezTo>
                <a:cubicBezTo>
                  <a:pt x="6920" y="12820"/>
                  <a:pt x="6988" y="12863"/>
                  <a:pt x="7069" y="12923"/>
                </a:cubicBezTo>
                <a:cubicBezTo>
                  <a:pt x="7099" y="12953"/>
                  <a:pt x="7113" y="12964"/>
                  <a:pt x="7144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8"/>
          <p:cNvSpPr/>
          <p:nvPr/>
        </p:nvSpPr>
        <p:spPr>
          <a:xfrm>
            <a:off x="3741840" y="4384800"/>
            <a:ext cx="1812960" cy="723600"/>
          </a:xfrm>
          <a:custGeom>
            <a:avLst/>
            <a:gdLst/>
            <a:ahLst/>
            <a:rect l="l" t="t" r="r" b="b"/>
            <a:pathLst>
              <a:path w="5037" h="2010">
                <a:moveTo>
                  <a:pt x="10567" y="12725"/>
                </a:moveTo>
                <a:cubicBezTo>
                  <a:pt x="10532" y="12783"/>
                  <a:pt x="10532" y="12853"/>
                  <a:pt x="10517" y="12923"/>
                </a:cubicBezTo>
                <a:cubicBezTo>
                  <a:pt x="10491" y="13046"/>
                  <a:pt x="10492" y="13173"/>
                  <a:pt x="10468" y="13295"/>
                </a:cubicBezTo>
                <a:cubicBezTo>
                  <a:pt x="10450" y="13386"/>
                  <a:pt x="10423" y="13475"/>
                  <a:pt x="10418" y="13568"/>
                </a:cubicBezTo>
                <a:cubicBezTo>
                  <a:pt x="10418" y="13585"/>
                  <a:pt x="10418" y="13601"/>
                  <a:pt x="10418" y="13618"/>
                </a:cubicBezTo>
                <a:cubicBezTo>
                  <a:pt x="10397" y="13534"/>
                  <a:pt x="10420" y="13463"/>
                  <a:pt x="10443" y="13370"/>
                </a:cubicBezTo>
                <a:cubicBezTo>
                  <a:pt x="10474" y="13246"/>
                  <a:pt x="10511" y="13123"/>
                  <a:pt x="10542" y="12998"/>
                </a:cubicBezTo>
                <a:cubicBezTo>
                  <a:pt x="10575" y="12867"/>
                  <a:pt x="10600" y="12725"/>
                  <a:pt x="10641" y="12601"/>
                </a:cubicBezTo>
                <a:cubicBezTo>
                  <a:pt x="10667" y="12524"/>
                  <a:pt x="10702" y="12471"/>
                  <a:pt x="10740" y="12402"/>
                </a:cubicBezTo>
                <a:cubicBezTo>
                  <a:pt x="10788" y="12462"/>
                  <a:pt x="10797" y="12506"/>
                  <a:pt x="10815" y="12576"/>
                </a:cubicBezTo>
                <a:cubicBezTo>
                  <a:pt x="10840" y="12670"/>
                  <a:pt x="10875" y="12777"/>
                  <a:pt x="10889" y="12874"/>
                </a:cubicBezTo>
                <a:cubicBezTo>
                  <a:pt x="10905" y="12983"/>
                  <a:pt x="10948" y="13089"/>
                  <a:pt x="10964" y="13196"/>
                </a:cubicBezTo>
                <a:cubicBezTo>
                  <a:pt x="10978" y="13293"/>
                  <a:pt x="11018" y="13354"/>
                  <a:pt x="11063" y="13444"/>
                </a:cubicBezTo>
                <a:cubicBezTo>
                  <a:pt x="11071" y="13461"/>
                  <a:pt x="11080" y="13477"/>
                  <a:pt x="11088" y="13494"/>
                </a:cubicBezTo>
              </a:path>
              <a:path w="5037" h="2010">
                <a:moveTo>
                  <a:pt x="10641" y="13171"/>
                </a:moveTo>
                <a:cubicBezTo>
                  <a:pt x="10720" y="13171"/>
                  <a:pt x="10787" y="13193"/>
                  <a:pt x="10864" y="13196"/>
                </a:cubicBezTo>
                <a:cubicBezTo>
                  <a:pt x="10889" y="13196"/>
                  <a:pt x="10914" y="13196"/>
                  <a:pt x="10939" y="13196"/>
                </a:cubicBezTo>
              </a:path>
              <a:path w="5037" h="2010">
                <a:moveTo>
                  <a:pt x="11311" y="13246"/>
                </a:moveTo>
                <a:cubicBezTo>
                  <a:pt x="11352" y="13194"/>
                  <a:pt x="11377" y="13127"/>
                  <a:pt x="11460" y="13146"/>
                </a:cubicBezTo>
                <a:cubicBezTo>
                  <a:pt x="11528" y="13161"/>
                  <a:pt x="11572" y="13233"/>
                  <a:pt x="11584" y="13295"/>
                </a:cubicBezTo>
                <a:cubicBezTo>
                  <a:pt x="11602" y="13383"/>
                  <a:pt x="11551" y="13440"/>
                  <a:pt x="11534" y="13519"/>
                </a:cubicBezTo>
                <a:cubicBezTo>
                  <a:pt x="11522" y="13575"/>
                  <a:pt x="11489" y="13654"/>
                  <a:pt x="11435" y="13692"/>
                </a:cubicBezTo>
                <a:cubicBezTo>
                  <a:pt x="11382" y="13730"/>
                  <a:pt x="11323" y="13717"/>
                  <a:pt x="11261" y="13717"/>
                </a:cubicBezTo>
                <a:cubicBezTo>
                  <a:pt x="11261" y="13675"/>
                  <a:pt x="11255" y="13609"/>
                  <a:pt x="11311" y="13593"/>
                </a:cubicBezTo>
                <a:cubicBezTo>
                  <a:pt x="11380" y="13573"/>
                  <a:pt x="11422" y="13639"/>
                  <a:pt x="11460" y="13667"/>
                </a:cubicBezTo>
                <a:cubicBezTo>
                  <a:pt x="11508" y="13702"/>
                  <a:pt x="11555" y="13775"/>
                  <a:pt x="11609" y="13791"/>
                </a:cubicBezTo>
                <a:cubicBezTo>
                  <a:pt x="11650" y="13791"/>
                  <a:pt x="11658" y="13791"/>
                  <a:pt x="11683" y="13791"/>
                </a:cubicBezTo>
              </a:path>
              <a:path w="5037" h="2010">
                <a:moveTo>
                  <a:pt x="11881" y="13022"/>
                </a:moveTo>
                <a:cubicBezTo>
                  <a:pt x="12025" y="13022"/>
                  <a:pt x="12052" y="13060"/>
                  <a:pt x="12105" y="12998"/>
                </a:cubicBezTo>
              </a:path>
              <a:path w="5037" h="2010">
                <a:moveTo>
                  <a:pt x="11931" y="13097"/>
                </a:moveTo>
                <a:cubicBezTo>
                  <a:pt x="11994" y="13120"/>
                  <a:pt x="12083" y="13171"/>
                  <a:pt x="12154" y="13146"/>
                </a:cubicBezTo>
                <a:cubicBezTo>
                  <a:pt x="12187" y="13130"/>
                  <a:pt x="12221" y="13113"/>
                  <a:pt x="12254" y="13097"/>
                </a:cubicBezTo>
              </a:path>
              <a:path w="5037" h="2010">
                <a:moveTo>
                  <a:pt x="12675" y="12179"/>
                </a:moveTo>
                <a:cubicBezTo>
                  <a:pt x="12711" y="12239"/>
                  <a:pt x="12700" y="12304"/>
                  <a:pt x="12700" y="12378"/>
                </a:cubicBezTo>
                <a:cubicBezTo>
                  <a:pt x="12700" y="12476"/>
                  <a:pt x="12712" y="12556"/>
                  <a:pt x="12725" y="12650"/>
                </a:cubicBezTo>
                <a:cubicBezTo>
                  <a:pt x="12735" y="12721"/>
                  <a:pt x="12725" y="12803"/>
                  <a:pt x="12725" y="12874"/>
                </a:cubicBezTo>
              </a:path>
              <a:path w="5037" h="2010">
                <a:moveTo>
                  <a:pt x="12601" y="12849"/>
                </a:moveTo>
                <a:cubicBezTo>
                  <a:pt x="12696" y="12825"/>
                  <a:pt x="12775" y="12824"/>
                  <a:pt x="12874" y="12824"/>
                </a:cubicBezTo>
                <a:cubicBezTo>
                  <a:pt x="12933" y="12824"/>
                  <a:pt x="12959" y="12821"/>
                  <a:pt x="12998" y="12799"/>
                </a:cubicBezTo>
              </a:path>
              <a:path w="5037" h="2010">
                <a:moveTo>
                  <a:pt x="12824" y="13196"/>
                </a:moveTo>
                <a:cubicBezTo>
                  <a:pt x="12873" y="13176"/>
                  <a:pt x="12900" y="13120"/>
                  <a:pt x="12948" y="13097"/>
                </a:cubicBezTo>
                <a:cubicBezTo>
                  <a:pt x="13010" y="13067"/>
                  <a:pt x="13057" y="13072"/>
                  <a:pt x="13122" y="13072"/>
                </a:cubicBezTo>
                <a:cubicBezTo>
                  <a:pt x="13130" y="13159"/>
                  <a:pt x="13143" y="13205"/>
                  <a:pt x="13122" y="13295"/>
                </a:cubicBezTo>
                <a:cubicBezTo>
                  <a:pt x="13103" y="13379"/>
                  <a:pt x="13058" y="13466"/>
                  <a:pt x="13022" y="13543"/>
                </a:cubicBezTo>
                <a:cubicBezTo>
                  <a:pt x="12986" y="13621"/>
                  <a:pt x="12937" y="13644"/>
                  <a:pt x="12874" y="13692"/>
                </a:cubicBezTo>
                <a:cubicBezTo>
                  <a:pt x="12810" y="13741"/>
                  <a:pt x="12779" y="13719"/>
                  <a:pt x="12774" y="13643"/>
                </a:cubicBezTo>
                <a:cubicBezTo>
                  <a:pt x="12774" y="13598"/>
                  <a:pt x="12771" y="13585"/>
                  <a:pt x="12799" y="13568"/>
                </a:cubicBezTo>
                <a:cubicBezTo>
                  <a:pt x="12850" y="13597"/>
                  <a:pt x="12904" y="13627"/>
                  <a:pt x="12948" y="13667"/>
                </a:cubicBezTo>
                <a:cubicBezTo>
                  <a:pt x="13012" y="13726"/>
                  <a:pt x="12994" y="13731"/>
                  <a:pt x="13072" y="13742"/>
                </a:cubicBezTo>
              </a:path>
              <a:path w="5037" h="2010">
                <a:moveTo>
                  <a:pt x="12650" y="12179"/>
                </a:moveTo>
                <a:cubicBezTo>
                  <a:pt x="12604" y="12322"/>
                  <a:pt x="12555" y="12449"/>
                  <a:pt x="12551" y="12601"/>
                </a:cubicBezTo>
                <a:cubicBezTo>
                  <a:pt x="12546" y="12784"/>
                  <a:pt x="12540" y="12967"/>
                  <a:pt x="12576" y="13146"/>
                </a:cubicBezTo>
                <a:cubicBezTo>
                  <a:pt x="12614" y="13336"/>
                  <a:pt x="12655" y="13521"/>
                  <a:pt x="12750" y="13692"/>
                </a:cubicBezTo>
                <a:cubicBezTo>
                  <a:pt x="12799" y="13767"/>
                  <a:pt x="12815" y="13792"/>
                  <a:pt x="12849" y="13841"/>
                </a:cubicBezTo>
              </a:path>
              <a:path w="5037" h="2010">
                <a:moveTo>
                  <a:pt x="13271" y="12378"/>
                </a:moveTo>
                <a:cubicBezTo>
                  <a:pt x="13392" y="12390"/>
                  <a:pt x="13385" y="12431"/>
                  <a:pt x="13419" y="12551"/>
                </a:cubicBezTo>
                <a:cubicBezTo>
                  <a:pt x="13462" y="12704"/>
                  <a:pt x="13491" y="12865"/>
                  <a:pt x="13519" y="13022"/>
                </a:cubicBezTo>
                <a:cubicBezTo>
                  <a:pt x="13548" y="13185"/>
                  <a:pt x="13563" y="13377"/>
                  <a:pt x="13543" y="13543"/>
                </a:cubicBezTo>
                <a:cubicBezTo>
                  <a:pt x="13526" y="13683"/>
                  <a:pt x="13495" y="13835"/>
                  <a:pt x="13444" y="13965"/>
                </a:cubicBezTo>
                <a:cubicBezTo>
                  <a:pt x="13427" y="14007"/>
                  <a:pt x="13423" y="14004"/>
                  <a:pt x="13395" y="14039"/>
                </a:cubicBezTo>
              </a:path>
              <a:path w="5037" h="2010">
                <a:moveTo>
                  <a:pt x="13767" y="12179"/>
                </a:moveTo>
                <a:cubicBezTo>
                  <a:pt x="13767" y="12229"/>
                  <a:pt x="13767" y="12278"/>
                  <a:pt x="13767" y="12328"/>
                </a:cubicBezTo>
                <a:cubicBezTo>
                  <a:pt x="13813" y="12269"/>
                  <a:pt x="13812" y="12233"/>
                  <a:pt x="13891" y="12229"/>
                </a:cubicBezTo>
                <a:cubicBezTo>
                  <a:pt x="13978" y="12225"/>
                  <a:pt x="14010" y="12244"/>
                  <a:pt x="14015" y="12328"/>
                </a:cubicBezTo>
                <a:cubicBezTo>
                  <a:pt x="14019" y="12403"/>
                  <a:pt x="13976" y="12443"/>
                  <a:pt x="13940" y="12502"/>
                </a:cubicBezTo>
                <a:cubicBezTo>
                  <a:pt x="13915" y="12551"/>
                  <a:pt x="13907" y="12567"/>
                  <a:pt x="13866" y="12576"/>
                </a:cubicBezTo>
                <a:cubicBezTo>
                  <a:pt x="13929" y="12538"/>
                  <a:pt x="13966" y="12567"/>
                  <a:pt x="14039" y="12576"/>
                </a:cubicBezTo>
              </a:path>
              <a:path w="5037" h="2010">
                <a:moveTo>
                  <a:pt x="14163" y="12998"/>
                </a:moveTo>
                <a:cubicBezTo>
                  <a:pt x="14262" y="13040"/>
                  <a:pt x="14287" y="13047"/>
                  <a:pt x="14387" y="13047"/>
                </a:cubicBezTo>
              </a:path>
              <a:path w="5037" h="2010">
                <a:moveTo>
                  <a:pt x="14238" y="13097"/>
                </a:moveTo>
                <a:cubicBezTo>
                  <a:pt x="14368" y="13120"/>
                  <a:pt x="14371" y="13129"/>
                  <a:pt x="14486" y="13097"/>
                </a:cubicBezTo>
              </a:path>
              <a:path w="5037" h="2010">
                <a:moveTo>
                  <a:pt x="14982" y="12353"/>
                </a:moveTo>
                <a:cubicBezTo>
                  <a:pt x="14982" y="12482"/>
                  <a:pt x="14993" y="12600"/>
                  <a:pt x="15007" y="12725"/>
                </a:cubicBezTo>
                <a:cubicBezTo>
                  <a:pt x="15018" y="12819"/>
                  <a:pt x="15035" y="12903"/>
                  <a:pt x="15056" y="12998"/>
                </a:cubicBezTo>
              </a:path>
              <a:path w="5037" h="2010">
                <a:moveTo>
                  <a:pt x="14883" y="13146"/>
                </a:moveTo>
                <a:cubicBezTo>
                  <a:pt x="14976" y="13121"/>
                  <a:pt x="15084" y="13100"/>
                  <a:pt x="15180" y="13097"/>
                </a:cubicBezTo>
                <a:cubicBezTo>
                  <a:pt x="15281" y="13097"/>
                  <a:pt x="15302" y="13107"/>
                  <a:pt x="15354" y="13072"/>
                </a:cubicBezTo>
              </a:path>
              <a:path w="5037" h="2010">
                <a:moveTo>
                  <a:pt x="15180" y="13271"/>
                </a:moveTo>
                <a:cubicBezTo>
                  <a:pt x="15133" y="13339"/>
                  <a:pt x="15063" y="13388"/>
                  <a:pt x="15106" y="13469"/>
                </a:cubicBezTo>
                <a:cubicBezTo>
                  <a:pt x="15141" y="13533"/>
                  <a:pt x="15201" y="13549"/>
                  <a:pt x="15255" y="13568"/>
                </a:cubicBezTo>
                <a:cubicBezTo>
                  <a:pt x="15314" y="13589"/>
                  <a:pt x="15342" y="13610"/>
                  <a:pt x="15404" y="13618"/>
                </a:cubicBezTo>
              </a:path>
              <a:path w="5037" h="2010">
                <a:moveTo>
                  <a:pt x="15429" y="13246"/>
                </a:moveTo>
                <a:cubicBezTo>
                  <a:pt x="15389" y="13425"/>
                  <a:pt x="15400" y="13558"/>
                  <a:pt x="15404" y="13742"/>
                </a:cubicBezTo>
                <a:cubicBezTo>
                  <a:pt x="15408" y="13892"/>
                  <a:pt x="15429" y="14036"/>
                  <a:pt x="15429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9"/>
          <p:cNvSpPr/>
          <p:nvPr/>
        </p:nvSpPr>
        <p:spPr>
          <a:xfrm>
            <a:off x="669960" y="4680000"/>
            <a:ext cx="598320" cy="544320"/>
          </a:xfrm>
          <a:custGeom>
            <a:avLst/>
            <a:gdLst/>
            <a:ahLst/>
            <a:rect l="l" t="t" r="r" b="b"/>
            <a:pathLst>
              <a:path w="1663" h="1514">
                <a:moveTo>
                  <a:pt x="1960" y="13791"/>
                </a:moveTo>
                <a:cubicBezTo>
                  <a:pt x="1928" y="13854"/>
                  <a:pt x="1896" y="13922"/>
                  <a:pt x="1885" y="13990"/>
                </a:cubicBezTo>
                <a:cubicBezTo>
                  <a:pt x="1885" y="14034"/>
                  <a:pt x="1888" y="14048"/>
                  <a:pt x="1860" y="14064"/>
                </a:cubicBezTo>
                <a:cubicBezTo>
                  <a:pt x="1897" y="13991"/>
                  <a:pt x="1932" y="13917"/>
                  <a:pt x="1960" y="13841"/>
                </a:cubicBezTo>
                <a:cubicBezTo>
                  <a:pt x="2008" y="13712"/>
                  <a:pt x="2041" y="13575"/>
                  <a:pt x="2084" y="13444"/>
                </a:cubicBezTo>
                <a:cubicBezTo>
                  <a:pt x="2115" y="13349"/>
                  <a:pt x="2117" y="13265"/>
                  <a:pt x="2158" y="13171"/>
                </a:cubicBezTo>
                <a:cubicBezTo>
                  <a:pt x="2187" y="13105"/>
                  <a:pt x="2196" y="13062"/>
                  <a:pt x="2232" y="12998"/>
                </a:cubicBezTo>
                <a:cubicBezTo>
                  <a:pt x="2239" y="13085"/>
                  <a:pt x="2240" y="13185"/>
                  <a:pt x="2257" y="13271"/>
                </a:cubicBezTo>
                <a:cubicBezTo>
                  <a:pt x="2283" y="13405"/>
                  <a:pt x="2291" y="13533"/>
                  <a:pt x="2332" y="13667"/>
                </a:cubicBezTo>
                <a:cubicBezTo>
                  <a:pt x="2366" y="13776"/>
                  <a:pt x="2432" y="13904"/>
                  <a:pt x="2456" y="14015"/>
                </a:cubicBezTo>
                <a:cubicBezTo>
                  <a:pt x="2468" y="14069"/>
                  <a:pt x="2489" y="14111"/>
                  <a:pt x="2505" y="14139"/>
                </a:cubicBezTo>
              </a:path>
              <a:path w="1663" h="1514">
                <a:moveTo>
                  <a:pt x="2133" y="13791"/>
                </a:moveTo>
                <a:cubicBezTo>
                  <a:pt x="2200" y="13818"/>
                  <a:pt x="2262" y="13854"/>
                  <a:pt x="2332" y="13866"/>
                </a:cubicBezTo>
                <a:cubicBezTo>
                  <a:pt x="2348" y="13866"/>
                  <a:pt x="2365" y="13866"/>
                  <a:pt x="2381" y="13866"/>
                </a:cubicBezTo>
              </a:path>
              <a:path w="1663" h="1514">
                <a:moveTo>
                  <a:pt x="2654" y="13816"/>
                </a:moveTo>
                <a:cubicBezTo>
                  <a:pt x="2744" y="13842"/>
                  <a:pt x="2789" y="13851"/>
                  <a:pt x="2853" y="13915"/>
                </a:cubicBezTo>
                <a:cubicBezTo>
                  <a:pt x="2900" y="13962"/>
                  <a:pt x="2941" y="13973"/>
                  <a:pt x="2902" y="14039"/>
                </a:cubicBezTo>
                <a:cubicBezTo>
                  <a:pt x="2869" y="14095"/>
                  <a:pt x="2819" y="14054"/>
                  <a:pt x="2778" y="14039"/>
                </a:cubicBezTo>
                <a:cubicBezTo>
                  <a:pt x="2834" y="14095"/>
                  <a:pt x="2890" y="14143"/>
                  <a:pt x="2927" y="14213"/>
                </a:cubicBezTo>
                <a:cubicBezTo>
                  <a:pt x="2962" y="14278"/>
                  <a:pt x="2997" y="14310"/>
                  <a:pt x="3001" y="14387"/>
                </a:cubicBezTo>
                <a:cubicBezTo>
                  <a:pt x="3006" y="14477"/>
                  <a:pt x="2949" y="14535"/>
                  <a:pt x="2853" y="14511"/>
                </a:cubicBezTo>
                <a:cubicBezTo>
                  <a:pt x="2748" y="14485"/>
                  <a:pt x="2737" y="14434"/>
                  <a:pt x="2729" y="14337"/>
                </a:cubicBezTo>
              </a:path>
              <a:path w="1663" h="1514">
                <a:moveTo>
                  <a:pt x="3299" y="13791"/>
                </a:moveTo>
                <a:cubicBezTo>
                  <a:pt x="3369" y="13791"/>
                  <a:pt x="3395" y="13784"/>
                  <a:pt x="3448" y="13816"/>
                </a:cubicBezTo>
              </a:path>
              <a:path w="1663" h="1514">
                <a:moveTo>
                  <a:pt x="3299" y="13891"/>
                </a:moveTo>
                <a:cubicBezTo>
                  <a:pt x="3335" y="13926"/>
                  <a:pt x="3379" y="13956"/>
                  <a:pt x="3423" y="13965"/>
                </a:cubicBezTo>
                <a:cubicBezTo>
                  <a:pt x="3475" y="13965"/>
                  <a:pt x="3493" y="13964"/>
                  <a:pt x="3522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0"/>
          <p:cNvSpPr/>
          <p:nvPr/>
        </p:nvSpPr>
        <p:spPr>
          <a:xfrm>
            <a:off x="1411200" y="4776840"/>
            <a:ext cx="1571760" cy="482400"/>
          </a:xfrm>
          <a:custGeom>
            <a:avLst/>
            <a:gdLst/>
            <a:ahLst/>
            <a:rect l="l" t="t" r="r" b="b"/>
            <a:pathLst>
              <a:path w="4367" h="1340">
                <a:moveTo>
                  <a:pt x="3969" y="13395"/>
                </a:moveTo>
                <a:cubicBezTo>
                  <a:pt x="4088" y="13365"/>
                  <a:pt x="4116" y="13353"/>
                  <a:pt x="4192" y="13444"/>
                </a:cubicBezTo>
                <a:cubicBezTo>
                  <a:pt x="4242" y="13503"/>
                  <a:pt x="4261" y="13546"/>
                  <a:pt x="4217" y="13618"/>
                </a:cubicBezTo>
                <a:cubicBezTo>
                  <a:pt x="4190" y="13662"/>
                  <a:pt x="4135" y="13693"/>
                  <a:pt x="4093" y="13717"/>
                </a:cubicBezTo>
                <a:cubicBezTo>
                  <a:pt x="4157" y="13726"/>
                  <a:pt x="4202" y="13755"/>
                  <a:pt x="4242" y="13816"/>
                </a:cubicBezTo>
                <a:cubicBezTo>
                  <a:pt x="4286" y="13883"/>
                  <a:pt x="4291" y="13937"/>
                  <a:pt x="4291" y="14015"/>
                </a:cubicBezTo>
                <a:cubicBezTo>
                  <a:pt x="4291" y="14079"/>
                  <a:pt x="4260" y="14145"/>
                  <a:pt x="4192" y="14163"/>
                </a:cubicBezTo>
                <a:cubicBezTo>
                  <a:pt x="4118" y="14182"/>
                  <a:pt x="4048" y="14163"/>
                  <a:pt x="3994" y="14114"/>
                </a:cubicBezTo>
                <a:cubicBezTo>
                  <a:pt x="3952" y="14076"/>
                  <a:pt x="3930" y="14045"/>
                  <a:pt x="3919" y="13990"/>
                </a:cubicBezTo>
              </a:path>
              <a:path w="4367" h="1340">
                <a:moveTo>
                  <a:pt x="4638" y="13395"/>
                </a:moveTo>
                <a:cubicBezTo>
                  <a:pt x="4616" y="13487"/>
                  <a:pt x="4593" y="13573"/>
                  <a:pt x="4589" y="13667"/>
                </a:cubicBezTo>
                <a:cubicBezTo>
                  <a:pt x="4584" y="13765"/>
                  <a:pt x="4579" y="13903"/>
                  <a:pt x="4614" y="13990"/>
                </a:cubicBezTo>
                <a:cubicBezTo>
                  <a:pt x="4647" y="14073"/>
                  <a:pt x="4676" y="14113"/>
                  <a:pt x="4738" y="14139"/>
                </a:cubicBezTo>
              </a:path>
              <a:path w="4367" h="1340">
                <a:moveTo>
                  <a:pt x="4862" y="13494"/>
                </a:moveTo>
                <a:cubicBezTo>
                  <a:pt x="4946" y="13445"/>
                  <a:pt x="4948" y="13444"/>
                  <a:pt x="5035" y="13494"/>
                </a:cubicBezTo>
                <a:cubicBezTo>
                  <a:pt x="5107" y="13535"/>
                  <a:pt x="5146" y="13562"/>
                  <a:pt x="5110" y="13643"/>
                </a:cubicBezTo>
                <a:cubicBezTo>
                  <a:pt x="5072" y="13729"/>
                  <a:pt x="5024" y="13732"/>
                  <a:pt x="4936" y="13742"/>
                </a:cubicBezTo>
                <a:cubicBezTo>
                  <a:pt x="5001" y="13781"/>
                  <a:pt x="5066" y="13764"/>
                  <a:pt x="5135" y="13816"/>
                </a:cubicBezTo>
                <a:cubicBezTo>
                  <a:pt x="5189" y="13857"/>
                  <a:pt x="5222" y="13925"/>
                  <a:pt x="5234" y="13990"/>
                </a:cubicBezTo>
                <a:cubicBezTo>
                  <a:pt x="5250" y="14075"/>
                  <a:pt x="5194" y="14152"/>
                  <a:pt x="5110" y="14139"/>
                </a:cubicBezTo>
                <a:cubicBezTo>
                  <a:pt x="5049" y="14130"/>
                  <a:pt x="5004" y="14107"/>
                  <a:pt x="4961" y="14064"/>
                </a:cubicBezTo>
                <a:cubicBezTo>
                  <a:pt x="4931" y="14034"/>
                  <a:pt x="4920" y="14020"/>
                  <a:pt x="4911" y="13990"/>
                </a:cubicBezTo>
              </a:path>
              <a:path w="4367" h="1340">
                <a:moveTo>
                  <a:pt x="5358" y="13295"/>
                </a:moveTo>
                <a:cubicBezTo>
                  <a:pt x="5418" y="13281"/>
                  <a:pt x="5431" y="13370"/>
                  <a:pt x="5457" y="13444"/>
                </a:cubicBezTo>
                <a:cubicBezTo>
                  <a:pt x="5498" y="13563"/>
                  <a:pt x="5508" y="13671"/>
                  <a:pt x="5531" y="13791"/>
                </a:cubicBezTo>
                <a:cubicBezTo>
                  <a:pt x="5547" y="13874"/>
                  <a:pt x="5579" y="13976"/>
                  <a:pt x="5556" y="14064"/>
                </a:cubicBezTo>
                <a:cubicBezTo>
                  <a:pt x="5540" y="14124"/>
                  <a:pt x="5499" y="14171"/>
                  <a:pt x="5457" y="14213"/>
                </a:cubicBezTo>
                <a:cubicBezTo>
                  <a:pt x="5449" y="14221"/>
                  <a:pt x="5440" y="14230"/>
                  <a:pt x="5432" y="14238"/>
                </a:cubicBezTo>
              </a:path>
              <a:path w="4367" h="1340">
                <a:moveTo>
                  <a:pt x="5804" y="13767"/>
                </a:moveTo>
                <a:cubicBezTo>
                  <a:pt x="5908" y="13785"/>
                  <a:pt x="5998" y="13855"/>
                  <a:pt x="6102" y="13841"/>
                </a:cubicBezTo>
                <a:cubicBezTo>
                  <a:pt x="6119" y="13833"/>
                  <a:pt x="6135" y="13824"/>
                  <a:pt x="6152" y="13816"/>
                </a:cubicBezTo>
              </a:path>
              <a:path w="4367" h="1340">
                <a:moveTo>
                  <a:pt x="6325" y="13469"/>
                </a:moveTo>
                <a:cubicBezTo>
                  <a:pt x="6409" y="13446"/>
                  <a:pt x="6451" y="13430"/>
                  <a:pt x="6524" y="13469"/>
                </a:cubicBezTo>
                <a:cubicBezTo>
                  <a:pt x="6587" y="13503"/>
                  <a:pt x="6663" y="13563"/>
                  <a:pt x="6672" y="13643"/>
                </a:cubicBezTo>
                <a:cubicBezTo>
                  <a:pt x="6688" y="13776"/>
                  <a:pt x="6645" y="13843"/>
                  <a:pt x="6623" y="13965"/>
                </a:cubicBezTo>
                <a:cubicBezTo>
                  <a:pt x="6608" y="14046"/>
                  <a:pt x="6565" y="14094"/>
                  <a:pt x="6524" y="14163"/>
                </a:cubicBezTo>
                <a:cubicBezTo>
                  <a:pt x="6484" y="14231"/>
                  <a:pt x="6441" y="14265"/>
                  <a:pt x="6375" y="14238"/>
                </a:cubicBezTo>
                <a:cubicBezTo>
                  <a:pt x="6384" y="14176"/>
                  <a:pt x="6404" y="14139"/>
                  <a:pt x="6449" y="14089"/>
                </a:cubicBezTo>
                <a:cubicBezTo>
                  <a:pt x="6488" y="14045"/>
                  <a:pt x="6578" y="14067"/>
                  <a:pt x="6623" y="14089"/>
                </a:cubicBezTo>
                <a:cubicBezTo>
                  <a:pt x="6680" y="14118"/>
                  <a:pt x="6719" y="14178"/>
                  <a:pt x="6772" y="14213"/>
                </a:cubicBezTo>
                <a:cubicBezTo>
                  <a:pt x="6833" y="14254"/>
                  <a:pt x="6847" y="14274"/>
                  <a:pt x="6896" y="14263"/>
                </a:cubicBezTo>
                <a:cubicBezTo>
                  <a:pt x="6904" y="14263"/>
                  <a:pt x="6913" y="14263"/>
                  <a:pt x="6921" y="14263"/>
                </a:cubicBezTo>
              </a:path>
              <a:path w="4367" h="1340">
                <a:moveTo>
                  <a:pt x="7045" y="13891"/>
                </a:moveTo>
                <a:cubicBezTo>
                  <a:pt x="7140" y="13867"/>
                  <a:pt x="7219" y="13866"/>
                  <a:pt x="7317" y="13866"/>
                </a:cubicBezTo>
                <a:cubicBezTo>
                  <a:pt x="7325" y="13866"/>
                  <a:pt x="7334" y="13866"/>
                  <a:pt x="7342" y="13866"/>
                </a:cubicBezTo>
              </a:path>
              <a:path w="4367" h="1340">
                <a:moveTo>
                  <a:pt x="7243" y="14039"/>
                </a:moveTo>
                <a:cubicBezTo>
                  <a:pt x="7279" y="14075"/>
                  <a:pt x="7331" y="14159"/>
                  <a:pt x="7392" y="14139"/>
                </a:cubicBezTo>
                <a:cubicBezTo>
                  <a:pt x="7400" y="14131"/>
                  <a:pt x="7409" y="14122"/>
                  <a:pt x="7417" y="14114"/>
                </a:cubicBezTo>
              </a:path>
              <a:path w="4367" h="1340">
                <a:moveTo>
                  <a:pt x="7764" y="13667"/>
                </a:moveTo>
                <a:cubicBezTo>
                  <a:pt x="7764" y="13712"/>
                  <a:pt x="7761" y="13725"/>
                  <a:pt x="7789" y="13742"/>
                </a:cubicBezTo>
                <a:cubicBezTo>
                  <a:pt x="7823" y="13707"/>
                  <a:pt x="7846" y="13683"/>
                  <a:pt x="7863" y="13643"/>
                </a:cubicBezTo>
                <a:cubicBezTo>
                  <a:pt x="7897" y="13564"/>
                  <a:pt x="7919" y="13557"/>
                  <a:pt x="7987" y="13593"/>
                </a:cubicBezTo>
                <a:cubicBezTo>
                  <a:pt x="8031" y="13616"/>
                  <a:pt x="8110" y="13683"/>
                  <a:pt x="8161" y="13667"/>
                </a:cubicBezTo>
                <a:cubicBezTo>
                  <a:pt x="8189" y="13640"/>
                  <a:pt x="8203" y="13632"/>
                  <a:pt x="8235" y="13643"/>
                </a:cubicBezTo>
                <a:cubicBezTo>
                  <a:pt x="8235" y="13906"/>
                  <a:pt x="8218" y="14183"/>
                  <a:pt x="8260" y="14436"/>
                </a:cubicBezTo>
                <a:cubicBezTo>
                  <a:pt x="8270" y="14497"/>
                  <a:pt x="8346" y="14611"/>
                  <a:pt x="8285" y="14610"/>
                </a:cubicBezTo>
                <a:cubicBezTo>
                  <a:pt x="8277" y="14602"/>
                  <a:pt x="8268" y="14593"/>
                  <a:pt x="8260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1"/>
          <p:cNvSpPr/>
          <p:nvPr/>
        </p:nvSpPr>
        <p:spPr>
          <a:xfrm>
            <a:off x="3803760" y="5027760"/>
            <a:ext cx="1331640" cy="615960"/>
          </a:xfrm>
          <a:custGeom>
            <a:avLst/>
            <a:gdLst/>
            <a:ahLst/>
            <a:rect l="l" t="t" r="r" b="b"/>
            <a:pathLst>
              <a:path w="3697" h="1713">
                <a:moveTo>
                  <a:pt x="10864" y="14387"/>
                </a:moveTo>
                <a:cubicBezTo>
                  <a:pt x="10837" y="14537"/>
                  <a:pt x="10819" y="14685"/>
                  <a:pt x="10790" y="14833"/>
                </a:cubicBezTo>
                <a:cubicBezTo>
                  <a:pt x="10762" y="14974"/>
                  <a:pt x="10731" y="15117"/>
                  <a:pt x="10691" y="15255"/>
                </a:cubicBezTo>
                <a:cubicBezTo>
                  <a:pt x="10669" y="15329"/>
                  <a:pt x="10639" y="15394"/>
                  <a:pt x="10592" y="15453"/>
                </a:cubicBezTo>
                <a:cubicBezTo>
                  <a:pt x="10574" y="15353"/>
                  <a:pt x="10590" y="15285"/>
                  <a:pt x="10616" y="15180"/>
                </a:cubicBezTo>
                <a:cubicBezTo>
                  <a:pt x="10652" y="15035"/>
                  <a:pt x="10721" y="14902"/>
                  <a:pt x="10765" y="14759"/>
                </a:cubicBezTo>
                <a:cubicBezTo>
                  <a:pt x="10801" y="14641"/>
                  <a:pt x="10850" y="14530"/>
                  <a:pt x="10889" y="14412"/>
                </a:cubicBezTo>
                <a:cubicBezTo>
                  <a:pt x="10917" y="14328"/>
                  <a:pt x="10932" y="14216"/>
                  <a:pt x="10964" y="14139"/>
                </a:cubicBezTo>
                <a:cubicBezTo>
                  <a:pt x="10992" y="14110"/>
                  <a:pt x="11000" y="14097"/>
                  <a:pt x="10988" y="14064"/>
                </a:cubicBezTo>
                <a:cubicBezTo>
                  <a:pt x="11030" y="14127"/>
                  <a:pt x="11038" y="14192"/>
                  <a:pt x="11063" y="14263"/>
                </a:cubicBezTo>
                <a:cubicBezTo>
                  <a:pt x="11102" y="14374"/>
                  <a:pt x="11117" y="14472"/>
                  <a:pt x="11162" y="14585"/>
                </a:cubicBezTo>
                <a:cubicBezTo>
                  <a:pt x="11202" y="14685"/>
                  <a:pt x="11248" y="14783"/>
                  <a:pt x="11286" y="14883"/>
                </a:cubicBezTo>
                <a:cubicBezTo>
                  <a:pt x="11303" y="14929"/>
                  <a:pt x="11319" y="14968"/>
                  <a:pt x="11336" y="15007"/>
                </a:cubicBezTo>
              </a:path>
              <a:path w="3697" h="1713">
                <a:moveTo>
                  <a:pt x="10889" y="14660"/>
                </a:moveTo>
                <a:cubicBezTo>
                  <a:pt x="10950" y="14719"/>
                  <a:pt x="11030" y="14764"/>
                  <a:pt x="11112" y="14784"/>
                </a:cubicBezTo>
                <a:cubicBezTo>
                  <a:pt x="11129" y="14784"/>
                  <a:pt x="11145" y="14784"/>
                  <a:pt x="11162" y="14784"/>
                </a:cubicBezTo>
              </a:path>
              <a:path w="3697" h="1713">
                <a:moveTo>
                  <a:pt x="11534" y="14932"/>
                </a:moveTo>
                <a:cubicBezTo>
                  <a:pt x="11595" y="14924"/>
                  <a:pt x="11629" y="14889"/>
                  <a:pt x="11683" y="14932"/>
                </a:cubicBezTo>
                <a:cubicBezTo>
                  <a:pt x="11723" y="14964"/>
                  <a:pt x="11724" y="15049"/>
                  <a:pt x="11683" y="15081"/>
                </a:cubicBezTo>
                <a:cubicBezTo>
                  <a:pt x="11641" y="15114"/>
                  <a:pt x="11601" y="15106"/>
                  <a:pt x="11559" y="15131"/>
                </a:cubicBezTo>
                <a:cubicBezTo>
                  <a:pt x="11628" y="15140"/>
                  <a:pt x="11680" y="15156"/>
                  <a:pt x="11733" y="15205"/>
                </a:cubicBezTo>
                <a:cubicBezTo>
                  <a:pt x="11795" y="15262"/>
                  <a:pt x="11797" y="15333"/>
                  <a:pt x="11757" y="15404"/>
                </a:cubicBezTo>
                <a:cubicBezTo>
                  <a:pt x="11721" y="15468"/>
                  <a:pt x="11674" y="15475"/>
                  <a:pt x="11609" y="15478"/>
                </a:cubicBezTo>
                <a:cubicBezTo>
                  <a:pt x="11538" y="15482"/>
                  <a:pt x="11507" y="15451"/>
                  <a:pt x="11460" y="15404"/>
                </a:cubicBezTo>
                <a:cubicBezTo>
                  <a:pt x="11420" y="15364"/>
                  <a:pt x="11412" y="15334"/>
                  <a:pt x="11435" y="15280"/>
                </a:cubicBezTo>
              </a:path>
              <a:path w="3697" h="1713">
                <a:moveTo>
                  <a:pt x="12005" y="14560"/>
                </a:moveTo>
                <a:cubicBezTo>
                  <a:pt x="12078" y="14569"/>
                  <a:pt x="12126" y="14579"/>
                  <a:pt x="12204" y="14585"/>
                </a:cubicBezTo>
              </a:path>
              <a:path w="3697" h="1713">
                <a:moveTo>
                  <a:pt x="12105" y="14808"/>
                </a:moveTo>
                <a:cubicBezTo>
                  <a:pt x="12204" y="14835"/>
                  <a:pt x="12204" y="14835"/>
                  <a:pt x="12303" y="14808"/>
                </a:cubicBezTo>
              </a:path>
              <a:path w="3697" h="1713">
                <a:moveTo>
                  <a:pt x="12774" y="14188"/>
                </a:moveTo>
                <a:cubicBezTo>
                  <a:pt x="12774" y="14278"/>
                  <a:pt x="12763" y="14355"/>
                  <a:pt x="12799" y="14436"/>
                </a:cubicBezTo>
                <a:cubicBezTo>
                  <a:pt x="12821" y="14486"/>
                  <a:pt x="12824" y="14506"/>
                  <a:pt x="12824" y="14560"/>
                </a:cubicBezTo>
              </a:path>
              <a:path w="3697" h="1713">
                <a:moveTo>
                  <a:pt x="12675" y="14511"/>
                </a:moveTo>
                <a:cubicBezTo>
                  <a:pt x="12779" y="14537"/>
                  <a:pt x="12872" y="14555"/>
                  <a:pt x="12973" y="14536"/>
                </a:cubicBezTo>
              </a:path>
              <a:path w="3697" h="1713">
                <a:moveTo>
                  <a:pt x="12849" y="14734"/>
                </a:moveTo>
                <a:cubicBezTo>
                  <a:pt x="12897" y="14758"/>
                  <a:pt x="12927" y="14713"/>
                  <a:pt x="12998" y="14709"/>
                </a:cubicBezTo>
                <a:cubicBezTo>
                  <a:pt x="13070" y="14705"/>
                  <a:pt x="13118" y="14755"/>
                  <a:pt x="13097" y="14833"/>
                </a:cubicBezTo>
                <a:cubicBezTo>
                  <a:pt x="13086" y="14875"/>
                  <a:pt x="13064" y="14926"/>
                  <a:pt x="13022" y="14957"/>
                </a:cubicBezTo>
                <a:cubicBezTo>
                  <a:pt x="12953" y="15009"/>
                  <a:pt x="12947" y="15021"/>
                  <a:pt x="12874" y="15032"/>
                </a:cubicBezTo>
                <a:cubicBezTo>
                  <a:pt x="12880" y="14987"/>
                  <a:pt x="12902" y="14886"/>
                  <a:pt x="12973" y="14957"/>
                </a:cubicBezTo>
                <a:cubicBezTo>
                  <a:pt x="13024" y="15008"/>
                  <a:pt x="13041" y="15108"/>
                  <a:pt x="13097" y="15156"/>
                </a:cubicBezTo>
                <a:cubicBezTo>
                  <a:pt x="13113" y="15164"/>
                  <a:pt x="13130" y="15172"/>
                  <a:pt x="13146" y="15180"/>
                </a:cubicBezTo>
              </a:path>
              <a:path w="3697" h="1713">
                <a:moveTo>
                  <a:pt x="12650" y="14039"/>
                </a:moveTo>
                <a:cubicBezTo>
                  <a:pt x="12558" y="14140"/>
                  <a:pt x="12520" y="14209"/>
                  <a:pt x="12477" y="14337"/>
                </a:cubicBezTo>
                <a:cubicBezTo>
                  <a:pt x="12433" y="14468"/>
                  <a:pt x="12449" y="14600"/>
                  <a:pt x="12477" y="14734"/>
                </a:cubicBezTo>
                <a:cubicBezTo>
                  <a:pt x="12511" y="14897"/>
                  <a:pt x="12584" y="15021"/>
                  <a:pt x="12675" y="15156"/>
                </a:cubicBezTo>
                <a:cubicBezTo>
                  <a:pt x="12692" y="15181"/>
                  <a:pt x="12708" y="15205"/>
                  <a:pt x="12725" y="15230"/>
                </a:cubicBezTo>
              </a:path>
              <a:path w="3697" h="1713">
                <a:moveTo>
                  <a:pt x="13320" y="14213"/>
                </a:moveTo>
                <a:cubicBezTo>
                  <a:pt x="13409" y="14277"/>
                  <a:pt x="13416" y="14351"/>
                  <a:pt x="13444" y="14461"/>
                </a:cubicBezTo>
                <a:cubicBezTo>
                  <a:pt x="13483" y="14613"/>
                  <a:pt x="13512" y="14776"/>
                  <a:pt x="13519" y="14932"/>
                </a:cubicBezTo>
                <a:cubicBezTo>
                  <a:pt x="13527" y="15108"/>
                  <a:pt x="13513" y="15307"/>
                  <a:pt x="13469" y="15478"/>
                </a:cubicBezTo>
                <a:cubicBezTo>
                  <a:pt x="13456" y="15528"/>
                  <a:pt x="13451" y="15677"/>
                  <a:pt x="13370" y="15677"/>
                </a:cubicBezTo>
                <a:cubicBezTo>
                  <a:pt x="13322" y="15653"/>
                  <a:pt x="13305" y="15647"/>
                  <a:pt x="13320" y="15602"/>
                </a:cubicBezTo>
              </a:path>
              <a:path w="3697" h="1713">
                <a:moveTo>
                  <a:pt x="13667" y="13965"/>
                </a:moveTo>
                <a:cubicBezTo>
                  <a:pt x="13727" y="13974"/>
                  <a:pt x="13764" y="14000"/>
                  <a:pt x="13816" y="14039"/>
                </a:cubicBezTo>
                <a:cubicBezTo>
                  <a:pt x="13863" y="14074"/>
                  <a:pt x="13891" y="14166"/>
                  <a:pt x="13816" y="14188"/>
                </a:cubicBezTo>
                <a:cubicBezTo>
                  <a:pt x="13749" y="14207"/>
                  <a:pt x="13697" y="14173"/>
                  <a:pt x="13717" y="14213"/>
                </a:cubicBezTo>
                <a:cubicBezTo>
                  <a:pt x="13770" y="14221"/>
                  <a:pt x="13825" y="14227"/>
                  <a:pt x="13866" y="14263"/>
                </a:cubicBezTo>
                <a:cubicBezTo>
                  <a:pt x="13938" y="14325"/>
                  <a:pt x="13966" y="14370"/>
                  <a:pt x="13915" y="14461"/>
                </a:cubicBezTo>
                <a:cubicBezTo>
                  <a:pt x="13884" y="14517"/>
                  <a:pt x="13820" y="14511"/>
                  <a:pt x="13767" y="14511"/>
                </a:cubicBezTo>
              </a:path>
              <a:path w="3697" h="1713">
                <a:moveTo>
                  <a:pt x="14039" y="14709"/>
                </a:moveTo>
                <a:cubicBezTo>
                  <a:pt x="14106" y="14726"/>
                  <a:pt x="14144" y="14734"/>
                  <a:pt x="14213" y="14734"/>
                </a:cubicBezTo>
              </a:path>
              <a:path w="3697" h="1713">
                <a:moveTo>
                  <a:pt x="14089" y="14784"/>
                </a:moveTo>
                <a:cubicBezTo>
                  <a:pt x="14159" y="14823"/>
                  <a:pt x="14180" y="14833"/>
                  <a:pt x="14263" y="148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2"/>
          <p:cNvSpPr/>
          <p:nvPr/>
        </p:nvSpPr>
        <p:spPr>
          <a:xfrm>
            <a:off x="5276880" y="5018040"/>
            <a:ext cx="206280" cy="581040"/>
          </a:xfrm>
          <a:custGeom>
            <a:avLst/>
            <a:gdLst/>
            <a:ahLst/>
            <a:rect l="l" t="t" r="r" b="b"/>
            <a:pathLst>
              <a:path w="571" h="1614">
                <a:moveTo>
                  <a:pt x="14734" y="13940"/>
                </a:moveTo>
                <a:cubicBezTo>
                  <a:pt x="14760" y="14008"/>
                  <a:pt x="14774" y="14090"/>
                  <a:pt x="14784" y="14163"/>
                </a:cubicBezTo>
                <a:cubicBezTo>
                  <a:pt x="14796" y="14248"/>
                  <a:pt x="14815" y="14330"/>
                  <a:pt x="14833" y="14412"/>
                </a:cubicBezTo>
                <a:cubicBezTo>
                  <a:pt x="14833" y="14420"/>
                  <a:pt x="14833" y="14428"/>
                  <a:pt x="14833" y="14436"/>
                </a:cubicBezTo>
              </a:path>
              <a:path w="571" h="1614">
                <a:moveTo>
                  <a:pt x="14660" y="14511"/>
                </a:moveTo>
                <a:cubicBezTo>
                  <a:pt x="14774" y="14511"/>
                  <a:pt x="14876" y="14522"/>
                  <a:pt x="14982" y="14536"/>
                </a:cubicBezTo>
                <a:cubicBezTo>
                  <a:pt x="15040" y="14536"/>
                  <a:pt x="15048" y="14536"/>
                  <a:pt x="15081" y="14536"/>
                </a:cubicBezTo>
              </a:path>
              <a:path w="571" h="1614">
                <a:moveTo>
                  <a:pt x="15056" y="14734"/>
                </a:moveTo>
                <a:cubicBezTo>
                  <a:pt x="15015" y="14692"/>
                  <a:pt x="14974" y="14651"/>
                  <a:pt x="14932" y="14610"/>
                </a:cubicBezTo>
                <a:cubicBezTo>
                  <a:pt x="14882" y="14661"/>
                  <a:pt x="14864" y="14706"/>
                  <a:pt x="14883" y="14784"/>
                </a:cubicBezTo>
                <a:cubicBezTo>
                  <a:pt x="14899" y="14852"/>
                  <a:pt x="14954" y="14942"/>
                  <a:pt x="14982" y="15007"/>
                </a:cubicBezTo>
                <a:cubicBezTo>
                  <a:pt x="15021" y="15096"/>
                  <a:pt x="15044" y="15190"/>
                  <a:pt x="15081" y="15280"/>
                </a:cubicBezTo>
                <a:cubicBezTo>
                  <a:pt x="15113" y="15358"/>
                  <a:pt x="15131" y="15393"/>
                  <a:pt x="15131" y="15478"/>
                </a:cubicBezTo>
                <a:cubicBezTo>
                  <a:pt x="15131" y="15523"/>
                  <a:pt x="15134" y="15536"/>
                  <a:pt x="15106" y="15553"/>
                </a:cubicBezTo>
                <a:cubicBezTo>
                  <a:pt x="15023" y="15541"/>
                  <a:pt x="14999" y="15495"/>
                  <a:pt x="14982" y="15404"/>
                </a:cubicBezTo>
                <a:cubicBezTo>
                  <a:pt x="14966" y="15318"/>
                  <a:pt x="14977" y="15268"/>
                  <a:pt x="14982" y="15180"/>
                </a:cubicBezTo>
                <a:cubicBezTo>
                  <a:pt x="14985" y="15121"/>
                  <a:pt x="14997" y="15051"/>
                  <a:pt x="15032" y="15007"/>
                </a:cubicBezTo>
                <a:cubicBezTo>
                  <a:pt x="15076" y="14951"/>
                  <a:pt x="15203" y="14886"/>
                  <a:pt x="15230" y="14833"/>
                </a:cubicBezTo>
                <a:cubicBezTo>
                  <a:pt x="15230" y="14817"/>
                  <a:pt x="15230" y="14800"/>
                  <a:pt x="15230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3"/>
          <p:cNvSpPr/>
          <p:nvPr/>
        </p:nvSpPr>
        <p:spPr>
          <a:xfrm>
            <a:off x="704880" y="5241960"/>
            <a:ext cx="1795320" cy="625320"/>
          </a:xfrm>
          <a:custGeom>
            <a:avLst/>
            <a:gdLst/>
            <a:ahLst/>
            <a:rect l="l" t="t" r="r" b="b"/>
            <a:pathLst>
              <a:path w="4986" h="1738">
                <a:moveTo>
                  <a:pt x="2084" y="14808"/>
                </a:moveTo>
                <a:cubicBezTo>
                  <a:pt x="2075" y="14887"/>
                  <a:pt x="2075" y="14978"/>
                  <a:pt x="2059" y="15056"/>
                </a:cubicBezTo>
                <a:cubicBezTo>
                  <a:pt x="2033" y="15179"/>
                  <a:pt x="1998" y="15302"/>
                  <a:pt x="1984" y="15429"/>
                </a:cubicBezTo>
                <a:cubicBezTo>
                  <a:pt x="1984" y="15497"/>
                  <a:pt x="1987" y="15516"/>
                  <a:pt x="1960" y="15553"/>
                </a:cubicBezTo>
                <a:cubicBezTo>
                  <a:pt x="1960" y="15675"/>
                  <a:pt x="1971" y="15442"/>
                  <a:pt x="1984" y="15404"/>
                </a:cubicBezTo>
                <a:cubicBezTo>
                  <a:pt x="2015" y="15312"/>
                  <a:pt x="2051" y="15222"/>
                  <a:pt x="2084" y="15131"/>
                </a:cubicBezTo>
                <a:cubicBezTo>
                  <a:pt x="2121" y="15030"/>
                  <a:pt x="2171" y="14898"/>
                  <a:pt x="2232" y="14808"/>
                </a:cubicBezTo>
                <a:cubicBezTo>
                  <a:pt x="2269" y="14754"/>
                  <a:pt x="2312" y="14685"/>
                  <a:pt x="2356" y="14635"/>
                </a:cubicBezTo>
                <a:cubicBezTo>
                  <a:pt x="2379" y="14609"/>
                  <a:pt x="2406" y="14585"/>
                  <a:pt x="2431" y="14560"/>
                </a:cubicBezTo>
                <a:cubicBezTo>
                  <a:pt x="2474" y="14603"/>
                  <a:pt x="2495" y="14649"/>
                  <a:pt x="2505" y="14709"/>
                </a:cubicBezTo>
                <a:cubicBezTo>
                  <a:pt x="2518" y="14786"/>
                  <a:pt x="2521" y="14880"/>
                  <a:pt x="2530" y="14957"/>
                </a:cubicBezTo>
                <a:cubicBezTo>
                  <a:pt x="2542" y="15063"/>
                  <a:pt x="2544" y="15174"/>
                  <a:pt x="2555" y="15280"/>
                </a:cubicBezTo>
                <a:cubicBezTo>
                  <a:pt x="2565" y="15381"/>
                  <a:pt x="2580" y="15473"/>
                  <a:pt x="2580" y="15577"/>
                </a:cubicBezTo>
                <a:cubicBezTo>
                  <a:pt x="2580" y="15631"/>
                  <a:pt x="2597" y="15672"/>
                  <a:pt x="2604" y="15726"/>
                </a:cubicBezTo>
              </a:path>
              <a:path w="4986" h="1738">
                <a:moveTo>
                  <a:pt x="2232" y="15255"/>
                </a:moveTo>
                <a:cubicBezTo>
                  <a:pt x="2298" y="15264"/>
                  <a:pt x="2342" y="15297"/>
                  <a:pt x="2406" y="15329"/>
                </a:cubicBezTo>
                <a:cubicBezTo>
                  <a:pt x="2457" y="15355"/>
                  <a:pt x="2501" y="15359"/>
                  <a:pt x="2555" y="15379"/>
                </a:cubicBezTo>
              </a:path>
              <a:path w="4986" h="1738">
                <a:moveTo>
                  <a:pt x="2778" y="15354"/>
                </a:moveTo>
                <a:cubicBezTo>
                  <a:pt x="2834" y="15410"/>
                  <a:pt x="2827" y="15432"/>
                  <a:pt x="2778" y="15503"/>
                </a:cubicBezTo>
                <a:cubicBezTo>
                  <a:pt x="2742" y="15555"/>
                  <a:pt x="2703" y="15563"/>
                  <a:pt x="2753" y="15627"/>
                </a:cubicBezTo>
                <a:cubicBezTo>
                  <a:pt x="2779" y="15659"/>
                  <a:pt x="2841" y="15716"/>
                  <a:pt x="2877" y="15726"/>
                </a:cubicBezTo>
                <a:cubicBezTo>
                  <a:pt x="2922" y="15726"/>
                  <a:pt x="2935" y="15729"/>
                  <a:pt x="2952" y="15701"/>
                </a:cubicBezTo>
              </a:path>
              <a:path w="4986" h="1738">
                <a:moveTo>
                  <a:pt x="3101" y="15329"/>
                </a:moveTo>
                <a:cubicBezTo>
                  <a:pt x="3092" y="15401"/>
                  <a:pt x="3091" y="15481"/>
                  <a:pt x="3076" y="15553"/>
                </a:cubicBezTo>
                <a:cubicBezTo>
                  <a:pt x="3053" y="15660"/>
                  <a:pt x="3030" y="15764"/>
                  <a:pt x="3026" y="15875"/>
                </a:cubicBezTo>
                <a:cubicBezTo>
                  <a:pt x="3022" y="15978"/>
                  <a:pt x="2990" y="16072"/>
                  <a:pt x="2977" y="16173"/>
                </a:cubicBezTo>
                <a:cubicBezTo>
                  <a:pt x="2970" y="16226"/>
                  <a:pt x="2945" y="16343"/>
                  <a:pt x="3001" y="16247"/>
                </a:cubicBezTo>
              </a:path>
              <a:path w="4986" h="1738">
                <a:moveTo>
                  <a:pt x="3349" y="15404"/>
                </a:moveTo>
                <a:cubicBezTo>
                  <a:pt x="3452" y="15352"/>
                  <a:pt x="3474" y="15350"/>
                  <a:pt x="3572" y="15379"/>
                </a:cubicBezTo>
                <a:cubicBezTo>
                  <a:pt x="3580" y="15379"/>
                  <a:pt x="3589" y="15379"/>
                  <a:pt x="3597" y="15379"/>
                </a:cubicBezTo>
              </a:path>
              <a:path w="4986" h="1738">
                <a:moveTo>
                  <a:pt x="3448" y="15503"/>
                </a:moveTo>
                <a:cubicBezTo>
                  <a:pt x="3539" y="15579"/>
                  <a:pt x="3568" y="15633"/>
                  <a:pt x="3671" y="15553"/>
                </a:cubicBezTo>
              </a:path>
              <a:path w="4986" h="1738">
                <a:moveTo>
                  <a:pt x="3944" y="14982"/>
                </a:moveTo>
                <a:cubicBezTo>
                  <a:pt x="4004" y="14948"/>
                  <a:pt x="4040" y="14908"/>
                  <a:pt x="4093" y="14982"/>
                </a:cubicBezTo>
                <a:cubicBezTo>
                  <a:pt x="4146" y="15056"/>
                  <a:pt x="4152" y="15090"/>
                  <a:pt x="4118" y="15180"/>
                </a:cubicBezTo>
                <a:cubicBezTo>
                  <a:pt x="4097" y="15236"/>
                  <a:pt x="4061" y="15245"/>
                  <a:pt x="4018" y="15280"/>
                </a:cubicBezTo>
                <a:cubicBezTo>
                  <a:pt x="4068" y="15312"/>
                  <a:pt x="4132" y="15324"/>
                  <a:pt x="4167" y="15379"/>
                </a:cubicBezTo>
                <a:cubicBezTo>
                  <a:pt x="4206" y="15439"/>
                  <a:pt x="4238" y="15480"/>
                  <a:pt x="4242" y="15553"/>
                </a:cubicBezTo>
                <a:cubicBezTo>
                  <a:pt x="4244" y="15584"/>
                  <a:pt x="4218" y="15704"/>
                  <a:pt x="4167" y="15701"/>
                </a:cubicBezTo>
                <a:cubicBezTo>
                  <a:pt x="4129" y="15699"/>
                  <a:pt x="3985" y="15646"/>
                  <a:pt x="3969" y="15602"/>
                </a:cubicBezTo>
                <a:cubicBezTo>
                  <a:pt x="3943" y="15530"/>
                  <a:pt x="3942" y="15475"/>
                  <a:pt x="3969" y="15404"/>
                </a:cubicBezTo>
              </a:path>
              <a:path w="4986" h="1738">
                <a:moveTo>
                  <a:pt x="4589" y="14883"/>
                </a:moveTo>
                <a:cubicBezTo>
                  <a:pt x="4536" y="14965"/>
                  <a:pt x="4502" y="15036"/>
                  <a:pt x="4490" y="15131"/>
                </a:cubicBezTo>
                <a:cubicBezTo>
                  <a:pt x="4475" y="15259"/>
                  <a:pt x="4485" y="15406"/>
                  <a:pt x="4514" y="15528"/>
                </a:cubicBezTo>
                <a:cubicBezTo>
                  <a:pt x="4535" y="15612"/>
                  <a:pt x="4537" y="15631"/>
                  <a:pt x="4564" y="15677"/>
                </a:cubicBezTo>
              </a:path>
              <a:path w="4986" h="1738">
                <a:moveTo>
                  <a:pt x="4837" y="14932"/>
                </a:moveTo>
                <a:cubicBezTo>
                  <a:pt x="4898" y="14993"/>
                  <a:pt x="4867" y="14998"/>
                  <a:pt x="4862" y="15081"/>
                </a:cubicBezTo>
                <a:cubicBezTo>
                  <a:pt x="4859" y="15136"/>
                  <a:pt x="4887" y="15185"/>
                  <a:pt x="4911" y="15230"/>
                </a:cubicBezTo>
                <a:cubicBezTo>
                  <a:pt x="4934" y="15273"/>
                  <a:pt x="4986" y="15363"/>
                  <a:pt x="5035" y="15379"/>
                </a:cubicBezTo>
                <a:cubicBezTo>
                  <a:pt x="5077" y="15379"/>
                  <a:pt x="5085" y="15379"/>
                  <a:pt x="5110" y="15379"/>
                </a:cubicBezTo>
              </a:path>
              <a:path w="4986" h="1738">
                <a:moveTo>
                  <a:pt x="5159" y="14982"/>
                </a:moveTo>
                <a:cubicBezTo>
                  <a:pt x="5159" y="15088"/>
                  <a:pt x="5139" y="15179"/>
                  <a:pt x="5135" y="15280"/>
                </a:cubicBezTo>
                <a:cubicBezTo>
                  <a:pt x="5130" y="15420"/>
                  <a:pt x="5135" y="15561"/>
                  <a:pt x="5135" y="15701"/>
                </a:cubicBezTo>
              </a:path>
              <a:path w="4986" h="1738">
                <a:moveTo>
                  <a:pt x="5333" y="14660"/>
                </a:moveTo>
                <a:cubicBezTo>
                  <a:pt x="5377" y="14703"/>
                  <a:pt x="5413" y="14748"/>
                  <a:pt x="5432" y="14808"/>
                </a:cubicBezTo>
                <a:cubicBezTo>
                  <a:pt x="5473" y="14936"/>
                  <a:pt x="5497" y="15072"/>
                  <a:pt x="5507" y="15205"/>
                </a:cubicBezTo>
                <a:cubicBezTo>
                  <a:pt x="5518" y="15342"/>
                  <a:pt x="5495" y="15469"/>
                  <a:pt x="5482" y="15602"/>
                </a:cubicBezTo>
                <a:cubicBezTo>
                  <a:pt x="5472" y="15702"/>
                  <a:pt x="5471" y="15808"/>
                  <a:pt x="5432" y="15900"/>
                </a:cubicBezTo>
                <a:cubicBezTo>
                  <a:pt x="5403" y="15968"/>
                  <a:pt x="5408" y="15987"/>
                  <a:pt x="5358" y="15974"/>
                </a:cubicBezTo>
              </a:path>
              <a:path w="4986" h="1738">
                <a:moveTo>
                  <a:pt x="5755" y="15280"/>
                </a:moveTo>
                <a:cubicBezTo>
                  <a:pt x="5898" y="15271"/>
                  <a:pt x="5856" y="15286"/>
                  <a:pt x="5953" y="15230"/>
                </a:cubicBezTo>
              </a:path>
              <a:path w="4986" h="1738">
                <a:moveTo>
                  <a:pt x="6152" y="15007"/>
                </a:moveTo>
                <a:cubicBezTo>
                  <a:pt x="6269" y="14983"/>
                  <a:pt x="6252" y="14998"/>
                  <a:pt x="6300" y="15106"/>
                </a:cubicBezTo>
                <a:cubicBezTo>
                  <a:pt x="6343" y="15203"/>
                  <a:pt x="6364" y="15252"/>
                  <a:pt x="6325" y="15354"/>
                </a:cubicBezTo>
                <a:cubicBezTo>
                  <a:pt x="6296" y="15430"/>
                  <a:pt x="6263" y="15504"/>
                  <a:pt x="6226" y="15577"/>
                </a:cubicBezTo>
                <a:cubicBezTo>
                  <a:pt x="6190" y="15648"/>
                  <a:pt x="6176" y="15666"/>
                  <a:pt x="6102" y="15677"/>
                </a:cubicBezTo>
                <a:cubicBezTo>
                  <a:pt x="6112" y="15605"/>
                  <a:pt x="6123" y="15582"/>
                  <a:pt x="6201" y="15577"/>
                </a:cubicBezTo>
                <a:cubicBezTo>
                  <a:pt x="6283" y="15572"/>
                  <a:pt x="6325" y="15635"/>
                  <a:pt x="6400" y="15652"/>
                </a:cubicBezTo>
                <a:cubicBezTo>
                  <a:pt x="6416" y="15652"/>
                  <a:pt x="6433" y="15652"/>
                  <a:pt x="6449" y="15652"/>
                </a:cubicBezTo>
              </a:path>
              <a:path w="4986" h="1738">
                <a:moveTo>
                  <a:pt x="6722" y="15429"/>
                </a:moveTo>
                <a:cubicBezTo>
                  <a:pt x="6808" y="15443"/>
                  <a:pt x="6862" y="15453"/>
                  <a:pt x="6945" y="15453"/>
                </a:cubicBezTo>
              </a:path>
              <a:path w="4986" h="1738">
                <a:moveTo>
                  <a:pt x="6796" y="15503"/>
                </a:moveTo>
                <a:cubicBezTo>
                  <a:pt x="6867" y="15586"/>
                  <a:pt x="6854" y="15608"/>
                  <a:pt x="6945" y="156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4"/>
          <p:cNvSpPr/>
          <p:nvPr/>
        </p:nvSpPr>
        <p:spPr>
          <a:xfrm>
            <a:off x="2625840" y="5446800"/>
            <a:ext cx="268200" cy="287280"/>
          </a:xfrm>
          <a:custGeom>
            <a:avLst/>
            <a:gdLst/>
            <a:ahLst/>
            <a:rect l="l" t="t" r="r" b="b"/>
            <a:pathLst>
              <a:path w="745" h="795">
                <a:moveTo>
                  <a:pt x="7342" y="15131"/>
                </a:moveTo>
                <a:cubicBezTo>
                  <a:pt x="7335" y="15232"/>
                  <a:pt x="7329" y="15327"/>
                  <a:pt x="7317" y="15429"/>
                </a:cubicBezTo>
                <a:cubicBezTo>
                  <a:pt x="7301" y="15565"/>
                  <a:pt x="7293" y="15689"/>
                  <a:pt x="7293" y="15825"/>
                </a:cubicBezTo>
                <a:cubicBezTo>
                  <a:pt x="7293" y="15875"/>
                  <a:pt x="7293" y="15892"/>
                  <a:pt x="7293" y="15925"/>
                </a:cubicBezTo>
              </a:path>
              <a:path w="745" h="795">
                <a:moveTo>
                  <a:pt x="7615" y="15354"/>
                </a:moveTo>
                <a:cubicBezTo>
                  <a:pt x="7589" y="15449"/>
                  <a:pt x="7583" y="15487"/>
                  <a:pt x="7615" y="15577"/>
                </a:cubicBezTo>
                <a:cubicBezTo>
                  <a:pt x="7645" y="15662"/>
                  <a:pt x="7650" y="15741"/>
                  <a:pt x="7689" y="15825"/>
                </a:cubicBezTo>
                <a:cubicBezTo>
                  <a:pt x="7728" y="15909"/>
                  <a:pt x="7770" y="15941"/>
                  <a:pt x="7863" y="15900"/>
                </a:cubicBezTo>
                <a:cubicBezTo>
                  <a:pt x="7931" y="15870"/>
                  <a:pt x="7955" y="15815"/>
                  <a:pt x="7987" y="15751"/>
                </a:cubicBezTo>
                <a:cubicBezTo>
                  <a:pt x="8012" y="15701"/>
                  <a:pt x="8050" y="15584"/>
                  <a:pt x="8037" y="15528"/>
                </a:cubicBezTo>
                <a:cubicBezTo>
                  <a:pt x="8023" y="15466"/>
                  <a:pt x="8005" y="15403"/>
                  <a:pt x="7962" y="15354"/>
                </a:cubicBezTo>
                <a:cubicBezTo>
                  <a:pt x="7912" y="15297"/>
                  <a:pt x="7824" y="15334"/>
                  <a:pt x="7764" y="15354"/>
                </a:cubicBezTo>
                <a:cubicBezTo>
                  <a:pt x="7689" y="15379"/>
                  <a:pt x="7665" y="15387"/>
                  <a:pt x="7615" y="154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5"/>
          <p:cNvSpPr/>
          <p:nvPr/>
        </p:nvSpPr>
        <p:spPr>
          <a:xfrm>
            <a:off x="3911760" y="5653080"/>
            <a:ext cx="1455480" cy="571680"/>
          </a:xfrm>
          <a:custGeom>
            <a:avLst/>
            <a:gdLst/>
            <a:ahLst/>
            <a:rect l="l" t="t" r="r" b="b"/>
            <a:pathLst>
              <a:path w="4045" h="1589">
                <a:moveTo>
                  <a:pt x="10939" y="16570"/>
                </a:moveTo>
                <a:cubicBezTo>
                  <a:pt x="10892" y="16627"/>
                  <a:pt x="10873" y="16671"/>
                  <a:pt x="10864" y="16743"/>
                </a:cubicBezTo>
                <a:cubicBezTo>
                  <a:pt x="10910" y="16664"/>
                  <a:pt x="10919" y="16633"/>
                  <a:pt x="10939" y="16545"/>
                </a:cubicBezTo>
                <a:cubicBezTo>
                  <a:pt x="10964" y="16437"/>
                  <a:pt x="10980" y="16331"/>
                  <a:pt x="11013" y="16222"/>
                </a:cubicBezTo>
                <a:cubicBezTo>
                  <a:pt x="11049" y="16104"/>
                  <a:pt x="11094" y="15989"/>
                  <a:pt x="11137" y="15875"/>
                </a:cubicBezTo>
                <a:cubicBezTo>
                  <a:pt x="11163" y="15806"/>
                  <a:pt x="11191" y="15758"/>
                  <a:pt x="11237" y="15701"/>
                </a:cubicBezTo>
                <a:cubicBezTo>
                  <a:pt x="11264" y="15775"/>
                  <a:pt x="11299" y="15869"/>
                  <a:pt x="11311" y="15949"/>
                </a:cubicBezTo>
                <a:cubicBezTo>
                  <a:pt x="11332" y="16087"/>
                  <a:pt x="11343" y="16236"/>
                  <a:pt x="11385" y="16371"/>
                </a:cubicBezTo>
                <a:cubicBezTo>
                  <a:pt x="11438" y="16541"/>
                  <a:pt x="11466" y="16726"/>
                  <a:pt x="11534" y="16892"/>
                </a:cubicBezTo>
                <a:cubicBezTo>
                  <a:pt x="11554" y="16933"/>
                  <a:pt x="11563" y="16960"/>
                  <a:pt x="11559" y="16917"/>
                </a:cubicBezTo>
              </a:path>
              <a:path w="4045" h="1589">
                <a:moveTo>
                  <a:pt x="11187" y="16222"/>
                </a:moveTo>
                <a:cubicBezTo>
                  <a:pt x="11235" y="16270"/>
                  <a:pt x="11276" y="16313"/>
                  <a:pt x="11336" y="16346"/>
                </a:cubicBezTo>
                <a:cubicBezTo>
                  <a:pt x="11352" y="16354"/>
                  <a:pt x="11369" y="16363"/>
                  <a:pt x="11385" y="16371"/>
                </a:cubicBezTo>
              </a:path>
              <a:path w="4045" h="1589">
                <a:moveTo>
                  <a:pt x="11658" y="16520"/>
                </a:moveTo>
                <a:cubicBezTo>
                  <a:pt x="11607" y="16584"/>
                  <a:pt x="11606" y="16601"/>
                  <a:pt x="11633" y="16669"/>
                </a:cubicBezTo>
                <a:cubicBezTo>
                  <a:pt x="11668" y="16758"/>
                  <a:pt x="11711" y="16802"/>
                  <a:pt x="11807" y="16743"/>
                </a:cubicBezTo>
                <a:cubicBezTo>
                  <a:pt x="11815" y="16735"/>
                  <a:pt x="11824" y="16726"/>
                  <a:pt x="11832" y="16718"/>
                </a:cubicBezTo>
              </a:path>
              <a:path w="4045" h="1589">
                <a:moveTo>
                  <a:pt x="11881" y="16396"/>
                </a:moveTo>
                <a:cubicBezTo>
                  <a:pt x="11844" y="16528"/>
                  <a:pt x="11814" y="16658"/>
                  <a:pt x="11782" y="16793"/>
                </a:cubicBezTo>
                <a:cubicBezTo>
                  <a:pt x="11748" y="16937"/>
                  <a:pt x="11730" y="17093"/>
                  <a:pt x="11708" y="17239"/>
                </a:cubicBezTo>
                <a:cubicBezTo>
                  <a:pt x="11708" y="17256"/>
                  <a:pt x="11708" y="17272"/>
                  <a:pt x="11708" y="17289"/>
                </a:cubicBezTo>
              </a:path>
              <a:path w="4045" h="1589">
                <a:moveTo>
                  <a:pt x="12154" y="16222"/>
                </a:moveTo>
                <a:cubicBezTo>
                  <a:pt x="12227" y="16246"/>
                  <a:pt x="12251" y="16255"/>
                  <a:pt x="12303" y="16247"/>
                </a:cubicBezTo>
              </a:path>
              <a:path w="4045" h="1589">
                <a:moveTo>
                  <a:pt x="12129" y="16446"/>
                </a:moveTo>
                <a:cubicBezTo>
                  <a:pt x="12206" y="16512"/>
                  <a:pt x="12225" y="16515"/>
                  <a:pt x="12328" y="16545"/>
                </a:cubicBezTo>
              </a:path>
              <a:path w="4045" h="1589">
                <a:moveTo>
                  <a:pt x="12874" y="15751"/>
                </a:moveTo>
                <a:cubicBezTo>
                  <a:pt x="12899" y="15821"/>
                  <a:pt x="12898" y="15874"/>
                  <a:pt x="12898" y="15949"/>
                </a:cubicBezTo>
                <a:cubicBezTo>
                  <a:pt x="12898" y="16059"/>
                  <a:pt x="12919" y="16203"/>
                  <a:pt x="12874" y="16297"/>
                </a:cubicBezTo>
              </a:path>
              <a:path w="4045" h="1589">
                <a:moveTo>
                  <a:pt x="12675" y="16148"/>
                </a:moveTo>
                <a:cubicBezTo>
                  <a:pt x="12777" y="16198"/>
                  <a:pt x="12871" y="16238"/>
                  <a:pt x="12973" y="16272"/>
                </a:cubicBezTo>
                <a:cubicBezTo>
                  <a:pt x="12989" y="16280"/>
                  <a:pt x="13006" y="16289"/>
                  <a:pt x="13022" y="16297"/>
                </a:cubicBezTo>
              </a:path>
              <a:path w="4045" h="1589">
                <a:moveTo>
                  <a:pt x="12923" y="16371"/>
                </a:moveTo>
                <a:cubicBezTo>
                  <a:pt x="12974" y="16412"/>
                  <a:pt x="13026" y="16410"/>
                  <a:pt x="13072" y="16446"/>
                </a:cubicBezTo>
                <a:cubicBezTo>
                  <a:pt x="13115" y="16480"/>
                  <a:pt x="13159" y="16567"/>
                  <a:pt x="13122" y="16619"/>
                </a:cubicBezTo>
                <a:cubicBezTo>
                  <a:pt x="13100" y="16649"/>
                  <a:pt x="13019" y="16732"/>
                  <a:pt x="12973" y="16743"/>
                </a:cubicBezTo>
                <a:cubicBezTo>
                  <a:pt x="12923" y="16755"/>
                  <a:pt x="12875" y="16762"/>
                  <a:pt x="12824" y="16768"/>
                </a:cubicBezTo>
                <a:cubicBezTo>
                  <a:pt x="12783" y="16667"/>
                  <a:pt x="12876" y="16702"/>
                  <a:pt x="12948" y="16743"/>
                </a:cubicBezTo>
                <a:cubicBezTo>
                  <a:pt x="12983" y="16778"/>
                  <a:pt x="13005" y="16791"/>
                  <a:pt x="13047" y="16793"/>
                </a:cubicBezTo>
              </a:path>
              <a:path w="4045" h="1589">
                <a:moveTo>
                  <a:pt x="12923" y="15801"/>
                </a:moveTo>
                <a:cubicBezTo>
                  <a:pt x="12800" y="15773"/>
                  <a:pt x="12772" y="15821"/>
                  <a:pt x="12700" y="15925"/>
                </a:cubicBezTo>
                <a:cubicBezTo>
                  <a:pt x="12631" y="16024"/>
                  <a:pt x="12588" y="16176"/>
                  <a:pt x="12576" y="16297"/>
                </a:cubicBezTo>
                <a:cubicBezTo>
                  <a:pt x="12557" y="16491"/>
                  <a:pt x="12604" y="16656"/>
                  <a:pt x="12650" y="16842"/>
                </a:cubicBezTo>
              </a:path>
              <a:path w="4045" h="1589">
                <a:moveTo>
                  <a:pt x="13370" y="15974"/>
                </a:moveTo>
                <a:cubicBezTo>
                  <a:pt x="13462" y="16053"/>
                  <a:pt x="13444" y="16123"/>
                  <a:pt x="13444" y="16247"/>
                </a:cubicBezTo>
                <a:cubicBezTo>
                  <a:pt x="13444" y="16407"/>
                  <a:pt x="13436" y="16539"/>
                  <a:pt x="13395" y="16694"/>
                </a:cubicBezTo>
                <a:cubicBezTo>
                  <a:pt x="13366" y="16803"/>
                  <a:pt x="13337" y="16899"/>
                  <a:pt x="13271" y="16991"/>
                </a:cubicBezTo>
                <a:cubicBezTo>
                  <a:pt x="13246" y="17016"/>
                  <a:pt x="13238" y="17024"/>
                  <a:pt x="13221" y="17041"/>
                </a:cubicBezTo>
                <a:cubicBezTo>
                  <a:pt x="13140" y="17006"/>
                  <a:pt x="13151" y="17008"/>
                  <a:pt x="13171" y="16917"/>
                </a:cubicBezTo>
              </a:path>
              <a:path w="4045" h="1589">
                <a:moveTo>
                  <a:pt x="13618" y="15875"/>
                </a:moveTo>
                <a:cubicBezTo>
                  <a:pt x="13618" y="15965"/>
                  <a:pt x="13617" y="16044"/>
                  <a:pt x="13667" y="16123"/>
                </a:cubicBezTo>
                <a:cubicBezTo>
                  <a:pt x="13697" y="16153"/>
                  <a:pt x="13708" y="16167"/>
                  <a:pt x="13717" y="16197"/>
                </a:cubicBezTo>
              </a:path>
              <a:path w="4045" h="1589">
                <a:moveTo>
                  <a:pt x="13891" y="15776"/>
                </a:moveTo>
                <a:cubicBezTo>
                  <a:pt x="13850" y="15857"/>
                  <a:pt x="13820" y="15908"/>
                  <a:pt x="13816" y="15999"/>
                </a:cubicBezTo>
                <a:cubicBezTo>
                  <a:pt x="13813" y="16073"/>
                  <a:pt x="13810" y="16175"/>
                  <a:pt x="13791" y="16247"/>
                </a:cubicBezTo>
                <a:cubicBezTo>
                  <a:pt x="13783" y="16264"/>
                  <a:pt x="13775" y="16280"/>
                  <a:pt x="13767" y="16297"/>
                </a:cubicBezTo>
              </a:path>
              <a:path w="4045" h="1589">
                <a:moveTo>
                  <a:pt x="14015" y="16470"/>
                </a:moveTo>
                <a:cubicBezTo>
                  <a:pt x="14081" y="16470"/>
                  <a:pt x="14098" y="16470"/>
                  <a:pt x="14139" y="16470"/>
                </a:cubicBezTo>
              </a:path>
              <a:path w="4045" h="1589">
                <a:moveTo>
                  <a:pt x="13965" y="16545"/>
                </a:moveTo>
                <a:cubicBezTo>
                  <a:pt x="14041" y="16621"/>
                  <a:pt x="14028" y="16632"/>
                  <a:pt x="14114" y="16644"/>
                </a:cubicBezTo>
              </a:path>
              <a:path w="4045" h="1589">
                <a:moveTo>
                  <a:pt x="14660" y="15925"/>
                </a:moveTo>
                <a:cubicBezTo>
                  <a:pt x="14660" y="16006"/>
                  <a:pt x="14643" y="16071"/>
                  <a:pt x="14635" y="16148"/>
                </a:cubicBezTo>
                <a:cubicBezTo>
                  <a:pt x="14625" y="16249"/>
                  <a:pt x="14621" y="16346"/>
                  <a:pt x="14610" y="16446"/>
                </a:cubicBezTo>
              </a:path>
              <a:path w="4045" h="1589">
                <a:moveTo>
                  <a:pt x="14412" y="16545"/>
                </a:moveTo>
                <a:cubicBezTo>
                  <a:pt x="14497" y="16545"/>
                  <a:pt x="14557" y="16557"/>
                  <a:pt x="14635" y="16570"/>
                </a:cubicBezTo>
                <a:cubicBezTo>
                  <a:pt x="14703" y="16582"/>
                  <a:pt x="14747" y="16554"/>
                  <a:pt x="14808" y="16545"/>
                </a:cubicBezTo>
              </a:path>
              <a:path w="4045" h="1589">
                <a:moveTo>
                  <a:pt x="14660" y="16718"/>
                </a:moveTo>
                <a:cubicBezTo>
                  <a:pt x="14612" y="16840"/>
                  <a:pt x="14595" y="16944"/>
                  <a:pt x="14560" y="17066"/>
                </a:cubicBezTo>
                <a:cubicBezTo>
                  <a:pt x="14538" y="17142"/>
                  <a:pt x="14521" y="17213"/>
                  <a:pt x="14511" y="17289"/>
                </a:cubicBezTo>
              </a:path>
              <a:path w="4045" h="1589">
                <a:moveTo>
                  <a:pt x="14808" y="16793"/>
                </a:moveTo>
                <a:cubicBezTo>
                  <a:pt x="14772" y="16839"/>
                  <a:pt x="14722" y="16908"/>
                  <a:pt x="14709" y="16966"/>
                </a:cubicBezTo>
                <a:cubicBezTo>
                  <a:pt x="14693" y="17036"/>
                  <a:pt x="14704" y="17135"/>
                  <a:pt x="14734" y="17190"/>
                </a:cubicBezTo>
                <a:cubicBezTo>
                  <a:pt x="14742" y="17206"/>
                  <a:pt x="14751" y="17223"/>
                  <a:pt x="14759" y="17239"/>
                </a:cubicBezTo>
                <a:cubicBezTo>
                  <a:pt x="14823" y="17202"/>
                  <a:pt x="14848" y="17181"/>
                  <a:pt x="14883" y="17115"/>
                </a:cubicBezTo>
                <a:cubicBezTo>
                  <a:pt x="14913" y="17059"/>
                  <a:pt x="14896" y="16989"/>
                  <a:pt x="14858" y="16942"/>
                </a:cubicBezTo>
                <a:cubicBezTo>
                  <a:pt x="14805" y="16877"/>
                  <a:pt x="14746" y="16885"/>
                  <a:pt x="14684" y="16917"/>
                </a:cubicBezTo>
                <a:cubicBezTo>
                  <a:pt x="14635" y="16942"/>
                  <a:pt x="14618" y="16950"/>
                  <a:pt x="14585" y="169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6"/>
          <p:cNvSpPr/>
          <p:nvPr/>
        </p:nvSpPr>
        <p:spPr>
          <a:xfrm>
            <a:off x="4670280" y="1758960"/>
            <a:ext cx="1044720" cy="509400"/>
          </a:xfrm>
          <a:custGeom>
            <a:avLst/>
            <a:gdLst/>
            <a:ahLst/>
            <a:rect l="l" t="t" r="r" b="b"/>
            <a:pathLst>
              <a:path w="2903" h="1414">
                <a:moveTo>
                  <a:pt x="13022" y="4887"/>
                </a:moveTo>
                <a:cubicBezTo>
                  <a:pt x="12993" y="4977"/>
                  <a:pt x="12998" y="5062"/>
                  <a:pt x="12998" y="5159"/>
                </a:cubicBezTo>
                <a:cubicBezTo>
                  <a:pt x="12998" y="5269"/>
                  <a:pt x="12973" y="5371"/>
                  <a:pt x="12973" y="5482"/>
                </a:cubicBezTo>
                <a:cubicBezTo>
                  <a:pt x="12973" y="5608"/>
                  <a:pt x="12934" y="5824"/>
                  <a:pt x="12998" y="5928"/>
                </a:cubicBezTo>
              </a:path>
              <a:path w="2903" h="1414">
                <a:moveTo>
                  <a:pt x="13295" y="5829"/>
                </a:moveTo>
                <a:cubicBezTo>
                  <a:pt x="13312" y="5937"/>
                  <a:pt x="13287" y="6000"/>
                  <a:pt x="13271" y="6102"/>
                </a:cubicBezTo>
                <a:cubicBezTo>
                  <a:pt x="13271" y="6152"/>
                  <a:pt x="13271" y="6169"/>
                  <a:pt x="13271" y="6102"/>
                </a:cubicBezTo>
              </a:path>
              <a:path w="2903" h="1414">
                <a:moveTo>
                  <a:pt x="13866" y="5035"/>
                </a:moveTo>
                <a:cubicBezTo>
                  <a:pt x="13840" y="5113"/>
                  <a:pt x="13823" y="5197"/>
                  <a:pt x="13767" y="5259"/>
                </a:cubicBezTo>
                <a:cubicBezTo>
                  <a:pt x="13730" y="5300"/>
                  <a:pt x="13671" y="5340"/>
                  <a:pt x="13692" y="5407"/>
                </a:cubicBezTo>
                <a:cubicBezTo>
                  <a:pt x="13711" y="5467"/>
                  <a:pt x="13872" y="5422"/>
                  <a:pt x="13915" y="5432"/>
                </a:cubicBezTo>
                <a:cubicBezTo>
                  <a:pt x="13986" y="5448"/>
                  <a:pt x="14037" y="5457"/>
                  <a:pt x="14114" y="5457"/>
                </a:cubicBezTo>
                <a:cubicBezTo>
                  <a:pt x="14175" y="5457"/>
                  <a:pt x="14209" y="5434"/>
                  <a:pt x="14263" y="5407"/>
                </a:cubicBezTo>
              </a:path>
              <a:path w="2903" h="1414">
                <a:moveTo>
                  <a:pt x="14288" y="4887"/>
                </a:moveTo>
                <a:cubicBezTo>
                  <a:pt x="14262" y="4955"/>
                  <a:pt x="14247" y="5040"/>
                  <a:pt x="14238" y="5110"/>
                </a:cubicBezTo>
                <a:cubicBezTo>
                  <a:pt x="14211" y="5326"/>
                  <a:pt x="14231" y="5561"/>
                  <a:pt x="14213" y="5779"/>
                </a:cubicBezTo>
                <a:cubicBezTo>
                  <a:pt x="14208" y="5838"/>
                  <a:pt x="14202" y="5904"/>
                  <a:pt x="14238" y="5928"/>
                </a:cubicBezTo>
              </a:path>
              <a:path w="2903" h="1414">
                <a:moveTo>
                  <a:pt x="14660" y="5928"/>
                </a:moveTo>
                <a:cubicBezTo>
                  <a:pt x="14643" y="6006"/>
                  <a:pt x="14634" y="6084"/>
                  <a:pt x="14610" y="6152"/>
                </a:cubicBezTo>
                <a:cubicBezTo>
                  <a:pt x="14589" y="6211"/>
                  <a:pt x="14565" y="6221"/>
                  <a:pt x="14610" y="6251"/>
                </a:cubicBezTo>
              </a:path>
              <a:path w="2903" h="1414">
                <a:moveTo>
                  <a:pt x="15032" y="5209"/>
                </a:moveTo>
                <a:cubicBezTo>
                  <a:pt x="15032" y="5226"/>
                  <a:pt x="15032" y="5242"/>
                  <a:pt x="15032" y="5259"/>
                </a:cubicBezTo>
                <a:cubicBezTo>
                  <a:pt x="15064" y="5204"/>
                  <a:pt x="15056" y="5152"/>
                  <a:pt x="15056" y="5085"/>
                </a:cubicBezTo>
                <a:cubicBezTo>
                  <a:pt x="15056" y="5001"/>
                  <a:pt x="15094" y="4987"/>
                  <a:pt x="15156" y="4961"/>
                </a:cubicBezTo>
                <a:cubicBezTo>
                  <a:pt x="15225" y="4932"/>
                  <a:pt x="15279" y="4936"/>
                  <a:pt x="15354" y="4936"/>
                </a:cubicBezTo>
                <a:cubicBezTo>
                  <a:pt x="15428" y="4936"/>
                  <a:pt x="15482" y="4914"/>
                  <a:pt x="15553" y="4911"/>
                </a:cubicBezTo>
                <a:cubicBezTo>
                  <a:pt x="15621" y="4908"/>
                  <a:pt x="15650" y="4905"/>
                  <a:pt x="15701" y="4936"/>
                </a:cubicBezTo>
                <a:cubicBezTo>
                  <a:pt x="15679" y="5004"/>
                  <a:pt x="15661" y="5090"/>
                  <a:pt x="15652" y="5159"/>
                </a:cubicBezTo>
                <a:cubicBezTo>
                  <a:pt x="15641" y="5243"/>
                  <a:pt x="15612" y="5326"/>
                  <a:pt x="15602" y="5407"/>
                </a:cubicBezTo>
                <a:cubicBezTo>
                  <a:pt x="15592" y="5487"/>
                  <a:pt x="15578" y="5577"/>
                  <a:pt x="15553" y="5655"/>
                </a:cubicBezTo>
                <a:cubicBezTo>
                  <a:pt x="15541" y="5693"/>
                  <a:pt x="15456" y="5851"/>
                  <a:pt x="15478" y="5879"/>
                </a:cubicBezTo>
                <a:cubicBezTo>
                  <a:pt x="15530" y="5879"/>
                  <a:pt x="15548" y="5878"/>
                  <a:pt x="15577" y="5854"/>
                </a:cubicBezTo>
              </a:path>
              <a:path w="2903" h="1414">
                <a:moveTo>
                  <a:pt x="15875" y="5978"/>
                </a:moveTo>
                <a:cubicBezTo>
                  <a:pt x="15857" y="6055"/>
                  <a:pt x="15814" y="6156"/>
                  <a:pt x="15801" y="6226"/>
                </a:cubicBezTo>
                <a:cubicBezTo>
                  <a:pt x="15801" y="6267"/>
                  <a:pt x="15801" y="6275"/>
                  <a:pt x="15801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17"/>
          <p:cNvSpPr/>
          <p:nvPr/>
        </p:nvSpPr>
        <p:spPr>
          <a:xfrm>
            <a:off x="5902200" y="1785960"/>
            <a:ext cx="438120" cy="357120"/>
          </a:xfrm>
          <a:custGeom>
            <a:avLst/>
            <a:gdLst/>
            <a:ahLst/>
            <a:rect l="l" t="t" r="r" b="b"/>
            <a:pathLst>
              <a:path w="1216" h="993">
                <a:moveTo>
                  <a:pt x="16446" y="4961"/>
                </a:moveTo>
                <a:cubicBezTo>
                  <a:pt x="16439" y="5048"/>
                  <a:pt x="16438" y="5149"/>
                  <a:pt x="16421" y="5234"/>
                </a:cubicBezTo>
                <a:cubicBezTo>
                  <a:pt x="16400" y="5344"/>
                  <a:pt x="16396" y="5443"/>
                  <a:pt x="16396" y="5556"/>
                </a:cubicBezTo>
                <a:cubicBezTo>
                  <a:pt x="16396" y="5680"/>
                  <a:pt x="16345" y="5983"/>
                  <a:pt x="16421" y="5879"/>
                </a:cubicBezTo>
                <a:cubicBezTo>
                  <a:pt x="16429" y="5871"/>
                  <a:pt x="16438" y="5862"/>
                  <a:pt x="16446" y="5854"/>
                </a:cubicBezTo>
              </a:path>
              <a:path w="1216" h="993">
                <a:moveTo>
                  <a:pt x="16892" y="5110"/>
                </a:moveTo>
                <a:cubicBezTo>
                  <a:pt x="16885" y="5191"/>
                  <a:pt x="16852" y="5257"/>
                  <a:pt x="16842" y="5333"/>
                </a:cubicBezTo>
                <a:cubicBezTo>
                  <a:pt x="16833" y="5403"/>
                  <a:pt x="16810" y="5513"/>
                  <a:pt x="16818" y="5581"/>
                </a:cubicBezTo>
                <a:cubicBezTo>
                  <a:pt x="16834" y="5708"/>
                  <a:pt x="16918" y="5816"/>
                  <a:pt x="17041" y="5854"/>
                </a:cubicBezTo>
                <a:cubicBezTo>
                  <a:pt x="17114" y="5876"/>
                  <a:pt x="17196" y="5839"/>
                  <a:pt x="17264" y="5829"/>
                </a:cubicBezTo>
                <a:cubicBezTo>
                  <a:pt x="17354" y="5816"/>
                  <a:pt x="17421" y="5768"/>
                  <a:pt x="17487" y="5705"/>
                </a:cubicBezTo>
                <a:cubicBezTo>
                  <a:pt x="17548" y="5647"/>
                  <a:pt x="17595" y="5566"/>
                  <a:pt x="17611" y="5482"/>
                </a:cubicBezTo>
                <a:cubicBezTo>
                  <a:pt x="17624" y="5414"/>
                  <a:pt x="17608" y="5321"/>
                  <a:pt x="17587" y="5259"/>
                </a:cubicBezTo>
                <a:cubicBezTo>
                  <a:pt x="17564" y="5189"/>
                  <a:pt x="17499" y="5103"/>
                  <a:pt x="17438" y="5060"/>
                </a:cubicBezTo>
                <a:cubicBezTo>
                  <a:pt x="17382" y="5020"/>
                  <a:pt x="17279" y="4997"/>
                  <a:pt x="17214" y="4986"/>
                </a:cubicBezTo>
                <a:cubicBezTo>
                  <a:pt x="17137" y="4973"/>
                  <a:pt x="17093" y="4983"/>
                  <a:pt x="17041" y="5035"/>
                </a:cubicBezTo>
                <a:cubicBezTo>
                  <a:pt x="17018" y="5058"/>
                  <a:pt x="17010" y="5062"/>
                  <a:pt x="17016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18"/>
          <p:cNvSpPr/>
          <p:nvPr/>
        </p:nvSpPr>
        <p:spPr>
          <a:xfrm>
            <a:off x="3946680" y="2394000"/>
            <a:ext cx="1903320" cy="660240"/>
          </a:xfrm>
          <a:custGeom>
            <a:avLst/>
            <a:gdLst/>
            <a:ahLst/>
            <a:rect l="l" t="t" r="r" b="b"/>
            <a:pathLst>
              <a:path w="5284" h="1836">
                <a:moveTo>
                  <a:pt x="11410" y="6747"/>
                </a:moveTo>
                <a:cubicBezTo>
                  <a:pt x="11373" y="6759"/>
                  <a:pt x="11385" y="6852"/>
                  <a:pt x="11385" y="6945"/>
                </a:cubicBezTo>
                <a:cubicBezTo>
                  <a:pt x="11385" y="6999"/>
                  <a:pt x="11395" y="7091"/>
                  <a:pt x="11410" y="7144"/>
                </a:cubicBezTo>
                <a:cubicBezTo>
                  <a:pt x="11429" y="7212"/>
                  <a:pt x="11451" y="7271"/>
                  <a:pt x="11460" y="7342"/>
                </a:cubicBezTo>
              </a:path>
              <a:path w="5284" h="1836">
                <a:moveTo>
                  <a:pt x="10964" y="7466"/>
                </a:moveTo>
                <a:cubicBezTo>
                  <a:pt x="11107" y="7466"/>
                  <a:pt x="11276" y="7433"/>
                  <a:pt x="11410" y="7441"/>
                </a:cubicBezTo>
                <a:cubicBezTo>
                  <a:pt x="11503" y="7447"/>
                  <a:pt x="11587" y="7466"/>
                  <a:pt x="11683" y="7466"/>
                </a:cubicBezTo>
                <a:cubicBezTo>
                  <a:pt x="11724" y="7466"/>
                  <a:pt x="11732" y="7466"/>
                  <a:pt x="11757" y="7466"/>
                </a:cubicBezTo>
              </a:path>
              <a:path w="5284" h="1836">
                <a:moveTo>
                  <a:pt x="11286" y="7714"/>
                </a:moveTo>
                <a:cubicBezTo>
                  <a:pt x="11314" y="7783"/>
                  <a:pt x="11345" y="7746"/>
                  <a:pt x="11410" y="7689"/>
                </a:cubicBezTo>
                <a:cubicBezTo>
                  <a:pt x="11450" y="7653"/>
                  <a:pt x="11525" y="7597"/>
                  <a:pt x="11584" y="7615"/>
                </a:cubicBezTo>
                <a:cubicBezTo>
                  <a:pt x="11653" y="7636"/>
                  <a:pt x="11633" y="7740"/>
                  <a:pt x="11633" y="7789"/>
                </a:cubicBezTo>
                <a:cubicBezTo>
                  <a:pt x="11633" y="7883"/>
                  <a:pt x="11582" y="7916"/>
                  <a:pt x="11534" y="7987"/>
                </a:cubicBezTo>
                <a:cubicBezTo>
                  <a:pt x="11489" y="8054"/>
                  <a:pt x="11442" y="8103"/>
                  <a:pt x="11385" y="8161"/>
                </a:cubicBezTo>
                <a:cubicBezTo>
                  <a:pt x="11356" y="8191"/>
                  <a:pt x="11342" y="8202"/>
                  <a:pt x="11311" y="8210"/>
                </a:cubicBezTo>
                <a:cubicBezTo>
                  <a:pt x="11346" y="8176"/>
                  <a:pt x="11378" y="8117"/>
                  <a:pt x="11435" y="8136"/>
                </a:cubicBezTo>
                <a:cubicBezTo>
                  <a:pt x="11494" y="8156"/>
                  <a:pt x="11563" y="8182"/>
                  <a:pt x="11633" y="8186"/>
                </a:cubicBezTo>
                <a:cubicBezTo>
                  <a:pt x="11703" y="8190"/>
                  <a:pt x="11759" y="8210"/>
                  <a:pt x="11832" y="8210"/>
                </a:cubicBezTo>
                <a:cubicBezTo>
                  <a:pt x="11881" y="8210"/>
                  <a:pt x="11898" y="8210"/>
                  <a:pt x="11931" y="8210"/>
                </a:cubicBezTo>
              </a:path>
              <a:path w="5284" h="1836">
                <a:moveTo>
                  <a:pt x="12179" y="7417"/>
                </a:moveTo>
                <a:cubicBezTo>
                  <a:pt x="12187" y="7484"/>
                  <a:pt x="12229" y="7571"/>
                  <a:pt x="12204" y="7640"/>
                </a:cubicBezTo>
                <a:cubicBezTo>
                  <a:pt x="12176" y="7668"/>
                  <a:pt x="12167" y="7681"/>
                  <a:pt x="12179" y="7714"/>
                </a:cubicBezTo>
              </a:path>
              <a:path w="5284" h="1836">
                <a:moveTo>
                  <a:pt x="12626" y="6648"/>
                </a:moveTo>
                <a:cubicBezTo>
                  <a:pt x="12656" y="6731"/>
                  <a:pt x="12650" y="6806"/>
                  <a:pt x="12650" y="6896"/>
                </a:cubicBezTo>
                <a:cubicBezTo>
                  <a:pt x="12650" y="6995"/>
                  <a:pt x="12660" y="7077"/>
                  <a:pt x="12675" y="7169"/>
                </a:cubicBezTo>
                <a:cubicBezTo>
                  <a:pt x="12685" y="7228"/>
                  <a:pt x="12670" y="7265"/>
                  <a:pt x="12650" y="7317"/>
                </a:cubicBezTo>
              </a:path>
              <a:path w="5284" h="1836">
                <a:moveTo>
                  <a:pt x="12477" y="7268"/>
                </a:moveTo>
                <a:cubicBezTo>
                  <a:pt x="12563" y="7258"/>
                  <a:pt x="12636" y="7243"/>
                  <a:pt x="12725" y="7243"/>
                </a:cubicBezTo>
                <a:cubicBezTo>
                  <a:pt x="12810" y="7243"/>
                  <a:pt x="12871" y="7239"/>
                  <a:pt x="12948" y="7268"/>
                </a:cubicBezTo>
              </a:path>
              <a:path w="5284" h="1836">
                <a:moveTo>
                  <a:pt x="12725" y="7640"/>
                </a:moveTo>
                <a:cubicBezTo>
                  <a:pt x="12680" y="7724"/>
                  <a:pt x="12596" y="7796"/>
                  <a:pt x="12700" y="7863"/>
                </a:cubicBezTo>
                <a:cubicBezTo>
                  <a:pt x="12765" y="7905"/>
                  <a:pt x="12848" y="7888"/>
                  <a:pt x="12923" y="7888"/>
                </a:cubicBezTo>
                <a:cubicBezTo>
                  <a:pt x="12968" y="7888"/>
                  <a:pt x="12981" y="7891"/>
                  <a:pt x="12998" y="7863"/>
                </a:cubicBezTo>
              </a:path>
              <a:path w="5284" h="1836">
                <a:moveTo>
                  <a:pt x="12998" y="7565"/>
                </a:moveTo>
                <a:cubicBezTo>
                  <a:pt x="12976" y="7646"/>
                  <a:pt x="12952" y="7729"/>
                  <a:pt x="12948" y="7813"/>
                </a:cubicBezTo>
                <a:cubicBezTo>
                  <a:pt x="12944" y="7919"/>
                  <a:pt x="12959" y="8009"/>
                  <a:pt x="12973" y="8111"/>
                </a:cubicBezTo>
                <a:cubicBezTo>
                  <a:pt x="12980" y="8164"/>
                  <a:pt x="12991" y="8254"/>
                  <a:pt x="13047" y="8285"/>
                </a:cubicBezTo>
                <a:cubicBezTo>
                  <a:pt x="13055" y="8285"/>
                  <a:pt x="13064" y="8285"/>
                  <a:pt x="13072" y="8285"/>
                </a:cubicBezTo>
              </a:path>
              <a:path w="5284" h="1836">
                <a:moveTo>
                  <a:pt x="13395" y="7491"/>
                </a:moveTo>
                <a:cubicBezTo>
                  <a:pt x="13395" y="7586"/>
                  <a:pt x="13377" y="7700"/>
                  <a:pt x="13419" y="7789"/>
                </a:cubicBezTo>
                <a:cubicBezTo>
                  <a:pt x="13442" y="7811"/>
                  <a:pt x="13447" y="7819"/>
                  <a:pt x="13469" y="7813"/>
                </a:cubicBezTo>
              </a:path>
              <a:path w="5284" h="1836">
                <a:moveTo>
                  <a:pt x="13965" y="6796"/>
                </a:moveTo>
                <a:cubicBezTo>
                  <a:pt x="13965" y="6945"/>
                  <a:pt x="13936" y="7128"/>
                  <a:pt x="13990" y="7268"/>
                </a:cubicBezTo>
                <a:cubicBezTo>
                  <a:pt x="14018" y="7342"/>
                  <a:pt x="14033" y="7386"/>
                  <a:pt x="14039" y="7466"/>
                </a:cubicBezTo>
              </a:path>
              <a:path w="5284" h="1836">
                <a:moveTo>
                  <a:pt x="13841" y="7417"/>
                </a:moveTo>
                <a:cubicBezTo>
                  <a:pt x="13945" y="7396"/>
                  <a:pt x="14033" y="7392"/>
                  <a:pt x="14139" y="7392"/>
                </a:cubicBezTo>
                <a:cubicBezTo>
                  <a:pt x="14230" y="7392"/>
                  <a:pt x="14271" y="7392"/>
                  <a:pt x="14337" y="7392"/>
                </a:cubicBezTo>
              </a:path>
              <a:path w="5284" h="1836">
                <a:moveTo>
                  <a:pt x="14188" y="7689"/>
                </a:moveTo>
                <a:cubicBezTo>
                  <a:pt x="14126" y="7752"/>
                  <a:pt x="14035" y="7814"/>
                  <a:pt x="14114" y="7913"/>
                </a:cubicBezTo>
                <a:cubicBezTo>
                  <a:pt x="14171" y="7985"/>
                  <a:pt x="14335" y="8012"/>
                  <a:pt x="14412" y="7987"/>
                </a:cubicBezTo>
                <a:cubicBezTo>
                  <a:pt x="14536" y="7948"/>
                  <a:pt x="14546" y="7860"/>
                  <a:pt x="14536" y="7764"/>
                </a:cubicBezTo>
                <a:cubicBezTo>
                  <a:pt x="14529" y="7698"/>
                  <a:pt x="14496" y="7656"/>
                  <a:pt x="14436" y="7615"/>
                </a:cubicBezTo>
                <a:cubicBezTo>
                  <a:pt x="14386" y="7581"/>
                  <a:pt x="14273" y="7573"/>
                  <a:pt x="14213" y="7590"/>
                </a:cubicBezTo>
                <a:cubicBezTo>
                  <a:pt x="14144" y="7609"/>
                  <a:pt x="14099" y="7656"/>
                  <a:pt x="14064" y="7714"/>
                </a:cubicBezTo>
                <a:cubicBezTo>
                  <a:pt x="14026" y="7777"/>
                  <a:pt x="14030" y="7832"/>
                  <a:pt x="14064" y="7888"/>
                </a:cubicBezTo>
              </a:path>
              <a:path w="5284" h="1836">
                <a:moveTo>
                  <a:pt x="14312" y="7962"/>
                </a:moveTo>
                <a:cubicBezTo>
                  <a:pt x="14220" y="8021"/>
                  <a:pt x="14187" y="8040"/>
                  <a:pt x="14139" y="8136"/>
                </a:cubicBezTo>
                <a:cubicBezTo>
                  <a:pt x="14103" y="8210"/>
                  <a:pt x="14115" y="8246"/>
                  <a:pt x="14163" y="8310"/>
                </a:cubicBezTo>
                <a:cubicBezTo>
                  <a:pt x="14210" y="8373"/>
                  <a:pt x="14304" y="8393"/>
                  <a:pt x="14362" y="8434"/>
                </a:cubicBezTo>
                <a:cubicBezTo>
                  <a:pt x="14465" y="8507"/>
                  <a:pt x="14501" y="8491"/>
                  <a:pt x="14610" y="8434"/>
                </a:cubicBezTo>
                <a:cubicBezTo>
                  <a:pt x="14686" y="8394"/>
                  <a:pt x="14695" y="8398"/>
                  <a:pt x="14734" y="8310"/>
                </a:cubicBezTo>
                <a:cubicBezTo>
                  <a:pt x="14766" y="8237"/>
                  <a:pt x="14730" y="8163"/>
                  <a:pt x="14660" y="8111"/>
                </a:cubicBezTo>
                <a:cubicBezTo>
                  <a:pt x="14608" y="8072"/>
                  <a:pt x="14560" y="8067"/>
                  <a:pt x="14511" y="8037"/>
                </a:cubicBezTo>
              </a:path>
              <a:path w="5284" h="1836">
                <a:moveTo>
                  <a:pt x="14908" y="7541"/>
                </a:moveTo>
                <a:cubicBezTo>
                  <a:pt x="14899" y="7636"/>
                  <a:pt x="14870" y="7697"/>
                  <a:pt x="14908" y="7789"/>
                </a:cubicBezTo>
                <a:cubicBezTo>
                  <a:pt x="14929" y="7841"/>
                  <a:pt x="14935" y="7851"/>
                  <a:pt x="14982" y="7863"/>
                </a:cubicBezTo>
              </a:path>
              <a:path w="5284" h="1836">
                <a:moveTo>
                  <a:pt x="15304" y="6871"/>
                </a:moveTo>
                <a:cubicBezTo>
                  <a:pt x="15319" y="6970"/>
                  <a:pt x="15309" y="7096"/>
                  <a:pt x="15329" y="7193"/>
                </a:cubicBezTo>
                <a:cubicBezTo>
                  <a:pt x="15344" y="7265"/>
                  <a:pt x="15390" y="7323"/>
                  <a:pt x="15404" y="7392"/>
                </a:cubicBezTo>
              </a:path>
              <a:path w="5284" h="1836">
                <a:moveTo>
                  <a:pt x="15280" y="7516"/>
                </a:moveTo>
                <a:cubicBezTo>
                  <a:pt x="15352" y="7516"/>
                  <a:pt x="15414" y="7497"/>
                  <a:pt x="15478" y="7491"/>
                </a:cubicBezTo>
                <a:cubicBezTo>
                  <a:pt x="15599" y="7480"/>
                  <a:pt x="15728" y="7491"/>
                  <a:pt x="15850" y="7491"/>
                </a:cubicBezTo>
              </a:path>
              <a:path w="5284" h="1836">
                <a:moveTo>
                  <a:pt x="15553" y="7665"/>
                </a:moveTo>
                <a:cubicBezTo>
                  <a:pt x="15547" y="7759"/>
                  <a:pt x="15510" y="7867"/>
                  <a:pt x="15528" y="7962"/>
                </a:cubicBezTo>
                <a:cubicBezTo>
                  <a:pt x="15544" y="8043"/>
                  <a:pt x="15546" y="8135"/>
                  <a:pt x="15577" y="8210"/>
                </a:cubicBezTo>
                <a:cubicBezTo>
                  <a:pt x="15591" y="8244"/>
                  <a:pt x="15627" y="8370"/>
                  <a:pt x="15677" y="8359"/>
                </a:cubicBezTo>
                <a:cubicBezTo>
                  <a:pt x="15685" y="8351"/>
                  <a:pt x="15693" y="8342"/>
                  <a:pt x="15701" y="8334"/>
                </a:cubicBezTo>
              </a:path>
              <a:path w="5284" h="1836">
                <a:moveTo>
                  <a:pt x="15900" y="7838"/>
                </a:moveTo>
                <a:cubicBezTo>
                  <a:pt x="15887" y="7932"/>
                  <a:pt x="15809" y="7962"/>
                  <a:pt x="15776" y="8062"/>
                </a:cubicBezTo>
                <a:cubicBezTo>
                  <a:pt x="15751" y="8138"/>
                  <a:pt x="15821" y="8195"/>
                  <a:pt x="15850" y="8235"/>
                </a:cubicBezTo>
                <a:cubicBezTo>
                  <a:pt x="15910" y="8317"/>
                  <a:pt x="15914" y="8295"/>
                  <a:pt x="15999" y="8334"/>
                </a:cubicBezTo>
                <a:cubicBezTo>
                  <a:pt x="16085" y="8374"/>
                  <a:pt x="16138" y="8344"/>
                  <a:pt x="16222" y="8285"/>
                </a:cubicBezTo>
                <a:cubicBezTo>
                  <a:pt x="16230" y="8277"/>
                  <a:pt x="16239" y="8268"/>
                  <a:pt x="16247" y="8260"/>
                </a:cubicBezTo>
                <a:cubicBezTo>
                  <a:pt x="16219" y="8211"/>
                  <a:pt x="16193" y="8144"/>
                  <a:pt x="16123" y="8161"/>
                </a:cubicBezTo>
                <a:cubicBezTo>
                  <a:pt x="16045" y="8179"/>
                  <a:pt x="15997" y="8236"/>
                  <a:pt x="15974" y="8310"/>
                </a:cubicBezTo>
                <a:cubicBezTo>
                  <a:pt x="15974" y="8318"/>
                  <a:pt x="15974" y="8326"/>
                  <a:pt x="15974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indicated term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(3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/(4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;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5n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– 2n + 10;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4"/>
          <p:cNvSpPr/>
          <p:nvPr/>
        </p:nvSpPr>
        <p:spPr>
          <a:xfrm>
            <a:off x="955800" y="3402000"/>
            <a:ext cx="3170160" cy="2938320"/>
          </a:xfrm>
          <a:custGeom>
            <a:avLst/>
            <a:gdLst/>
            <a:ahLst/>
            <a:rect l="l" t="t" r="r" b="b"/>
            <a:pathLst>
              <a:path w="8807" h="8161">
                <a:moveTo>
                  <a:pt x="2778" y="10740"/>
                </a:moveTo>
                <a:cubicBezTo>
                  <a:pt x="2778" y="10829"/>
                  <a:pt x="2775" y="10929"/>
                  <a:pt x="2753" y="11013"/>
                </a:cubicBezTo>
                <a:cubicBezTo>
                  <a:pt x="2732" y="11092"/>
                  <a:pt x="2684" y="11154"/>
                  <a:pt x="2679" y="11237"/>
                </a:cubicBezTo>
                <a:cubicBezTo>
                  <a:pt x="2676" y="11295"/>
                  <a:pt x="2660" y="11304"/>
                  <a:pt x="2654" y="11361"/>
                </a:cubicBezTo>
                <a:cubicBezTo>
                  <a:pt x="2661" y="11264"/>
                  <a:pt x="2685" y="11178"/>
                  <a:pt x="2704" y="11088"/>
                </a:cubicBezTo>
                <a:cubicBezTo>
                  <a:pt x="2733" y="10953"/>
                  <a:pt x="2755" y="10823"/>
                  <a:pt x="2778" y="10691"/>
                </a:cubicBezTo>
                <a:cubicBezTo>
                  <a:pt x="2798" y="10573"/>
                  <a:pt x="2840" y="10461"/>
                  <a:pt x="2853" y="10344"/>
                </a:cubicBezTo>
                <a:cubicBezTo>
                  <a:pt x="2866" y="10220"/>
                  <a:pt x="2891" y="10091"/>
                  <a:pt x="2927" y="9971"/>
                </a:cubicBezTo>
                <a:cubicBezTo>
                  <a:pt x="2946" y="9906"/>
                  <a:pt x="2950" y="9802"/>
                  <a:pt x="2977" y="9748"/>
                </a:cubicBezTo>
                <a:cubicBezTo>
                  <a:pt x="2979" y="9743"/>
                  <a:pt x="3037" y="9697"/>
                  <a:pt x="3051" y="9674"/>
                </a:cubicBezTo>
                <a:cubicBezTo>
                  <a:pt x="3129" y="9713"/>
                  <a:pt x="3136" y="9720"/>
                  <a:pt x="3175" y="9823"/>
                </a:cubicBezTo>
                <a:cubicBezTo>
                  <a:pt x="3212" y="9920"/>
                  <a:pt x="3237" y="10017"/>
                  <a:pt x="3249" y="10120"/>
                </a:cubicBezTo>
                <a:cubicBezTo>
                  <a:pt x="3261" y="10226"/>
                  <a:pt x="3278" y="10339"/>
                  <a:pt x="3299" y="10443"/>
                </a:cubicBezTo>
                <a:cubicBezTo>
                  <a:pt x="3324" y="10567"/>
                  <a:pt x="3351" y="10692"/>
                  <a:pt x="3373" y="10815"/>
                </a:cubicBezTo>
                <a:cubicBezTo>
                  <a:pt x="3394" y="10929"/>
                  <a:pt x="3431" y="11059"/>
                  <a:pt x="3473" y="11162"/>
                </a:cubicBezTo>
                <a:cubicBezTo>
                  <a:pt x="3494" y="11213"/>
                  <a:pt x="3522" y="11262"/>
                  <a:pt x="3547" y="11311"/>
                </a:cubicBezTo>
              </a:path>
              <a:path w="8807" h="8161">
                <a:moveTo>
                  <a:pt x="3026" y="10964"/>
                </a:moveTo>
                <a:cubicBezTo>
                  <a:pt x="2973" y="10911"/>
                  <a:pt x="3125" y="10981"/>
                  <a:pt x="3175" y="10988"/>
                </a:cubicBezTo>
                <a:cubicBezTo>
                  <a:pt x="3250" y="10988"/>
                  <a:pt x="3291" y="10988"/>
                  <a:pt x="3349" y="10988"/>
                </a:cubicBezTo>
              </a:path>
              <a:path w="8807" h="8161">
                <a:moveTo>
                  <a:pt x="3820" y="11038"/>
                </a:moveTo>
                <a:cubicBezTo>
                  <a:pt x="3890" y="11038"/>
                  <a:pt x="3963" y="11023"/>
                  <a:pt x="4018" y="11063"/>
                </a:cubicBezTo>
                <a:cubicBezTo>
                  <a:pt x="4090" y="11116"/>
                  <a:pt x="4008" y="11173"/>
                  <a:pt x="3969" y="11212"/>
                </a:cubicBezTo>
                <a:cubicBezTo>
                  <a:pt x="3944" y="11237"/>
                  <a:pt x="3936" y="11245"/>
                  <a:pt x="3919" y="11261"/>
                </a:cubicBezTo>
                <a:cubicBezTo>
                  <a:pt x="3996" y="11261"/>
                  <a:pt x="4052" y="11265"/>
                  <a:pt x="4118" y="11311"/>
                </a:cubicBezTo>
                <a:cubicBezTo>
                  <a:pt x="4167" y="11345"/>
                  <a:pt x="4183" y="11402"/>
                  <a:pt x="4167" y="11460"/>
                </a:cubicBezTo>
                <a:cubicBezTo>
                  <a:pt x="4154" y="11508"/>
                  <a:pt x="4088" y="11572"/>
                  <a:pt x="4043" y="11584"/>
                </a:cubicBezTo>
                <a:cubicBezTo>
                  <a:pt x="3986" y="11600"/>
                  <a:pt x="3926" y="11585"/>
                  <a:pt x="3894" y="11534"/>
                </a:cubicBezTo>
                <a:cubicBezTo>
                  <a:pt x="3873" y="11491"/>
                  <a:pt x="3860" y="11479"/>
                  <a:pt x="3894" y="11460"/>
                </a:cubicBezTo>
              </a:path>
              <a:path w="8807" h="8161">
                <a:moveTo>
                  <a:pt x="4465" y="10939"/>
                </a:moveTo>
                <a:cubicBezTo>
                  <a:pt x="4523" y="10939"/>
                  <a:pt x="4580" y="10939"/>
                  <a:pt x="4638" y="10939"/>
                </a:cubicBezTo>
              </a:path>
              <a:path w="8807" h="8161">
                <a:moveTo>
                  <a:pt x="4514" y="11112"/>
                </a:moveTo>
                <a:cubicBezTo>
                  <a:pt x="4594" y="11134"/>
                  <a:pt x="4599" y="11150"/>
                  <a:pt x="4663" y="11112"/>
                </a:cubicBezTo>
              </a:path>
              <a:path w="8807" h="8161">
                <a:moveTo>
                  <a:pt x="5308" y="10120"/>
                </a:moveTo>
                <a:cubicBezTo>
                  <a:pt x="5267" y="10161"/>
                  <a:pt x="5310" y="10078"/>
                  <a:pt x="5358" y="10046"/>
                </a:cubicBezTo>
                <a:cubicBezTo>
                  <a:pt x="5399" y="10019"/>
                  <a:pt x="5447" y="9975"/>
                  <a:pt x="5507" y="9971"/>
                </a:cubicBezTo>
                <a:cubicBezTo>
                  <a:pt x="5581" y="9967"/>
                  <a:pt x="5593" y="10006"/>
                  <a:pt x="5606" y="10071"/>
                </a:cubicBezTo>
                <a:cubicBezTo>
                  <a:pt x="5613" y="10108"/>
                  <a:pt x="5553" y="10244"/>
                  <a:pt x="5531" y="10269"/>
                </a:cubicBezTo>
                <a:cubicBezTo>
                  <a:pt x="5515" y="10287"/>
                  <a:pt x="5450" y="10331"/>
                  <a:pt x="5432" y="10344"/>
                </a:cubicBezTo>
                <a:cubicBezTo>
                  <a:pt x="5416" y="10352"/>
                  <a:pt x="5399" y="10360"/>
                  <a:pt x="5383" y="10368"/>
                </a:cubicBezTo>
                <a:cubicBezTo>
                  <a:pt x="5453" y="10360"/>
                  <a:pt x="5461" y="10362"/>
                  <a:pt x="5531" y="10368"/>
                </a:cubicBezTo>
                <a:cubicBezTo>
                  <a:pt x="5667" y="10381"/>
                  <a:pt x="5605" y="10412"/>
                  <a:pt x="5680" y="10492"/>
                </a:cubicBezTo>
                <a:cubicBezTo>
                  <a:pt x="5738" y="10554"/>
                  <a:pt x="5765" y="10636"/>
                  <a:pt x="5779" y="10740"/>
                </a:cubicBezTo>
                <a:cubicBezTo>
                  <a:pt x="5792" y="10840"/>
                  <a:pt x="5769" y="10923"/>
                  <a:pt x="5730" y="11013"/>
                </a:cubicBezTo>
                <a:cubicBezTo>
                  <a:pt x="5701" y="11079"/>
                  <a:pt x="5631" y="11149"/>
                  <a:pt x="5556" y="11162"/>
                </a:cubicBezTo>
                <a:cubicBezTo>
                  <a:pt x="5498" y="11172"/>
                  <a:pt x="5401" y="11174"/>
                  <a:pt x="5358" y="11137"/>
                </a:cubicBezTo>
                <a:cubicBezTo>
                  <a:pt x="5285" y="11074"/>
                  <a:pt x="5283" y="11056"/>
                  <a:pt x="5283" y="10964"/>
                </a:cubicBezTo>
              </a:path>
              <a:path w="8807" h="8161">
                <a:moveTo>
                  <a:pt x="5904" y="9674"/>
                </a:moveTo>
                <a:cubicBezTo>
                  <a:pt x="5924" y="9716"/>
                  <a:pt x="5950" y="9658"/>
                  <a:pt x="5978" y="9624"/>
                </a:cubicBezTo>
                <a:cubicBezTo>
                  <a:pt x="6012" y="9583"/>
                  <a:pt x="6075" y="9556"/>
                  <a:pt x="6127" y="9550"/>
                </a:cubicBezTo>
                <a:cubicBezTo>
                  <a:pt x="6201" y="9542"/>
                  <a:pt x="6215" y="9612"/>
                  <a:pt x="6201" y="9674"/>
                </a:cubicBezTo>
                <a:cubicBezTo>
                  <a:pt x="6181" y="9760"/>
                  <a:pt x="6153" y="9762"/>
                  <a:pt x="6077" y="9773"/>
                </a:cubicBezTo>
                <a:cubicBezTo>
                  <a:pt x="6149" y="9773"/>
                  <a:pt x="6187" y="9777"/>
                  <a:pt x="6226" y="9823"/>
                </a:cubicBezTo>
                <a:cubicBezTo>
                  <a:pt x="6264" y="9868"/>
                  <a:pt x="6330" y="9912"/>
                  <a:pt x="6350" y="9971"/>
                </a:cubicBezTo>
                <a:cubicBezTo>
                  <a:pt x="6372" y="10036"/>
                  <a:pt x="6298" y="10112"/>
                  <a:pt x="6251" y="10120"/>
                </a:cubicBezTo>
                <a:cubicBezTo>
                  <a:pt x="6199" y="10129"/>
                  <a:pt x="6155" y="10138"/>
                  <a:pt x="6102" y="10145"/>
                </a:cubicBezTo>
              </a:path>
              <a:path w="8807" h="8161">
                <a:moveTo>
                  <a:pt x="5308" y="11286"/>
                </a:moveTo>
                <a:cubicBezTo>
                  <a:pt x="5402" y="11266"/>
                  <a:pt x="5489" y="11278"/>
                  <a:pt x="5581" y="11261"/>
                </a:cubicBezTo>
                <a:cubicBezTo>
                  <a:pt x="5684" y="11242"/>
                  <a:pt x="5796" y="11220"/>
                  <a:pt x="5904" y="11237"/>
                </a:cubicBezTo>
                <a:cubicBezTo>
                  <a:pt x="6013" y="11255"/>
                  <a:pt x="6113" y="11261"/>
                  <a:pt x="6226" y="11261"/>
                </a:cubicBezTo>
                <a:cubicBezTo>
                  <a:pt x="6287" y="11261"/>
                  <a:pt x="6349" y="11247"/>
                  <a:pt x="6375" y="11286"/>
                </a:cubicBezTo>
              </a:path>
              <a:path w="8807" h="8161">
                <a:moveTo>
                  <a:pt x="5655" y="11733"/>
                </a:moveTo>
                <a:cubicBezTo>
                  <a:pt x="5613" y="11779"/>
                  <a:pt x="5524" y="11866"/>
                  <a:pt x="5507" y="11931"/>
                </a:cubicBezTo>
                <a:cubicBezTo>
                  <a:pt x="5490" y="11996"/>
                  <a:pt x="5476" y="12077"/>
                  <a:pt x="5556" y="12129"/>
                </a:cubicBezTo>
                <a:cubicBezTo>
                  <a:pt x="5602" y="12158"/>
                  <a:pt x="5698" y="12154"/>
                  <a:pt x="5755" y="12154"/>
                </a:cubicBezTo>
                <a:cubicBezTo>
                  <a:pt x="5861" y="12154"/>
                  <a:pt x="5910" y="12133"/>
                  <a:pt x="6003" y="12080"/>
                </a:cubicBezTo>
              </a:path>
              <a:path w="8807" h="8161">
                <a:moveTo>
                  <a:pt x="6052" y="11658"/>
                </a:moveTo>
                <a:cubicBezTo>
                  <a:pt x="6022" y="11773"/>
                  <a:pt x="6003" y="11862"/>
                  <a:pt x="6003" y="11981"/>
                </a:cubicBezTo>
                <a:cubicBezTo>
                  <a:pt x="6003" y="12109"/>
                  <a:pt x="5982" y="12226"/>
                  <a:pt x="5978" y="12353"/>
                </a:cubicBezTo>
                <a:cubicBezTo>
                  <a:pt x="5973" y="12537"/>
                  <a:pt x="5974" y="12723"/>
                  <a:pt x="6003" y="12898"/>
                </a:cubicBezTo>
                <a:cubicBezTo>
                  <a:pt x="6017" y="12984"/>
                  <a:pt x="5953" y="13040"/>
                  <a:pt x="6052" y="12923"/>
                </a:cubicBezTo>
              </a:path>
              <a:path w="8807" h="8161">
                <a:moveTo>
                  <a:pt x="6375" y="11509"/>
                </a:moveTo>
                <a:cubicBezTo>
                  <a:pt x="6441" y="11485"/>
                  <a:pt x="6536" y="11466"/>
                  <a:pt x="6573" y="11559"/>
                </a:cubicBezTo>
                <a:cubicBezTo>
                  <a:pt x="6597" y="11619"/>
                  <a:pt x="6524" y="11694"/>
                  <a:pt x="6474" y="11708"/>
                </a:cubicBezTo>
                <a:cubicBezTo>
                  <a:pt x="6457" y="11708"/>
                  <a:pt x="6441" y="11708"/>
                  <a:pt x="6424" y="11708"/>
                </a:cubicBezTo>
                <a:cubicBezTo>
                  <a:pt x="6486" y="11739"/>
                  <a:pt x="6557" y="11737"/>
                  <a:pt x="6623" y="11782"/>
                </a:cubicBezTo>
                <a:cubicBezTo>
                  <a:pt x="6662" y="11809"/>
                  <a:pt x="6709" y="11855"/>
                  <a:pt x="6697" y="11906"/>
                </a:cubicBezTo>
                <a:cubicBezTo>
                  <a:pt x="6680" y="11979"/>
                  <a:pt x="6611" y="11995"/>
                  <a:pt x="6548" y="12005"/>
                </a:cubicBezTo>
                <a:cubicBezTo>
                  <a:pt x="6518" y="12010"/>
                  <a:pt x="6381" y="12004"/>
                  <a:pt x="6375" y="11956"/>
                </a:cubicBezTo>
                <a:cubicBezTo>
                  <a:pt x="6383" y="11939"/>
                  <a:pt x="6392" y="11923"/>
                  <a:pt x="6400" y="11906"/>
                </a:cubicBezTo>
              </a:path>
              <a:path w="8807" h="8161">
                <a:moveTo>
                  <a:pt x="6970" y="11212"/>
                </a:moveTo>
                <a:cubicBezTo>
                  <a:pt x="7044" y="11212"/>
                  <a:pt x="7119" y="11212"/>
                  <a:pt x="7193" y="11212"/>
                </a:cubicBezTo>
              </a:path>
              <a:path w="8807" h="8161">
                <a:moveTo>
                  <a:pt x="7069" y="11361"/>
                </a:moveTo>
                <a:cubicBezTo>
                  <a:pt x="7136" y="11383"/>
                  <a:pt x="7154" y="11394"/>
                  <a:pt x="7193" y="11361"/>
                </a:cubicBezTo>
              </a:path>
              <a:path w="8807" h="8161">
                <a:moveTo>
                  <a:pt x="7714" y="10269"/>
                </a:moveTo>
                <a:cubicBezTo>
                  <a:pt x="7790" y="10118"/>
                  <a:pt x="7734" y="10254"/>
                  <a:pt x="7714" y="10294"/>
                </a:cubicBezTo>
                <a:cubicBezTo>
                  <a:pt x="7730" y="10238"/>
                  <a:pt x="7746" y="10174"/>
                  <a:pt x="7764" y="10120"/>
                </a:cubicBezTo>
                <a:cubicBezTo>
                  <a:pt x="7786" y="10055"/>
                  <a:pt x="7838" y="10013"/>
                  <a:pt x="7863" y="9971"/>
                </a:cubicBezTo>
                <a:cubicBezTo>
                  <a:pt x="7877" y="9947"/>
                  <a:pt x="7954" y="9841"/>
                  <a:pt x="7987" y="9847"/>
                </a:cubicBezTo>
                <a:cubicBezTo>
                  <a:pt x="8060" y="9859"/>
                  <a:pt x="8100" y="9939"/>
                  <a:pt x="8111" y="9996"/>
                </a:cubicBezTo>
                <a:cubicBezTo>
                  <a:pt x="8142" y="10163"/>
                  <a:pt x="8099" y="10355"/>
                  <a:pt x="8086" y="10517"/>
                </a:cubicBezTo>
                <a:cubicBezTo>
                  <a:pt x="8072" y="10694"/>
                  <a:pt x="8066" y="10885"/>
                  <a:pt x="7962" y="11038"/>
                </a:cubicBezTo>
                <a:cubicBezTo>
                  <a:pt x="7938" y="11063"/>
                  <a:pt x="7930" y="11072"/>
                  <a:pt x="7913" y="11088"/>
                </a:cubicBezTo>
                <a:cubicBezTo>
                  <a:pt x="7854" y="11014"/>
                  <a:pt x="7863" y="10958"/>
                  <a:pt x="7863" y="10864"/>
                </a:cubicBezTo>
                <a:cubicBezTo>
                  <a:pt x="7863" y="10783"/>
                  <a:pt x="7858" y="10718"/>
                  <a:pt x="7888" y="10641"/>
                </a:cubicBezTo>
                <a:cubicBezTo>
                  <a:pt x="7896" y="10625"/>
                  <a:pt x="7905" y="10608"/>
                  <a:pt x="7913" y="10592"/>
                </a:cubicBezTo>
                <a:cubicBezTo>
                  <a:pt x="7944" y="10653"/>
                  <a:pt x="7978" y="10725"/>
                  <a:pt x="7987" y="10790"/>
                </a:cubicBezTo>
                <a:cubicBezTo>
                  <a:pt x="7997" y="10870"/>
                  <a:pt x="8015" y="10967"/>
                  <a:pt x="8062" y="11038"/>
                </a:cubicBezTo>
                <a:cubicBezTo>
                  <a:pt x="8103" y="11100"/>
                  <a:pt x="8157" y="11159"/>
                  <a:pt x="8210" y="11212"/>
                </a:cubicBezTo>
                <a:cubicBezTo>
                  <a:pt x="8261" y="11263"/>
                  <a:pt x="8240" y="11256"/>
                  <a:pt x="8310" y="11237"/>
                </a:cubicBezTo>
              </a:path>
              <a:path w="8807" h="8161">
                <a:moveTo>
                  <a:pt x="8458" y="10046"/>
                </a:moveTo>
                <a:cubicBezTo>
                  <a:pt x="8469" y="9972"/>
                  <a:pt x="8473" y="9940"/>
                  <a:pt x="8533" y="9897"/>
                </a:cubicBezTo>
                <a:cubicBezTo>
                  <a:pt x="8597" y="9851"/>
                  <a:pt x="8667" y="9827"/>
                  <a:pt x="8756" y="9823"/>
                </a:cubicBezTo>
                <a:cubicBezTo>
                  <a:pt x="8855" y="9818"/>
                  <a:pt x="8861" y="9820"/>
                  <a:pt x="8880" y="9922"/>
                </a:cubicBezTo>
                <a:cubicBezTo>
                  <a:pt x="8898" y="10016"/>
                  <a:pt x="8865" y="10106"/>
                  <a:pt x="8855" y="10195"/>
                </a:cubicBezTo>
                <a:cubicBezTo>
                  <a:pt x="8835" y="10376"/>
                  <a:pt x="8862" y="10563"/>
                  <a:pt x="8880" y="10740"/>
                </a:cubicBezTo>
                <a:cubicBezTo>
                  <a:pt x="8889" y="10834"/>
                  <a:pt x="8892" y="10921"/>
                  <a:pt x="8905" y="11013"/>
                </a:cubicBezTo>
                <a:cubicBezTo>
                  <a:pt x="8915" y="11080"/>
                  <a:pt x="8936" y="11146"/>
                  <a:pt x="8954" y="11212"/>
                </a:cubicBezTo>
              </a:path>
              <a:path w="8807" h="8161">
                <a:moveTo>
                  <a:pt x="7962" y="11261"/>
                </a:moveTo>
                <a:cubicBezTo>
                  <a:pt x="8294" y="11261"/>
                  <a:pt x="8626" y="11268"/>
                  <a:pt x="8954" y="11237"/>
                </a:cubicBezTo>
                <a:cubicBezTo>
                  <a:pt x="9053" y="11228"/>
                  <a:pt x="9130" y="11239"/>
                  <a:pt x="9227" y="11212"/>
                </a:cubicBezTo>
              </a:path>
              <a:path w="8807" h="8161">
                <a:moveTo>
                  <a:pt x="8533" y="11683"/>
                </a:moveTo>
                <a:cubicBezTo>
                  <a:pt x="8468" y="11806"/>
                  <a:pt x="8389" y="11930"/>
                  <a:pt x="8334" y="12055"/>
                </a:cubicBezTo>
                <a:cubicBezTo>
                  <a:pt x="8301" y="12129"/>
                  <a:pt x="8254" y="12274"/>
                  <a:pt x="8260" y="12353"/>
                </a:cubicBezTo>
                <a:cubicBezTo>
                  <a:pt x="8266" y="12437"/>
                  <a:pt x="8329" y="12603"/>
                  <a:pt x="8409" y="12650"/>
                </a:cubicBezTo>
                <a:cubicBezTo>
                  <a:pt x="8464" y="12683"/>
                  <a:pt x="8593" y="12739"/>
                  <a:pt x="8657" y="12725"/>
                </a:cubicBezTo>
                <a:cubicBezTo>
                  <a:pt x="8703" y="12715"/>
                  <a:pt x="8803" y="12665"/>
                  <a:pt x="8830" y="12626"/>
                </a:cubicBezTo>
                <a:cubicBezTo>
                  <a:pt x="8870" y="12569"/>
                  <a:pt x="8902" y="12495"/>
                  <a:pt x="8905" y="12427"/>
                </a:cubicBezTo>
                <a:cubicBezTo>
                  <a:pt x="8908" y="12351"/>
                  <a:pt x="8899" y="12333"/>
                  <a:pt x="8855" y="12278"/>
                </a:cubicBezTo>
                <a:cubicBezTo>
                  <a:pt x="8815" y="12319"/>
                  <a:pt x="8769" y="12369"/>
                  <a:pt x="8756" y="12427"/>
                </a:cubicBezTo>
                <a:cubicBezTo>
                  <a:pt x="8739" y="12504"/>
                  <a:pt x="8710" y="12568"/>
                  <a:pt x="8706" y="12650"/>
                </a:cubicBezTo>
                <a:cubicBezTo>
                  <a:pt x="8703" y="12718"/>
                  <a:pt x="8711" y="12819"/>
                  <a:pt x="8756" y="12874"/>
                </a:cubicBezTo>
                <a:cubicBezTo>
                  <a:pt x="8764" y="12874"/>
                  <a:pt x="8773" y="12874"/>
                  <a:pt x="8781" y="12874"/>
                </a:cubicBezTo>
              </a:path>
              <a:path w="8807" h="8161">
                <a:moveTo>
                  <a:pt x="9054" y="11832"/>
                </a:moveTo>
                <a:cubicBezTo>
                  <a:pt x="9015" y="11896"/>
                  <a:pt x="9029" y="11940"/>
                  <a:pt x="9054" y="12005"/>
                </a:cubicBezTo>
                <a:cubicBezTo>
                  <a:pt x="9094" y="12110"/>
                  <a:pt x="9115" y="12098"/>
                  <a:pt x="9203" y="12129"/>
                </a:cubicBezTo>
                <a:cubicBezTo>
                  <a:pt x="9270" y="12153"/>
                  <a:pt x="9269" y="12164"/>
                  <a:pt x="9327" y="12129"/>
                </a:cubicBezTo>
              </a:path>
              <a:path w="8807" h="8161">
                <a:moveTo>
                  <a:pt x="9376" y="11485"/>
                </a:moveTo>
                <a:cubicBezTo>
                  <a:pt x="9331" y="11574"/>
                  <a:pt x="9342" y="11614"/>
                  <a:pt x="9327" y="11708"/>
                </a:cubicBezTo>
                <a:cubicBezTo>
                  <a:pt x="9306" y="11837"/>
                  <a:pt x="9286" y="11972"/>
                  <a:pt x="9302" y="12105"/>
                </a:cubicBezTo>
                <a:cubicBezTo>
                  <a:pt x="9327" y="12310"/>
                  <a:pt x="9320" y="12521"/>
                  <a:pt x="9351" y="12725"/>
                </a:cubicBezTo>
                <a:cubicBezTo>
                  <a:pt x="9366" y="12826"/>
                  <a:pt x="9380" y="12923"/>
                  <a:pt x="9401" y="13022"/>
                </a:cubicBezTo>
              </a:path>
              <a:path w="8807" h="8161">
                <a:moveTo>
                  <a:pt x="10914" y="9475"/>
                </a:moveTo>
                <a:cubicBezTo>
                  <a:pt x="10830" y="9458"/>
                  <a:pt x="10851" y="9445"/>
                  <a:pt x="10765" y="9451"/>
                </a:cubicBezTo>
                <a:cubicBezTo>
                  <a:pt x="10627" y="9460"/>
                  <a:pt x="10477" y="9460"/>
                  <a:pt x="10344" y="9500"/>
                </a:cubicBezTo>
                <a:cubicBezTo>
                  <a:pt x="10215" y="9538"/>
                  <a:pt x="10130" y="9615"/>
                  <a:pt x="10021" y="9674"/>
                </a:cubicBezTo>
                <a:cubicBezTo>
                  <a:pt x="10118" y="9767"/>
                  <a:pt x="10073" y="9779"/>
                  <a:pt x="10220" y="9847"/>
                </a:cubicBezTo>
                <a:cubicBezTo>
                  <a:pt x="10473" y="9964"/>
                  <a:pt x="10746" y="10054"/>
                  <a:pt x="10988" y="10195"/>
                </a:cubicBezTo>
                <a:cubicBezTo>
                  <a:pt x="11135" y="10281"/>
                  <a:pt x="11337" y="10386"/>
                  <a:pt x="11385" y="10567"/>
                </a:cubicBezTo>
                <a:cubicBezTo>
                  <a:pt x="11416" y="10684"/>
                  <a:pt x="11326" y="10787"/>
                  <a:pt x="11261" y="10864"/>
                </a:cubicBezTo>
                <a:cubicBezTo>
                  <a:pt x="11144" y="11004"/>
                  <a:pt x="10977" y="11098"/>
                  <a:pt x="10864" y="11237"/>
                </a:cubicBezTo>
                <a:cubicBezTo>
                  <a:pt x="10688" y="11453"/>
                  <a:pt x="10696" y="11632"/>
                  <a:pt x="10790" y="11881"/>
                </a:cubicBezTo>
                <a:cubicBezTo>
                  <a:pt x="10864" y="12078"/>
                  <a:pt x="11049" y="12275"/>
                  <a:pt x="11162" y="12452"/>
                </a:cubicBezTo>
                <a:cubicBezTo>
                  <a:pt x="11294" y="12659"/>
                  <a:pt x="11393" y="12802"/>
                  <a:pt x="11435" y="13047"/>
                </a:cubicBezTo>
                <a:cubicBezTo>
                  <a:pt x="11490" y="13368"/>
                  <a:pt x="11328" y="13596"/>
                  <a:pt x="11137" y="13841"/>
                </a:cubicBezTo>
                <a:cubicBezTo>
                  <a:pt x="11015" y="13998"/>
                  <a:pt x="10871" y="14152"/>
                  <a:pt x="10790" y="14337"/>
                </a:cubicBezTo>
                <a:cubicBezTo>
                  <a:pt x="10590" y="14792"/>
                  <a:pt x="10814" y="15302"/>
                  <a:pt x="10988" y="15726"/>
                </a:cubicBezTo>
                <a:cubicBezTo>
                  <a:pt x="11209" y="16264"/>
                  <a:pt x="11378" y="16803"/>
                  <a:pt x="11137" y="17363"/>
                </a:cubicBezTo>
                <a:cubicBezTo>
                  <a:pt x="11098" y="17453"/>
                  <a:pt x="11056" y="17525"/>
                  <a:pt x="11013" y="176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5"/>
          <p:cNvSpPr/>
          <p:nvPr/>
        </p:nvSpPr>
        <p:spPr>
          <a:xfrm>
            <a:off x="4259160" y="3456000"/>
            <a:ext cx="2652840" cy="965160"/>
          </a:xfrm>
          <a:custGeom>
            <a:avLst/>
            <a:gdLst/>
            <a:ahLst/>
            <a:rect l="l" t="t" r="r" b="b"/>
            <a:pathLst>
              <a:path w="7368" h="2680">
                <a:moveTo>
                  <a:pt x="11931" y="11162"/>
                </a:moveTo>
                <a:cubicBezTo>
                  <a:pt x="11903" y="11268"/>
                  <a:pt x="11851" y="11378"/>
                  <a:pt x="11832" y="11485"/>
                </a:cubicBezTo>
                <a:cubicBezTo>
                  <a:pt x="11825" y="11523"/>
                  <a:pt x="11793" y="11729"/>
                  <a:pt x="11832" y="11559"/>
                </a:cubicBezTo>
                <a:cubicBezTo>
                  <a:pt x="11858" y="11447"/>
                  <a:pt x="11887" y="11348"/>
                  <a:pt x="11906" y="11237"/>
                </a:cubicBezTo>
                <a:cubicBezTo>
                  <a:pt x="11932" y="11087"/>
                  <a:pt x="11978" y="10940"/>
                  <a:pt x="12005" y="10790"/>
                </a:cubicBezTo>
                <a:cubicBezTo>
                  <a:pt x="12032" y="10639"/>
                  <a:pt x="12072" y="10493"/>
                  <a:pt x="12105" y="10344"/>
                </a:cubicBezTo>
                <a:cubicBezTo>
                  <a:pt x="12133" y="10219"/>
                  <a:pt x="12152" y="10094"/>
                  <a:pt x="12179" y="9971"/>
                </a:cubicBezTo>
                <a:cubicBezTo>
                  <a:pt x="12210" y="9830"/>
                  <a:pt x="12212" y="9874"/>
                  <a:pt x="12254" y="9773"/>
                </a:cubicBezTo>
                <a:cubicBezTo>
                  <a:pt x="12284" y="9843"/>
                  <a:pt x="12340" y="9922"/>
                  <a:pt x="12353" y="9996"/>
                </a:cubicBezTo>
                <a:cubicBezTo>
                  <a:pt x="12378" y="10135"/>
                  <a:pt x="12392" y="10279"/>
                  <a:pt x="12427" y="10418"/>
                </a:cubicBezTo>
                <a:cubicBezTo>
                  <a:pt x="12465" y="10569"/>
                  <a:pt x="12474" y="10742"/>
                  <a:pt x="12526" y="10889"/>
                </a:cubicBezTo>
                <a:cubicBezTo>
                  <a:pt x="12573" y="11023"/>
                  <a:pt x="12636" y="11148"/>
                  <a:pt x="12675" y="11286"/>
                </a:cubicBezTo>
                <a:cubicBezTo>
                  <a:pt x="12700" y="11376"/>
                  <a:pt x="12751" y="11476"/>
                  <a:pt x="12774" y="11559"/>
                </a:cubicBezTo>
                <a:cubicBezTo>
                  <a:pt x="12774" y="11604"/>
                  <a:pt x="12770" y="11617"/>
                  <a:pt x="12799" y="11633"/>
                </a:cubicBezTo>
              </a:path>
              <a:path w="7368" h="2680">
                <a:moveTo>
                  <a:pt x="12030" y="11286"/>
                </a:moveTo>
                <a:cubicBezTo>
                  <a:pt x="12167" y="11286"/>
                  <a:pt x="12295" y="11296"/>
                  <a:pt x="12427" y="11311"/>
                </a:cubicBezTo>
                <a:cubicBezTo>
                  <a:pt x="12511" y="11311"/>
                  <a:pt x="12545" y="11309"/>
                  <a:pt x="12601" y="11286"/>
                </a:cubicBezTo>
              </a:path>
              <a:path w="7368" h="2680">
                <a:moveTo>
                  <a:pt x="13146" y="11311"/>
                </a:moveTo>
                <a:cubicBezTo>
                  <a:pt x="13137" y="11379"/>
                  <a:pt x="13088" y="11416"/>
                  <a:pt x="13072" y="11485"/>
                </a:cubicBezTo>
                <a:cubicBezTo>
                  <a:pt x="13052" y="11575"/>
                  <a:pt x="13125" y="11561"/>
                  <a:pt x="13171" y="11584"/>
                </a:cubicBezTo>
                <a:cubicBezTo>
                  <a:pt x="13250" y="11624"/>
                  <a:pt x="13304" y="11624"/>
                  <a:pt x="13395" y="11609"/>
                </a:cubicBezTo>
              </a:path>
              <a:path w="7368" h="2680">
                <a:moveTo>
                  <a:pt x="13444" y="11187"/>
                </a:moveTo>
                <a:cubicBezTo>
                  <a:pt x="13416" y="11233"/>
                  <a:pt x="13400" y="11326"/>
                  <a:pt x="13395" y="11385"/>
                </a:cubicBezTo>
                <a:cubicBezTo>
                  <a:pt x="13371" y="11643"/>
                  <a:pt x="13386" y="11927"/>
                  <a:pt x="13419" y="12179"/>
                </a:cubicBezTo>
                <a:cubicBezTo>
                  <a:pt x="13428" y="12245"/>
                  <a:pt x="13386" y="12272"/>
                  <a:pt x="13444" y="12254"/>
                </a:cubicBezTo>
              </a:path>
              <a:path w="7368" h="2680">
                <a:moveTo>
                  <a:pt x="13568" y="10740"/>
                </a:moveTo>
                <a:cubicBezTo>
                  <a:pt x="13711" y="10646"/>
                  <a:pt x="13705" y="10648"/>
                  <a:pt x="13841" y="10691"/>
                </a:cubicBezTo>
                <a:cubicBezTo>
                  <a:pt x="13886" y="10691"/>
                  <a:pt x="13899" y="10687"/>
                  <a:pt x="13915" y="10716"/>
                </a:cubicBezTo>
              </a:path>
              <a:path w="7368" h="2680">
                <a:moveTo>
                  <a:pt x="13742" y="11013"/>
                </a:moveTo>
                <a:cubicBezTo>
                  <a:pt x="13854" y="11026"/>
                  <a:pt x="13934" y="11038"/>
                  <a:pt x="14039" y="11038"/>
                </a:cubicBezTo>
              </a:path>
              <a:path w="7368" h="2680">
                <a:moveTo>
                  <a:pt x="14511" y="10120"/>
                </a:moveTo>
                <a:cubicBezTo>
                  <a:pt x="14622" y="10120"/>
                  <a:pt x="14846" y="10162"/>
                  <a:pt x="14932" y="10145"/>
                </a:cubicBezTo>
                <a:cubicBezTo>
                  <a:pt x="14940" y="10137"/>
                  <a:pt x="14949" y="10128"/>
                  <a:pt x="14957" y="10120"/>
                </a:cubicBezTo>
              </a:path>
              <a:path w="7368" h="2680">
                <a:moveTo>
                  <a:pt x="14486" y="10071"/>
                </a:moveTo>
                <a:cubicBezTo>
                  <a:pt x="14426" y="10180"/>
                  <a:pt x="14402" y="10258"/>
                  <a:pt x="14362" y="10368"/>
                </a:cubicBezTo>
                <a:cubicBezTo>
                  <a:pt x="14337" y="10436"/>
                  <a:pt x="14324" y="10454"/>
                  <a:pt x="14362" y="10517"/>
                </a:cubicBezTo>
                <a:cubicBezTo>
                  <a:pt x="14447" y="10506"/>
                  <a:pt x="14484" y="10500"/>
                  <a:pt x="14536" y="10443"/>
                </a:cubicBezTo>
                <a:cubicBezTo>
                  <a:pt x="14565" y="10410"/>
                  <a:pt x="14695" y="10394"/>
                  <a:pt x="14734" y="10418"/>
                </a:cubicBezTo>
                <a:cubicBezTo>
                  <a:pt x="14823" y="10473"/>
                  <a:pt x="14858" y="10598"/>
                  <a:pt x="14883" y="10691"/>
                </a:cubicBezTo>
                <a:cubicBezTo>
                  <a:pt x="14914" y="10805"/>
                  <a:pt x="14932" y="10894"/>
                  <a:pt x="14932" y="11013"/>
                </a:cubicBezTo>
                <a:cubicBezTo>
                  <a:pt x="14932" y="11122"/>
                  <a:pt x="14934" y="11156"/>
                  <a:pt x="14858" y="11237"/>
                </a:cubicBezTo>
                <a:cubicBezTo>
                  <a:pt x="14803" y="11296"/>
                  <a:pt x="14736" y="11308"/>
                  <a:pt x="14660" y="11311"/>
                </a:cubicBezTo>
                <a:cubicBezTo>
                  <a:pt x="14558" y="11315"/>
                  <a:pt x="14563" y="11314"/>
                  <a:pt x="14585" y="11237"/>
                </a:cubicBezTo>
              </a:path>
              <a:path w="7368" h="2680">
                <a:moveTo>
                  <a:pt x="15304" y="10840"/>
                </a:moveTo>
                <a:cubicBezTo>
                  <a:pt x="15312" y="10840"/>
                  <a:pt x="15321" y="10840"/>
                  <a:pt x="15329" y="10840"/>
                </a:cubicBezTo>
              </a:path>
              <a:path w="7368" h="2680">
                <a:moveTo>
                  <a:pt x="15652" y="10120"/>
                </a:moveTo>
                <a:cubicBezTo>
                  <a:pt x="15619" y="10145"/>
                  <a:pt x="15562" y="10234"/>
                  <a:pt x="15553" y="10294"/>
                </a:cubicBezTo>
                <a:cubicBezTo>
                  <a:pt x="15537" y="10397"/>
                  <a:pt x="15559" y="10424"/>
                  <a:pt x="15627" y="10492"/>
                </a:cubicBezTo>
                <a:cubicBezTo>
                  <a:pt x="15682" y="10547"/>
                  <a:pt x="15724" y="10579"/>
                  <a:pt x="15801" y="10592"/>
                </a:cubicBezTo>
                <a:cubicBezTo>
                  <a:pt x="15855" y="10601"/>
                  <a:pt x="15884" y="10592"/>
                  <a:pt x="15925" y="10567"/>
                </a:cubicBezTo>
              </a:path>
              <a:path w="7368" h="2680">
                <a:moveTo>
                  <a:pt x="15999" y="9897"/>
                </a:moveTo>
                <a:cubicBezTo>
                  <a:pt x="15942" y="9982"/>
                  <a:pt x="15949" y="10042"/>
                  <a:pt x="15949" y="10145"/>
                </a:cubicBezTo>
                <a:cubicBezTo>
                  <a:pt x="15949" y="10273"/>
                  <a:pt x="15925" y="10388"/>
                  <a:pt x="15925" y="10517"/>
                </a:cubicBezTo>
                <a:cubicBezTo>
                  <a:pt x="15925" y="10662"/>
                  <a:pt x="15904" y="10796"/>
                  <a:pt x="15900" y="10939"/>
                </a:cubicBezTo>
                <a:cubicBezTo>
                  <a:pt x="15897" y="11061"/>
                  <a:pt x="15920" y="11168"/>
                  <a:pt x="15925" y="11286"/>
                </a:cubicBezTo>
                <a:cubicBezTo>
                  <a:pt x="15926" y="11305"/>
                  <a:pt x="15957" y="11496"/>
                  <a:pt x="15974" y="11485"/>
                </a:cubicBezTo>
                <a:cubicBezTo>
                  <a:pt x="15982" y="11468"/>
                  <a:pt x="15991" y="11452"/>
                  <a:pt x="15999" y="11435"/>
                </a:cubicBezTo>
              </a:path>
              <a:path w="7368" h="2680">
                <a:moveTo>
                  <a:pt x="16297" y="9748"/>
                </a:moveTo>
                <a:cubicBezTo>
                  <a:pt x="16354" y="9685"/>
                  <a:pt x="16386" y="9603"/>
                  <a:pt x="16470" y="9599"/>
                </a:cubicBezTo>
                <a:cubicBezTo>
                  <a:pt x="16573" y="9594"/>
                  <a:pt x="16613" y="9667"/>
                  <a:pt x="16644" y="9748"/>
                </a:cubicBezTo>
                <a:cubicBezTo>
                  <a:pt x="16698" y="9892"/>
                  <a:pt x="16672" y="10013"/>
                  <a:pt x="16594" y="10145"/>
                </a:cubicBezTo>
                <a:cubicBezTo>
                  <a:pt x="16546" y="10226"/>
                  <a:pt x="16488" y="10239"/>
                  <a:pt x="16446" y="10294"/>
                </a:cubicBezTo>
                <a:cubicBezTo>
                  <a:pt x="16429" y="10317"/>
                  <a:pt x="16370" y="10394"/>
                  <a:pt x="16321" y="10344"/>
                </a:cubicBezTo>
                <a:cubicBezTo>
                  <a:pt x="16313" y="10327"/>
                  <a:pt x="16305" y="10311"/>
                  <a:pt x="16297" y="10294"/>
                </a:cubicBezTo>
                <a:cubicBezTo>
                  <a:pt x="16393" y="10235"/>
                  <a:pt x="16435" y="10314"/>
                  <a:pt x="16520" y="10344"/>
                </a:cubicBezTo>
                <a:cubicBezTo>
                  <a:pt x="16599" y="10372"/>
                  <a:pt x="16634" y="10381"/>
                  <a:pt x="16694" y="10418"/>
                </a:cubicBezTo>
                <a:cubicBezTo>
                  <a:pt x="16702" y="10418"/>
                  <a:pt x="16710" y="10418"/>
                  <a:pt x="16718" y="10418"/>
                </a:cubicBezTo>
              </a:path>
              <a:path w="7368" h="2680">
                <a:moveTo>
                  <a:pt x="16594" y="10765"/>
                </a:moveTo>
                <a:cubicBezTo>
                  <a:pt x="16675" y="10787"/>
                  <a:pt x="16763" y="10802"/>
                  <a:pt x="16842" y="10815"/>
                </a:cubicBezTo>
                <a:cubicBezTo>
                  <a:pt x="16913" y="10826"/>
                  <a:pt x="16994" y="10815"/>
                  <a:pt x="17066" y="10815"/>
                </a:cubicBezTo>
              </a:path>
              <a:path w="7368" h="2680">
                <a:moveTo>
                  <a:pt x="17487" y="10344"/>
                </a:moveTo>
                <a:cubicBezTo>
                  <a:pt x="17578" y="10232"/>
                  <a:pt x="17598" y="10190"/>
                  <a:pt x="17711" y="10145"/>
                </a:cubicBezTo>
                <a:cubicBezTo>
                  <a:pt x="17798" y="10111"/>
                  <a:pt x="17879" y="10196"/>
                  <a:pt x="17909" y="10269"/>
                </a:cubicBezTo>
                <a:cubicBezTo>
                  <a:pt x="17962" y="10396"/>
                  <a:pt x="17959" y="10505"/>
                  <a:pt x="17959" y="10641"/>
                </a:cubicBezTo>
                <a:cubicBezTo>
                  <a:pt x="17959" y="10831"/>
                  <a:pt x="17904" y="10980"/>
                  <a:pt x="17859" y="11162"/>
                </a:cubicBezTo>
                <a:cubicBezTo>
                  <a:pt x="17828" y="11289"/>
                  <a:pt x="17775" y="11408"/>
                  <a:pt x="17735" y="11534"/>
                </a:cubicBezTo>
                <a:cubicBezTo>
                  <a:pt x="17712" y="11607"/>
                  <a:pt x="17708" y="11611"/>
                  <a:pt x="17661" y="11658"/>
                </a:cubicBezTo>
                <a:cubicBezTo>
                  <a:pt x="17684" y="11576"/>
                  <a:pt x="17706" y="11495"/>
                  <a:pt x="17711" y="11410"/>
                </a:cubicBezTo>
                <a:cubicBezTo>
                  <a:pt x="17714" y="11355"/>
                  <a:pt x="17727" y="11341"/>
                  <a:pt x="17735" y="11286"/>
                </a:cubicBezTo>
                <a:cubicBezTo>
                  <a:pt x="17795" y="11321"/>
                  <a:pt x="17879" y="11348"/>
                  <a:pt x="17934" y="11385"/>
                </a:cubicBezTo>
                <a:cubicBezTo>
                  <a:pt x="17970" y="11409"/>
                  <a:pt x="18050" y="11515"/>
                  <a:pt x="18107" y="11485"/>
                </a:cubicBezTo>
                <a:cubicBezTo>
                  <a:pt x="18124" y="11468"/>
                  <a:pt x="18140" y="11452"/>
                  <a:pt x="18157" y="11435"/>
                </a:cubicBezTo>
              </a:path>
              <a:path w="7368" h="2680">
                <a:moveTo>
                  <a:pt x="18380" y="10790"/>
                </a:moveTo>
                <a:cubicBezTo>
                  <a:pt x="18388" y="10757"/>
                  <a:pt x="18397" y="10724"/>
                  <a:pt x="18405" y="10691"/>
                </a:cubicBezTo>
              </a:path>
              <a:path w="7368" h="2680">
                <a:moveTo>
                  <a:pt x="18703" y="10120"/>
                </a:moveTo>
                <a:cubicBezTo>
                  <a:pt x="18692" y="10184"/>
                  <a:pt x="18680" y="10243"/>
                  <a:pt x="18653" y="10294"/>
                </a:cubicBezTo>
                <a:cubicBezTo>
                  <a:pt x="18618" y="10360"/>
                  <a:pt x="18604" y="10499"/>
                  <a:pt x="18653" y="10567"/>
                </a:cubicBezTo>
                <a:cubicBezTo>
                  <a:pt x="18663" y="10581"/>
                  <a:pt x="18739" y="10630"/>
                  <a:pt x="18752" y="10641"/>
                </a:cubicBezTo>
                <a:cubicBezTo>
                  <a:pt x="18797" y="10686"/>
                  <a:pt x="18807" y="10703"/>
                  <a:pt x="18852" y="10691"/>
                </a:cubicBezTo>
              </a:path>
              <a:path w="7368" h="2680">
                <a:moveTo>
                  <a:pt x="19199" y="10046"/>
                </a:moveTo>
                <a:cubicBezTo>
                  <a:pt x="19132" y="10095"/>
                  <a:pt x="19140" y="10183"/>
                  <a:pt x="19124" y="10269"/>
                </a:cubicBezTo>
                <a:cubicBezTo>
                  <a:pt x="19095" y="10428"/>
                  <a:pt x="19083" y="10602"/>
                  <a:pt x="19100" y="10765"/>
                </a:cubicBezTo>
                <a:cubicBezTo>
                  <a:pt x="19116" y="10922"/>
                  <a:pt x="19136" y="11081"/>
                  <a:pt x="19149" y="11237"/>
                </a:cubicBezTo>
                <a:cubicBezTo>
                  <a:pt x="19158" y="11348"/>
                  <a:pt x="19157" y="11454"/>
                  <a:pt x="19174" y="11559"/>
                </a:cubicBezTo>
                <a:cubicBezTo>
                  <a:pt x="19174" y="11601"/>
                  <a:pt x="19166" y="11617"/>
                  <a:pt x="19199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6"/>
          <p:cNvSpPr/>
          <p:nvPr/>
        </p:nvSpPr>
        <p:spPr>
          <a:xfrm>
            <a:off x="7126200" y="3732120"/>
            <a:ext cx="177840" cy="312840"/>
          </a:xfrm>
          <a:custGeom>
            <a:avLst/>
            <a:gdLst/>
            <a:ahLst/>
            <a:rect l="l" t="t" r="r" b="b"/>
            <a:pathLst>
              <a:path w="497" h="870">
                <a:moveTo>
                  <a:pt x="19943" y="10368"/>
                </a:moveTo>
                <a:cubicBezTo>
                  <a:pt x="19943" y="10504"/>
                  <a:pt x="19939" y="10631"/>
                  <a:pt x="19968" y="10765"/>
                </a:cubicBezTo>
                <a:cubicBezTo>
                  <a:pt x="19992" y="10878"/>
                  <a:pt x="20026" y="10999"/>
                  <a:pt x="20042" y="11112"/>
                </a:cubicBezTo>
                <a:cubicBezTo>
                  <a:pt x="20042" y="11181"/>
                  <a:pt x="20039" y="11200"/>
                  <a:pt x="20067" y="11237"/>
                </a:cubicBezTo>
              </a:path>
              <a:path w="497" h="870">
                <a:moveTo>
                  <a:pt x="19794" y="10790"/>
                </a:moveTo>
                <a:cubicBezTo>
                  <a:pt x="19864" y="10748"/>
                  <a:pt x="19982" y="10754"/>
                  <a:pt x="20067" y="10765"/>
                </a:cubicBezTo>
                <a:cubicBezTo>
                  <a:pt x="20182" y="10788"/>
                  <a:pt x="20214" y="10797"/>
                  <a:pt x="20290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7"/>
          <p:cNvSpPr/>
          <p:nvPr/>
        </p:nvSpPr>
        <p:spPr>
          <a:xfrm>
            <a:off x="7518240" y="3679920"/>
            <a:ext cx="1447920" cy="517320"/>
          </a:xfrm>
          <a:custGeom>
            <a:avLst/>
            <a:gdLst/>
            <a:ahLst/>
            <a:rect l="l" t="t" r="r" b="b"/>
            <a:pathLst>
              <a:path w="4019" h="1439">
                <a:moveTo>
                  <a:pt x="20886" y="10344"/>
                </a:moveTo>
                <a:cubicBezTo>
                  <a:pt x="20903" y="10553"/>
                  <a:pt x="20910" y="10755"/>
                  <a:pt x="20910" y="10964"/>
                </a:cubicBezTo>
                <a:cubicBezTo>
                  <a:pt x="20910" y="11105"/>
                  <a:pt x="20912" y="11247"/>
                  <a:pt x="20935" y="11385"/>
                </a:cubicBezTo>
                <a:cubicBezTo>
                  <a:pt x="20939" y="11410"/>
                  <a:pt x="20949" y="11645"/>
                  <a:pt x="20985" y="11658"/>
                </a:cubicBezTo>
                <a:cubicBezTo>
                  <a:pt x="20993" y="11650"/>
                  <a:pt x="21002" y="11641"/>
                  <a:pt x="21010" y="11633"/>
                </a:cubicBezTo>
              </a:path>
              <a:path w="4019" h="1439">
                <a:moveTo>
                  <a:pt x="21357" y="10592"/>
                </a:moveTo>
                <a:cubicBezTo>
                  <a:pt x="21322" y="10720"/>
                  <a:pt x="21264" y="10881"/>
                  <a:pt x="21307" y="11013"/>
                </a:cubicBezTo>
                <a:cubicBezTo>
                  <a:pt x="21339" y="11112"/>
                  <a:pt x="21442" y="11278"/>
                  <a:pt x="21506" y="11361"/>
                </a:cubicBezTo>
                <a:cubicBezTo>
                  <a:pt x="21588" y="11468"/>
                  <a:pt x="21685" y="11530"/>
                  <a:pt x="21803" y="11584"/>
                </a:cubicBezTo>
                <a:cubicBezTo>
                  <a:pt x="21887" y="11623"/>
                  <a:pt x="21969" y="11580"/>
                  <a:pt x="22027" y="11509"/>
                </a:cubicBezTo>
                <a:cubicBezTo>
                  <a:pt x="22109" y="11409"/>
                  <a:pt x="22161" y="11291"/>
                  <a:pt x="22175" y="11162"/>
                </a:cubicBezTo>
                <a:cubicBezTo>
                  <a:pt x="22189" y="11029"/>
                  <a:pt x="22143" y="10900"/>
                  <a:pt x="22076" y="10790"/>
                </a:cubicBezTo>
                <a:cubicBezTo>
                  <a:pt x="22009" y="10679"/>
                  <a:pt x="21953" y="10621"/>
                  <a:pt x="21828" y="10592"/>
                </a:cubicBezTo>
                <a:cubicBezTo>
                  <a:pt x="21679" y="10571"/>
                  <a:pt x="21647" y="10562"/>
                  <a:pt x="21555" y="10567"/>
                </a:cubicBezTo>
              </a:path>
              <a:path w="4019" h="1439">
                <a:moveTo>
                  <a:pt x="22374" y="10641"/>
                </a:moveTo>
                <a:cubicBezTo>
                  <a:pt x="22473" y="10641"/>
                  <a:pt x="22572" y="10641"/>
                  <a:pt x="22671" y="10641"/>
                </a:cubicBezTo>
              </a:path>
              <a:path w="4019" h="1439">
                <a:moveTo>
                  <a:pt x="22572" y="10914"/>
                </a:moveTo>
                <a:cubicBezTo>
                  <a:pt x="22642" y="10940"/>
                  <a:pt x="22695" y="10939"/>
                  <a:pt x="22771" y="10939"/>
                </a:cubicBezTo>
              </a:path>
              <a:path w="4019" h="1439">
                <a:moveTo>
                  <a:pt x="23564" y="10443"/>
                </a:moveTo>
                <a:cubicBezTo>
                  <a:pt x="23624" y="10364"/>
                  <a:pt x="23649" y="10355"/>
                  <a:pt x="23639" y="10294"/>
                </a:cubicBezTo>
                <a:cubicBezTo>
                  <a:pt x="23596" y="10268"/>
                  <a:pt x="23495" y="10202"/>
                  <a:pt x="23440" y="10220"/>
                </a:cubicBezTo>
                <a:cubicBezTo>
                  <a:pt x="23413" y="10229"/>
                  <a:pt x="23269" y="10269"/>
                  <a:pt x="23242" y="10294"/>
                </a:cubicBezTo>
                <a:cubicBezTo>
                  <a:pt x="23170" y="10361"/>
                  <a:pt x="23209" y="10437"/>
                  <a:pt x="23242" y="10517"/>
                </a:cubicBezTo>
                <a:cubicBezTo>
                  <a:pt x="23285" y="10622"/>
                  <a:pt x="23373" y="10701"/>
                  <a:pt x="23440" y="10790"/>
                </a:cubicBezTo>
                <a:cubicBezTo>
                  <a:pt x="23511" y="10885"/>
                  <a:pt x="23631" y="11022"/>
                  <a:pt x="23664" y="11137"/>
                </a:cubicBezTo>
                <a:cubicBezTo>
                  <a:pt x="23693" y="11236"/>
                  <a:pt x="23683" y="11318"/>
                  <a:pt x="23639" y="11410"/>
                </a:cubicBezTo>
                <a:cubicBezTo>
                  <a:pt x="23606" y="11481"/>
                  <a:pt x="23587" y="11499"/>
                  <a:pt x="23515" y="11509"/>
                </a:cubicBezTo>
                <a:cubicBezTo>
                  <a:pt x="23465" y="11460"/>
                  <a:pt x="23429" y="11412"/>
                  <a:pt x="23440" y="11336"/>
                </a:cubicBezTo>
                <a:cubicBezTo>
                  <a:pt x="23453" y="11244"/>
                  <a:pt x="23495" y="11121"/>
                  <a:pt x="23540" y="11038"/>
                </a:cubicBezTo>
                <a:cubicBezTo>
                  <a:pt x="23591" y="10944"/>
                  <a:pt x="23651" y="10866"/>
                  <a:pt x="23688" y="10765"/>
                </a:cubicBezTo>
                <a:cubicBezTo>
                  <a:pt x="23723" y="10670"/>
                  <a:pt x="23751" y="10584"/>
                  <a:pt x="23788" y="10492"/>
                </a:cubicBezTo>
              </a:path>
              <a:path w="4019" h="1439">
                <a:moveTo>
                  <a:pt x="23937" y="10368"/>
                </a:moveTo>
                <a:cubicBezTo>
                  <a:pt x="23958" y="10447"/>
                  <a:pt x="23961" y="10485"/>
                  <a:pt x="23961" y="10567"/>
                </a:cubicBezTo>
                <a:cubicBezTo>
                  <a:pt x="23991" y="10514"/>
                  <a:pt x="24026" y="10468"/>
                  <a:pt x="24061" y="10418"/>
                </a:cubicBezTo>
                <a:cubicBezTo>
                  <a:pt x="24104" y="10356"/>
                  <a:pt x="24146" y="10311"/>
                  <a:pt x="24234" y="10344"/>
                </a:cubicBezTo>
                <a:cubicBezTo>
                  <a:pt x="24268" y="10357"/>
                  <a:pt x="24304" y="10459"/>
                  <a:pt x="24309" y="10492"/>
                </a:cubicBezTo>
                <a:cubicBezTo>
                  <a:pt x="24326" y="10593"/>
                  <a:pt x="24348" y="10711"/>
                  <a:pt x="24333" y="10815"/>
                </a:cubicBezTo>
                <a:cubicBezTo>
                  <a:pt x="24316" y="10929"/>
                  <a:pt x="24309" y="11051"/>
                  <a:pt x="24284" y="11162"/>
                </a:cubicBezTo>
                <a:cubicBezTo>
                  <a:pt x="24268" y="11232"/>
                  <a:pt x="24229" y="11331"/>
                  <a:pt x="24185" y="11385"/>
                </a:cubicBezTo>
                <a:cubicBezTo>
                  <a:pt x="24148" y="11431"/>
                  <a:pt x="24141" y="11427"/>
                  <a:pt x="24085" y="11435"/>
                </a:cubicBezTo>
                <a:cubicBezTo>
                  <a:pt x="24050" y="11364"/>
                  <a:pt x="24027" y="11313"/>
                  <a:pt x="24061" y="11237"/>
                </a:cubicBezTo>
                <a:cubicBezTo>
                  <a:pt x="24090" y="11174"/>
                  <a:pt x="24133" y="11166"/>
                  <a:pt x="24185" y="11187"/>
                </a:cubicBezTo>
                <a:cubicBezTo>
                  <a:pt x="24248" y="11213"/>
                  <a:pt x="24235" y="11262"/>
                  <a:pt x="24284" y="11311"/>
                </a:cubicBezTo>
                <a:cubicBezTo>
                  <a:pt x="24344" y="11372"/>
                  <a:pt x="24373" y="11432"/>
                  <a:pt x="24433" y="11485"/>
                </a:cubicBezTo>
                <a:cubicBezTo>
                  <a:pt x="24507" y="11550"/>
                  <a:pt x="24582" y="11603"/>
                  <a:pt x="24681" y="11609"/>
                </a:cubicBezTo>
                <a:cubicBezTo>
                  <a:pt x="24748" y="11613"/>
                  <a:pt x="24805" y="11578"/>
                  <a:pt x="24854" y="11534"/>
                </a:cubicBezTo>
                <a:cubicBezTo>
                  <a:pt x="24877" y="11513"/>
                  <a:pt x="24871" y="11516"/>
                  <a:pt x="24879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8"/>
          <p:cNvSpPr/>
          <p:nvPr/>
        </p:nvSpPr>
        <p:spPr>
          <a:xfrm>
            <a:off x="839880" y="2081160"/>
            <a:ext cx="3251160" cy="330120"/>
          </a:xfrm>
          <a:custGeom>
            <a:avLst/>
            <a:gdLst/>
            <a:ahLst/>
            <a:rect l="l" t="t" r="r" b="b"/>
            <a:pathLst>
              <a:path w="9030" h="919">
                <a:moveTo>
                  <a:pt x="2431" y="5779"/>
                </a:moveTo>
                <a:cubicBezTo>
                  <a:pt x="2419" y="5845"/>
                  <a:pt x="2393" y="5921"/>
                  <a:pt x="2381" y="5978"/>
                </a:cubicBezTo>
                <a:cubicBezTo>
                  <a:pt x="2369" y="6038"/>
                  <a:pt x="2361" y="6095"/>
                  <a:pt x="2356" y="6152"/>
                </a:cubicBezTo>
                <a:cubicBezTo>
                  <a:pt x="2351" y="6209"/>
                  <a:pt x="2331" y="6308"/>
                  <a:pt x="2332" y="6350"/>
                </a:cubicBezTo>
                <a:cubicBezTo>
                  <a:pt x="2333" y="6404"/>
                  <a:pt x="2311" y="6486"/>
                  <a:pt x="2356" y="6524"/>
                </a:cubicBezTo>
                <a:cubicBezTo>
                  <a:pt x="2416" y="6574"/>
                  <a:pt x="2439" y="6522"/>
                  <a:pt x="2505" y="6524"/>
                </a:cubicBezTo>
                <a:cubicBezTo>
                  <a:pt x="2583" y="6527"/>
                  <a:pt x="2670" y="6504"/>
                  <a:pt x="2753" y="6499"/>
                </a:cubicBezTo>
                <a:cubicBezTo>
                  <a:pt x="4885" y="6379"/>
                  <a:pt x="7087" y="6479"/>
                  <a:pt x="9203" y="6623"/>
                </a:cubicBezTo>
                <a:cubicBezTo>
                  <a:pt x="9361" y="6634"/>
                  <a:pt x="9514" y="6646"/>
                  <a:pt x="9674" y="6648"/>
                </a:cubicBezTo>
                <a:cubicBezTo>
                  <a:pt x="9875" y="6650"/>
                  <a:pt x="10070" y="6665"/>
                  <a:pt x="10269" y="6672"/>
                </a:cubicBezTo>
                <a:cubicBezTo>
                  <a:pt x="10461" y="6679"/>
                  <a:pt x="10651" y="6689"/>
                  <a:pt x="10840" y="6697"/>
                </a:cubicBezTo>
                <a:cubicBezTo>
                  <a:pt x="10931" y="6701"/>
                  <a:pt x="11273" y="6745"/>
                  <a:pt x="11336" y="6672"/>
                </a:cubicBezTo>
                <a:cubicBezTo>
                  <a:pt x="11379" y="6622"/>
                  <a:pt x="11355" y="6563"/>
                  <a:pt x="11361" y="6499"/>
                </a:cubicBezTo>
                <a:cubicBezTo>
                  <a:pt x="11367" y="6436"/>
                  <a:pt x="11322" y="6317"/>
                  <a:pt x="11311" y="62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9"/>
          <p:cNvSpPr/>
          <p:nvPr/>
        </p:nvSpPr>
        <p:spPr>
          <a:xfrm>
            <a:off x="830160" y="2919240"/>
            <a:ext cx="4618080" cy="385920"/>
          </a:xfrm>
          <a:custGeom>
            <a:avLst/>
            <a:gdLst/>
            <a:ahLst/>
            <a:rect l="l" t="t" r="r" b="b"/>
            <a:pathLst>
              <a:path w="12825" h="1068">
                <a:moveTo>
                  <a:pt x="2332" y="8111"/>
                </a:moveTo>
                <a:cubicBezTo>
                  <a:pt x="2332" y="8165"/>
                  <a:pt x="2332" y="8270"/>
                  <a:pt x="2332" y="8334"/>
                </a:cubicBezTo>
                <a:cubicBezTo>
                  <a:pt x="2332" y="8466"/>
                  <a:pt x="2276" y="8659"/>
                  <a:pt x="2307" y="8781"/>
                </a:cubicBezTo>
                <a:cubicBezTo>
                  <a:pt x="2329" y="8868"/>
                  <a:pt x="2285" y="8879"/>
                  <a:pt x="2356" y="8930"/>
                </a:cubicBezTo>
                <a:cubicBezTo>
                  <a:pt x="2509" y="9040"/>
                  <a:pt x="3130" y="8930"/>
                  <a:pt x="3324" y="8954"/>
                </a:cubicBezTo>
                <a:cubicBezTo>
                  <a:pt x="3436" y="8968"/>
                  <a:pt x="3537" y="8997"/>
                  <a:pt x="3646" y="9004"/>
                </a:cubicBezTo>
                <a:cubicBezTo>
                  <a:pt x="3911" y="9020"/>
                  <a:pt x="4178" y="8992"/>
                  <a:pt x="4440" y="9029"/>
                </a:cubicBezTo>
                <a:cubicBezTo>
                  <a:pt x="4585" y="9049"/>
                  <a:pt x="4713" y="9070"/>
                  <a:pt x="4862" y="9079"/>
                </a:cubicBezTo>
                <a:cubicBezTo>
                  <a:pt x="5362" y="9110"/>
                  <a:pt x="5876" y="9098"/>
                  <a:pt x="6375" y="9103"/>
                </a:cubicBezTo>
                <a:cubicBezTo>
                  <a:pt x="6583" y="9105"/>
                  <a:pt x="6793" y="9103"/>
                  <a:pt x="6995" y="9103"/>
                </a:cubicBezTo>
                <a:cubicBezTo>
                  <a:pt x="7750" y="9103"/>
                  <a:pt x="8509" y="9111"/>
                  <a:pt x="9252" y="9153"/>
                </a:cubicBezTo>
                <a:cubicBezTo>
                  <a:pt x="9928" y="9191"/>
                  <a:pt x="10622" y="9141"/>
                  <a:pt x="11286" y="9103"/>
                </a:cubicBezTo>
                <a:cubicBezTo>
                  <a:pt x="11574" y="9086"/>
                  <a:pt x="11867" y="9087"/>
                  <a:pt x="12154" y="9079"/>
                </a:cubicBezTo>
                <a:cubicBezTo>
                  <a:pt x="12830" y="9060"/>
                  <a:pt x="13504" y="9085"/>
                  <a:pt x="14163" y="9153"/>
                </a:cubicBezTo>
                <a:cubicBezTo>
                  <a:pt x="14413" y="9179"/>
                  <a:pt x="14717" y="9200"/>
                  <a:pt x="14957" y="9153"/>
                </a:cubicBezTo>
                <a:cubicBezTo>
                  <a:pt x="15048" y="9135"/>
                  <a:pt x="15058" y="9171"/>
                  <a:pt x="15106" y="9079"/>
                </a:cubicBezTo>
                <a:cubicBezTo>
                  <a:pt x="15118" y="9057"/>
                  <a:pt x="15096" y="8994"/>
                  <a:pt x="15106" y="8930"/>
                </a:cubicBezTo>
                <a:cubicBezTo>
                  <a:pt x="15123" y="8823"/>
                  <a:pt x="15125" y="8632"/>
                  <a:pt x="15131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cursive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quence where the later terms are defined by using the previous te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the first five terms of this recursive sequence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= 32; 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k+1</a:t>
            </a:r>
            <a:r>
              <a:rPr b="0" lang="en-US" sz="4000" spc="-1" strike="noStrike" baseline="30000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= 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-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Ink 5"/>
          <p:cNvSpPr/>
          <p:nvPr/>
        </p:nvSpPr>
        <p:spPr>
          <a:xfrm>
            <a:off x="2178000" y="258840"/>
            <a:ext cx="2054160" cy="554040"/>
          </a:xfrm>
          <a:custGeom>
            <a:avLst/>
            <a:gdLst/>
            <a:ahLst/>
            <a:rect l="l" t="t" r="r" b="b"/>
            <a:pathLst>
              <a:path w="5706" h="1539">
                <a:moveTo>
                  <a:pt x="6102" y="1166"/>
                </a:moveTo>
                <a:cubicBezTo>
                  <a:pt x="6094" y="1174"/>
                  <a:pt x="6085" y="1183"/>
                  <a:pt x="6077" y="1191"/>
                </a:cubicBezTo>
                <a:cubicBezTo>
                  <a:pt x="6055" y="1135"/>
                  <a:pt x="6080" y="1074"/>
                  <a:pt x="6127" y="1017"/>
                </a:cubicBezTo>
                <a:cubicBezTo>
                  <a:pt x="6165" y="971"/>
                  <a:pt x="6206" y="952"/>
                  <a:pt x="6251" y="918"/>
                </a:cubicBezTo>
                <a:cubicBezTo>
                  <a:pt x="6300" y="881"/>
                  <a:pt x="6326" y="826"/>
                  <a:pt x="6400" y="843"/>
                </a:cubicBezTo>
                <a:cubicBezTo>
                  <a:pt x="6473" y="859"/>
                  <a:pt x="6491" y="939"/>
                  <a:pt x="6499" y="992"/>
                </a:cubicBezTo>
                <a:cubicBezTo>
                  <a:pt x="6509" y="1062"/>
                  <a:pt x="6495" y="1152"/>
                  <a:pt x="6474" y="1215"/>
                </a:cubicBezTo>
                <a:cubicBezTo>
                  <a:pt x="6452" y="1282"/>
                  <a:pt x="6442" y="1353"/>
                  <a:pt x="6400" y="1414"/>
                </a:cubicBezTo>
                <a:cubicBezTo>
                  <a:pt x="6374" y="1452"/>
                  <a:pt x="6349" y="1471"/>
                  <a:pt x="6325" y="1513"/>
                </a:cubicBezTo>
                <a:cubicBezTo>
                  <a:pt x="6361" y="1450"/>
                  <a:pt x="6384" y="1424"/>
                  <a:pt x="6449" y="1389"/>
                </a:cubicBezTo>
                <a:cubicBezTo>
                  <a:pt x="6505" y="1359"/>
                  <a:pt x="6575" y="1376"/>
                  <a:pt x="6623" y="1414"/>
                </a:cubicBezTo>
                <a:cubicBezTo>
                  <a:pt x="6681" y="1461"/>
                  <a:pt x="6705" y="1550"/>
                  <a:pt x="6722" y="1612"/>
                </a:cubicBezTo>
                <a:cubicBezTo>
                  <a:pt x="6749" y="1709"/>
                  <a:pt x="6756" y="1769"/>
                  <a:pt x="6697" y="1860"/>
                </a:cubicBezTo>
                <a:cubicBezTo>
                  <a:pt x="6647" y="1937"/>
                  <a:pt x="6577" y="1951"/>
                  <a:pt x="6499" y="1984"/>
                </a:cubicBezTo>
                <a:cubicBezTo>
                  <a:pt x="6425" y="2015"/>
                  <a:pt x="6332" y="2031"/>
                  <a:pt x="6251" y="2034"/>
                </a:cubicBezTo>
                <a:cubicBezTo>
                  <a:pt x="6134" y="2039"/>
                  <a:pt x="6091" y="2021"/>
                  <a:pt x="6077" y="1910"/>
                </a:cubicBezTo>
              </a:path>
              <a:path w="5706" h="1539">
                <a:moveTo>
                  <a:pt x="7045" y="1141"/>
                </a:moveTo>
                <a:cubicBezTo>
                  <a:pt x="7073" y="1077"/>
                  <a:pt x="7092" y="997"/>
                  <a:pt x="7119" y="943"/>
                </a:cubicBezTo>
                <a:cubicBezTo>
                  <a:pt x="7138" y="905"/>
                  <a:pt x="7179" y="844"/>
                  <a:pt x="7218" y="819"/>
                </a:cubicBezTo>
                <a:cubicBezTo>
                  <a:pt x="7271" y="785"/>
                  <a:pt x="7332" y="735"/>
                  <a:pt x="7392" y="794"/>
                </a:cubicBezTo>
                <a:cubicBezTo>
                  <a:pt x="7451" y="853"/>
                  <a:pt x="7450" y="947"/>
                  <a:pt x="7466" y="1017"/>
                </a:cubicBezTo>
                <a:cubicBezTo>
                  <a:pt x="7490" y="1120"/>
                  <a:pt x="7491" y="1208"/>
                  <a:pt x="7491" y="1315"/>
                </a:cubicBezTo>
                <a:cubicBezTo>
                  <a:pt x="7491" y="1417"/>
                  <a:pt x="7452" y="1494"/>
                  <a:pt x="7417" y="1588"/>
                </a:cubicBezTo>
                <a:cubicBezTo>
                  <a:pt x="7384" y="1675"/>
                  <a:pt x="7321" y="1755"/>
                  <a:pt x="7243" y="1811"/>
                </a:cubicBezTo>
                <a:cubicBezTo>
                  <a:pt x="7165" y="1867"/>
                  <a:pt x="7062" y="1841"/>
                  <a:pt x="6995" y="1786"/>
                </a:cubicBezTo>
                <a:cubicBezTo>
                  <a:pt x="6938" y="1739"/>
                  <a:pt x="6939" y="1721"/>
                  <a:pt x="6970" y="1662"/>
                </a:cubicBezTo>
                <a:cubicBezTo>
                  <a:pt x="7004" y="1598"/>
                  <a:pt x="7030" y="1572"/>
                  <a:pt x="7094" y="1538"/>
                </a:cubicBezTo>
                <a:cubicBezTo>
                  <a:pt x="7154" y="1506"/>
                  <a:pt x="7234" y="1495"/>
                  <a:pt x="7293" y="1538"/>
                </a:cubicBezTo>
                <a:cubicBezTo>
                  <a:pt x="7345" y="1576"/>
                  <a:pt x="7382" y="1636"/>
                  <a:pt x="7417" y="1687"/>
                </a:cubicBezTo>
                <a:cubicBezTo>
                  <a:pt x="7454" y="1740"/>
                  <a:pt x="7485" y="1782"/>
                  <a:pt x="7516" y="1836"/>
                </a:cubicBezTo>
              </a:path>
              <a:path w="5706" h="1539">
                <a:moveTo>
                  <a:pt x="7913" y="1736"/>
                </a:moveTo>
                <a:cubicBezTo>
                  <a:pt x="7913" y="1880"/>
                  <a:pt x="7952" y="1908"/>
                  <a:pt x="7888" y="1960"/>
                </a:cubicBezTo>
              </a:path>
              <a:path w="5706" h="1539">
                <a:moveTo>
                  <a:pt x="8384" y="843"/>
                </a:moveTo>
                <a:cubicBezTo>
                  <a:pt x="8412" y="871"/>
                  <a:pt x="8421" y="885"/>
                  <a:pt x="8409" y="918"/>
                </a:cubicBezTo>
                <a:cubicBezTo>
                  <a:pt x="8448" y="878"/>
                  <a:pt x="8471" y="834"/>
                  <a:pt x="8508" y="794"/>
                </a:cubicBezTo>
                <a:cubicBezTo>
                  <a:pt x="8541" y="758"/>
                  <a:pt x="8607" y="707"/>
                  <a:pt x="8657" y="719"/>
                </a:cubicBezTo>
                <a:cubicBezTo>
                  <a:pt x="8740" y="739"/>
                  <a:pt x="8750" y="821"/>
                  <a:pt x="8731" y="893"/>
                </a:cubicBezTo>
                <a:cubicBezTo>
                  <a:pt x="8712" y="965"/>
                  <a:pt x="8664" y="1048"/>
                  <a:pt x="8632" y="1116"/>
                </a:cubicBezTo>
                <a:cubicBezTo>
                  <a:pt x="8602" y="1178"/>
                  <a:pt x="8551" y="1237"/>
                  <a:pt x="8508" y="1290"/>
                </a:cubicBezTo>
                <a:cubicBezTo>
                  <a:pt x="8556" y="1205"/>
                  <a:pt x="8560" y="1227"/>
                  <a:pt x="8632" y="1191"/>
                </a:cubicBezTo>
                <a:cubicBezTo>
                  <a:pt x="8670" y="1172"/>
                  <a:pt x="8711" y="1179"/>
                  <a:pt x="8756" y="1215"/>
                </a:cubicBezTo>
                <a:cubicBezTo>
                  <a:pt x="8791" y="1243"/>
                  <a:pt x="8834" y="1347"/>
                  <a:pt x="8830" y="1389"/>
                </a:cubicBezTo>
                <a:cubicBezTo>
                  <a:pt x="8823" y="1452"/>
                  <a:pt x="8779" y="1547"/>
                  <a:pt x="8731" y="1588"/>
                </a:cubicBezTo>
                <a:cubicBezTo>
                  <a:pt x="8659" y="1650"/>
                  <a:pt x="8596" y="1665"/>
                  <a:pt x="8508" y="1687"/>
                </a:cubicBezTo>
                <a:cubicBezTo>
                  <a:pt x="8471" y="1696"/>
                  <a:pt x="8335" y="1753"/>
                  <a:pt x="8310" y="1687"/>
                </a:cubicBezTo>
                <a:cubicBezTo>
                  <a:pt x="8291" y="1638"/>
                  <a:pt x="8339" y="1579"/>
                  <a:pt x="8359" y="1538"/>
                </a:cubicBezTo>
              </a:path>
              <a:path w="5706" h="1539">
                <a:moveTo>
                  <a:pt x="9103" y="967"/>
                </a:moveTo>
                <a:cubicBezTo>
                  <a:pt x="9103" y="1158"/>
                  <a:pt x="9050" y="1438"/>
                  <a:pt x="9128" y="1612"/>
                </a:cubicBezTo>
                <a:cubicBezTo>
                  <a:pt x="9161" y="1686"/>
                  <a:pt x="9197" y="1708"/>
                  <a:pt x="9277" y="1712"/>
                </a:cubicBezTo>
                <a:cubicBezTo>
                  <a:pt x="9386" y="1717"/>
                  <a:pt x="9461" y="1676"/>
                  <a:pt x="9525" y="1588"/>
                </a:cubicBezTo>
                <a:cubicBezTo>
                  <a:pt x="9579" y="1514"/>
                  <a:pt x="9635" y="1435"/>
                  <a:pt x="9649" y="1339"/>
                </a:cubicBezTo>
                <a:cubicBezTo>
                  <a:pt x="9664" y="1241"/>
                  <a:pt x="9664" y="1106"/>
                  <a:pt x="9624" y="1017"/>
                </a:cubicBezTo>
                <a:cubicBezTo>
                  <a:pt x="9614" y="994"/>
                  <a:pt x="9564" y="865"/>
                  <a:pt x="9525" y="868"/>
                </a:cubicBezTo>
                <a:cubicBezTo>
                  <a:pt x="9417" y="876"/>
                  <a:pt x="9372" y="967"/>
                  <a:pt x="9302" y="1042"/>
                </a:cubicBezTo>
                <a:cubicBezTo>
                  <a:pt x="9294" y="1050"/>
                  <a:pt x="9285" y="1059"/>
                  <a:pt x="9277" y="1067"/>
                </a:cubicBezTo>
              </a:path>
              <a:path w="5706" h="1539">
                <a:moveTo>
                  <a:pt x="9872" y="1836"/>
                </a:moveTo>
                <a:cubicBezTo>
                  <a:pt x="9895" y="1942"/>
                  <a:pt x="9906" y="1986"/>
                  <a:pt x="9872" y="2084"/>
                </a:cubicBezTo>
                <a:cubicBezTo>
                  <a:pt x="9850" y="2146"/>
                  <a:pt x="9827" y="2199"/>
                  <a:pt x="9798" y="2257"/>
                </a:cubicBezTo>
              </a:path>
              <a:path w="5706" h="1539">
                <a:moveTo>
                  <a:pt x="10294" y="918"/>
                </a:moveTo>
                <a:cubicBezTo>
                  <a:pt x="10362" y="884"/>
                  <a:pt x="10417" y="847"/>
                  <a:pt x="10492" y="843"/>
                </a:cubicBezTo>
                <a:cubicBezTo>
                  <a:pt x="10569" y="839"/>
                  <a:pt x="10635" y="880"/>
                  <a:pt x="10616" y="967"/>
                </a:cubicBezTo>
                <a:cubicBezTo>
                  <a:pt x="10595" y="1065"/>
                  <a:pt x="10563" y="1173"/>
                  <a:pt x="10517" y="1265"/>
                </a:cubicBezTo>
                <a:cubicBezTo>
                  <a:pt x="10471" y="1358"/>
                  <a:pt x="10399" y="1450"/>
                  <a:pt x="10344" y="1538"/>
                </a:cubicBezTo>
                <a:cubicBezTo>
                  <a:pt x="10325" y="1569"/>
                  <a:pt x="10203" y="1721"/>
                  <a:pt x="10294" y="1761"/>
                </a:cubicBezTo>
                <a:cubicBezTo>
                  <a:pt x="10371" y="1795"/>
                  <a:pt x="10452" y="1737"/>
                  <a:pt x="10517" y="1712"/>
                </a:cubicBezTo>
                <a:cubicBezTo>
                  <a:pt x="10644" y="1663"/>
                  <a:pt x="10690" y="1613"/>
                  <a:pt x="10790" y="1513"/>
                </a:cubicBezTo>
              </a:path>
              <a:path w="5706" h="1539">
                <a:moveTo>
                  <a:pt x="11410" y="819"/>
                </a:moveTo>
                <a:cubicBezTo>
                  <a:pt x="11352" y="775"/>
                  <a:pt x="11295" y="746"/>
                  <a:pt x="11212" y="769"/>
                </a:cubicBezTo>
                <a:cubicBezTo>
                  <a:pt x="11133" y="791"/>
                  <a:pt x="11085" y="837"/>
                  <a:pt x="11038" y="893"/>
                </a:cubicBezTo>
                <a:cubicBezTo>
                  <a:pt x="10996" y="943"/>
                  <a:pt x="11072" y="1044"/>
                  <a:pt x="11112" y="1091"/>
                </a:cubicBezTo>
                <a:cubicBezTo>
                  <a:pt x="11210" y="1207"/>
                  <a:pt x="11334" y="1309"/>
                  <a:pt x="11410" y="1439"/>
                </a:cubicBezTo>
                <a:cubicBezTo>
                  <a:pt x="11435" y="1488"/>
                  <a:pt x="11443" y="1505"/>
                  <a:pt x="11410" y="1538"/>
                </a:cubicBezTo>
                <a:cubicBezTo>
                  <a:pt x="11328" y="1526"/>
                  <a:pt x="11245" y="1450"/>
                  <a:pt x="11212" y="1364"/>
                </a:cubicBezTo>
                <a:cubicBezTo>
                  <a:pt x="11185" y="1293"/>
                  <a:pt x="11216" y="1236"/>
                  <a:pt x="11261" y="1191"/>
                </a:cubicBezTo>
                <a:cubicBezTo>
                  <a:pt x="11298" y="1154"/>
                  <a:pt x="11342" y="1128"/>
                  <a:pt x="11361" y="1091"/>
                </a:cubicBezTo>
              </a:path>
              <a:path w="5706" h="1539">
                <a:moveTo>
                  <a:pt x="11757" y="1761"/>
                </a:moveTo>
                <a:cubicBezTo>
                  <a:pt x="11746" y="1859"/>
                  <a:pt x="11741" y="1965"/>
                  <a:pt x="11708" y="2059"/>
                </a:cubicBezTo>
                <a:cubicBezTo>
                  <a:pt x="11683" y="2129"/>
                  <a:pt x="11683" y="2181"/>
                  <a:pt x="11683" y="22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6"/>
          <p:cNvSpPr/>
          <p:nvPr/>
        </p:nvSpPr>
        <p:spPr>
          <a:xfrm>
            <a:off x="4394160" y="258840"/>
            <a:ext cx="1008000" cy="590400"/>
          </a:xfrm>
          <a:custGeom>
            <a:avLst/>
            <a:gdLst/>
            <a:ahLst/>
            <a:rect l="l" t="t" r="r" b="b"/>
            <a:pathLst>
              <a:path w="2804" h="1638">
                <a:moveTo>
                  <a:pt x="12204" y="868"/>
                </a:moveTo>
                <a:cubicBezTo>
                  <a:pt x="12269" y="813"/>
                  <a:pt x="12350" y="721"/>
                  <a:pt x="12452" y="744"/>
                </a:cubicBezTo>
                <a:cubicBezTo>
                  <a:pt x="12520" y="759"/>
                  <a:pt x="12582" y="822"/>
                  <a:pt x="12576" y="893"/>
                </a:cubicBezTo>
                <a:cubicBezTo>
                  <a:pt x="12565" y="1017"/>
                  <a:pt x="12446" y="1133"/>
                  <a:pt x="12402" y="1240"/>
                </a:cubicBezTo>
                <a:cubicBezTo>
                  <a:pt x="12361" y="1340"/>
                  <a:pt x="12324" y="1438"/>
                  <a:pt x="12278" y="1538"/>
                </a:cubicBezTo>
                <a:cubicBezTo>
                  <a:pt x="12241" y="1617"/>
                  <a:pt x="12213" y="1640"/>
                  <a:pt x="12278" y="1712"/>
                </a:cubicBezTo>
                <a:cubicBezTo>
                  <a:pt x="12344" y="1784"/>
                  <a:pt x="12437" y="1713"/>
                  <a:pt x="12502" y="1687"/>
                </a:cubicBezTo>
                <a:cubicBezTo>
                  <a:pt x="12601" y="1647"/>
                  <a:pt x="12649" y="1589"/>
                  <a:pt x="12725" y="1513"/>
                </a:cubicBezTo>
              </a:path>
              <a:path w="2804" h="1638">
                <a:moveTo>
                  <a:pt x="12898" y="719"/>
                </a:moveTo>
                <a:cubicBezTo>
                  <a:pt x="12888" y="802"/>
                  <a:pt x="12857" y="883"/>
                  <a:pt x="12849" y="967"/>
                </a:cubicBezTo>
                <a:cubicBezTo>
                  <a:pt x="12836" y="1100"/>
                  <a:pt x="12844" y="1207"/>
                  <a:pt x="12849" y="1339"/>
                </a:cubicBezTo>
                <a:cubicBezTo>
                  <a:pt x="12852" y="1427"/>
                  <a:pt x="12870" y="1467"/>
                  <a:pt x="12948" y="1513"/>
                </a:cubicBezTo>
                <a:cubicBezTo>
                  <a:pt x="13022" y="1557"/>
                  <a:pt x="13146" y="1556"/>
                  <a:pt x="13221" y="1513"/>
                </a:cubicBezTo>
                <a:cubicBezTo>
                  <a:pt x="13279" y="1480"/>
                  <a:pt x="13355" y="1329"/>
                  <a:pt x="13370" y="1265"/>
                </a:cubicBezTo>
                <a:cubicBezTo>
                  <a:pt x="13370" y="1213"/>
                  <a:pt x="13369" y="1195"/>
                  <a:pt x="13345" y="1166"/>
                </a:cubicBezTo>
                <a:cubicBezTo>
                  <a:pt x="13271" y="1212"/>
                  <a:pt x="13223" y="1269"/>
                  <a:pt x="13171" y="1339"/>
                </a:cubicBezTo>
                <a:cubicBezTo>
                  <a:pt x="13102" y="1433"/>
                  <a:pt x="13074" y="1533"/>
                  <a:pt x="13047" y="1637"/>
                </a:cubicBezTo>
                <a:cubicBezTo>
                  <a:pt x="13018" y="1747"/>
                  <a:pt x="12998" y="1850"/>
                  <a:pt x="12973" y="1960"/>
                </a:cubicBezTo>
              </a:path>
              <a:path w="2804" h="1638">
                <a:moveTo>
                  <a:pt x="13568" y="1811"/>
                </a:moveTo>
                <a:cubicBezTo>
                  <a:pt x="13568" y="1915"/>
                  <a:pt x="13571" y="2007"/>
                  <a:pt x="13543" y="2108"/>
                </a:cubicBezTo>
                <a:cubicBezTo>
                  <a:pt x="13522" y="2183"/>
                  <a:pt x="13500" y="2256"/>
                  <a:pt x="13494" y="2332"/>
                </a:cubicBezTo>
                <a:cubicBezTo>
                  <a:pt x="13494" y="2340"/>
                  <a:pt x="13494" y="2348"/>
                  <a:pt x="13494" y="2356"/>
                </a:cubicBezTo>
              </a:path>
              <a:path w="2804" h="1638">
                <a:moveTo>
                  <a:pt x="13940" y="1191"/>
                </a:moveTo>
                <a:cubicBezTo>
                  <a:pt x="14005" y="1035"/>
                  <a:pt x="13996" y="1028"/>
                  <a:pt x="14139" y="967"/>
                </a:cubicBezTo>
                <a:cubicBezTo>
                  <a:pt x="14213" y="936"/>
                  <a:pt x="14309" y="952"/>
                  <a:pt x="14362" y="1017"/>
                </a:cubicBezTo>
                <a:cubicBezTo>
                  <a:pt x="14432" y="1104"/>
                  <a:pt x="14364" y="1187"/>
                  <a:pt x="14337" y="1265"/>
                </a:cubicBezTo>
                <a:cubicBezTo>
                  <a:pt x="14289" y="1402"/>
                  <a:pt x="14214" y="1488"/>
                  <a:pt x="14139" y="1612"/>
                </a:cubicBezTo>
                <a:cubicBezTo>
                  <a:pt x="14102" y="1673"/>
                  <a:pt x="14033" y="1730"/>
                  <a:pt x="14064" y="1811"/>
                </a:cubicBezTo>
                <a:cubicBezTo>
                  <a:pt x="14091" y="1881"/>
                  <a:pt x="14143" y="1906"/>
                  <a:pt x="14213" y="1910"/>
                </a:cubicBezTo>
                <a:cubicBezTo>
                  <a:pt x="14330" y="1917"/>
                  <a:pt x="14403" y="1855"/>
                  <a:pt x="14486" y="1786"/>
                </a:cubicBezTo>
              </a:path>
              <a:path w="2804" h="1638">
                <a:moveTo>
                  <a:pt x="14610" y="967"/>
                </a:moveTo>
                <a:cubicBezTo>
                  <a:pt x="14619" y="1052"/>
                  <a:pt x="14635" y="1127"/>
                  <a:pt x="14635" y="1215"/>
                </a:cubicBezTo>
                <a:cubicBezTo>
                  <a:pt x="14635" y="1266"/>
                  <a:pt x="14664" y="1339"/>
                  <a:pt x="14734" y="1315"/>
                </a:cubicBezTo>
                <a:cubicBezTo>
                  <a:pt x="14768" y="1303"/>
                  <a:pt x="14822" y="1258"/>
                  <a:pt x="14858" y="1240"/>
                </a:cubicBezTo>
              </a:path>
              <a:path w="2804" h="1638">
                <a:moveTo>
                  <a:pt x="15007" y="719"/>
                </a:moveTo>
                <a:cubicBezTo>
                  <a:pt x="14996" y="821"/>
                  <a:pt x="14982" y="911"/>
                  <a:pt x="14982" y="1017"/>
                </a:cubicBezTo>
                <a:cubicBezTo>
                  <a:pt x="14982" y="1197"/>
                  <a:pt x="14940" y="1386"/>
                  <a:pt x="14957" y="1563"/>
                </a:cubicBezTo>
                <a:cubicBezTo>
                  <a:pt x="14969" y="1689"/>
                  <a:pt x="14982" y="1806"/>
                  <a:pt x="14982" y="1935"/>
                </a:cubicBezTo>
                <a:cubicBezTo>
                  <a:pt x="14982" y="1960"/>
                  <a:pt x="14982" y="1984"/>
                  <a:pt x="14982" y="20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7"/>
          <p:cNvSpPr/>
          <p:nvPr/>
        </p:nvSpPr>
        <p:spPr>
          <a:xfrm>
            <a:off x="4160880" y="2544840"/>
            <a:ext cx="1009440" cy="312840"/>
          </a:xfrm>
          <a:custGeom>
            <a:avLst/>
            <a:gdLst/>
            <a:ahLst/>
            <a:rect l="l" t="t" r="r" b="b"/>
            <a:pathLst>
              <a:path w="2804" h="870">
                <a:moveTo>
                  <a:pt x="12874" y="7417"/>
                </a:moveTo>
                <a:cubicBezTo>
                  <a:pt x="12874" y="7425"/>
                  <a:pt x="12874" y="7433"/>
                  <a:pt x="12874" y="7441"/>
                </a:cubicBezTo>
              </a:path>
              <a:path w="2804" h="870">
                <a:moveTo>
                  <a:pt x="13816" y="7441"/>
                </a:moveTo>
                <a:cubicBezTo>
                  <a:pt x="13824" y="7449"/>
                  <a:pt x="13833" y="7458"/>
                  <a:pt x="13841" y="7466"/>
                </a:cubicBezTo>
              </a:path>
              <a:path w="2804" h="870">
                <a:moveTo>
                  <a:pt x="12998" y="7392"/>
                </a:moveTo>
                <a:cubicBezTo>
                  <a:pt x="12973" y="7400"/>
                  <a:pt x="12948" y="7409"/>
                  <a:pt x="12923" y="7417"/>
                </a:cubicBezTo>
              </a:path>
              <a:path w="2804" h="870">
                <a:moveTo>
                  <a:pt x="13767" y="7317"/>
                </a:moveTo>
                <a:cubicBezTo>
                  <a:pt x="13775" y="7325"/>
                  <a:pt x="13783" y="7334"/>
                  <a:pt x="13791" y="7342"/>
                </a:cubicBezTo>
              </a:path>
              <a:path w="2804" h="870">
                <a:moveTo>
                  <a:pt x="11708" y="7069"/>
                </a:moveTo>
                <a:cubicBezTo>
                  <a:pt x="11718" y="7131"/>
                  <a:pt x="11723" y="7168"/>
                  <a:pt x="11708" y="7243"/>
                </a:cubicBezTo>
                <a:cubicBezTo>
                  <a:pt x="11694" y="7314"/>
                  <a:pt x="11649" y="7371"/>
                  <a:pt x="11633" y="7441"/>
                </a:cubicBezTo>
                <a:cubicBezTo>
                  <a:pt x="11616" y="7516"/>
                  <a:pt x="11602" y="7591"/>
                  <a:pt x="11584" y="7665"/>
                </a:cubicBezTo>
                <a:cubicBezTo>
                  <a:pt x="11567" y="7736"/>
                  <a:pt x="11556" y="7776"/>
                  <a:pt x="11584" y="7838"/>
                </a:cubicBezTo>
                <a:cubicBezTo>
                  <a:pt x="11621" y="7920"/>
                  <a:pt x="11615" y="7906"/>
                  <a:pt x="11708" y="7888"/>
                </a:cubicBezTo>
                <a:cubicBezTo>
                  <a:pt x="11783" y="7873"/>
                  <a:pt x="11836" y="7848"/>
                  <a:pt x="11906" y="7838"/>
                </a:cubicBezTo>
                <a:cubicBezTo>
                  <a:pt x="11997" y="7825"/>
                  <a:pt x="12086" y="7799"/>
                  <a:pt x="12179" y="7789"/>
                </a:cubicBezTo>
                <a:cubicBezTo>
                  <a:pt x="12488" y="7756"/>
                  <a:pt x="12816" y="7795"/>
                  <a:pt x="13122" y="7813"/>
                </a:cubicBezTo>
                <a:cubicBezTo>
                  <a:pt x="13298" y="7823"/>
                  <a:pt x="13469" y="7832"/>
                  <a:pt x="13643" y="7863"/>
                </a:cubicBezTo>
                <a:cubicBezTo>
                  <a:pt x="13783" y="7888"/>
                  <a:pt x="13923" y="7908"/>
                  <a:pt x="14064" y="7913"/>
                </a:cubicBezTo>
                <a:cubicBezTo>
                  <a:pt x="14144" y="7916"/>
                  <a:pt x="14207" y="7948"/>
                  <a:pt x="14288" y="7938"/>
                </a:cubicBezTo>
                <a:cubicBezTo>
                  <a:pt x="14332" y="7938"/>
                  <a:pt x="14346" y="7941"/>
                  <a:pt x="14362" y="7913"/>
                </a:cubicBezTo>
                <a:cubicBezTo>
                  <a:pt x="14348" y="7853"/>
                  <a:pt x="14317" y="7767"/>
                  <a:pt x="14312" y="7714"/>
                </a:cubicBezTo>
                <a:cubicBezTo>
                  <a:pt x="14305" y="7641"/>
                  <a:pt x="14294" y="7583"/>
                  <a:pt x="14288" y="7516"/>
                </a:cubicBezTo>
                <a:cubicBezTo>
                  <a:pt x="14281" y="7435"/>
                  <a:pt x="14288" y="7349"/>
                  <a:pt x="14288" y="7268"/>
                </a:cubicBezTo>
                <a:cubicBezTo>
                  <a:pt x="14288" y="7326"/>
                  <a:pt x="14288" y="7383"/>
                  <a:pt x="14288" y="74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8"/>
          <p:cNvSpPr/>
          <p:nvPr/>
        </p:nvSpPr>
        <p:spPr>
          <a:xfrm>
            <a:off x="2303640" y="2919240"/>
            <a:ext cx="661680" cy="536760"/>
          </a:xfrm>
          <a:custGeom>
            <a:avLst/>
            <a:gdLst/>
            <a:ahLst/>
            <a:rect l="l" t="t" r="r" b="b"/>
            <a:pathLst>
              <a:path w="1836" h="1489">
                <a:moveTo>
                  <a:pt x="6598" y="8558"/>
                </a:moveTo>
                <a:cubicBezTo>
                  <a:pt x="6571" y="8637"/>
                  <a:pt x="6566" y="8702"/>
                  <a:pt x="6548" y="8781"/>
                </a:cubicBezTo>
                <a:cubicBezTo>
                  <a:pt x="6529" y="8863"/>
                  <a:pt x="6486" y="8946"/>
                  <a:pt x="6474" y="9029"/>
                </a:cubicBezTo>
                <a:cubicBezTo>
                  <a:pt x="6463" y="9105"/>
                  <a:pt x="6436" y="9186"/>
                  <a:pt x="6424" y="9252"/>
                </a:cubicBezTo>
                <a:cubicBezTo>
                  <a:pt x="6417" y="9288"/>
                  <a:pt x="6430" y="9281"/>
                  <a:pt x="6400" y="9302"/>
                </a:cubicBezTo>
                <a:cubicBezTo>
                  <a:pt x="6408" y="9201"/>
                  <a:pt x="6419" y="9101"/>
                  <a:pt x="6449" y="9004"/>
                </a:cubicBezTo>
                <a:cubicBezTo>
                  <a:pt x="6511" y="8804"/>
                  <a:pt x="6589" y="8610"/>
                  <a:pt x="6648" y="8409"/>
                </a:cubicBezTo>
                <a:cubicBezTo>
                  <a:pt x="6670" y="8336"/>
                  <a:pt x="6703" y="8249"/>
                  <a:pt x="6747" y="8186"/>
                </a:cubicBezTo>
                <a:cubicBezTo>
                  <a:pt x="6766" y="8159"/>
                  <a:pt x="6798" y="8134"/>
                  <a:pt x="6821" y="8111"/>
                </a:cubicBezTo>
                <a:cubicBezTo>
                  <a:pt x="6913" y="8124"/>
                  <a:pt x="6928" y="8189"/>
                  <a:pt x="6945" y="8285"/>
                </a:cubicBezTo>
                <a:cubicBezTo>
                  <a:pt x="6961" y="8375"/>
                  <a:pt x="6978" y="8468"/>
                  <a:pt x="6995" y="8558"/>
                </a:cubicBezTo>
                <a:cubicBezTo>
                  <a:pt x="7018" y="8680"/>
                  <a:pt x="7021" y="8809"/>
                  <a:pt x="7045" y="8930"/>
                </a:cubicBezTo>
                <a:cubicBezTo>
                  <a:pt x="7065" y="9029"/>
                  <a:pt x="7091" y="9132"/>
                  <a:pt x="7119" y="9227"/>
                </a:cubicBezTo>
                <a:cubicBezTo>
                  <a:pt x="7136" y="9283"/>
                  <a:pt x="7135" y="9426"/>
                  <a:pt x="7169" y="9327"/>
                </a:cubicBezTo>
              </a:path>
              <a:path w="1836" h="1489">
                <a:moveTo>
                  <a:pt x="6598" y="9004"/>
                </a:moveTo>
                <a:cubicBezTo>
                  <a:pt x="6692" y="9026"/>
                  <a:pt x="6774" y="9029"/>
                  <a:pt x="6871" y="9029"/>
                </a:cubicBezTo>
              </a:path>
              <a:path w="1836" h="1489">
                <a:moveTo>
                  <a:pt x="7342" y="9153"/>
                </a:moveTo>
                <a:cubicBezTo>
                  <a:pt x="7389" y="9139"/>
                  <a:pt x="7451" y="9066"/>
                  <a:pt x="7516" y="9103"/>
                </a:cubicBezTo>
                <a:cubicBezTo>
                  <a:pt x="7586" y="9143"/>
                  <a:pt x="7648" y="9169"/>
                  <a:pt x="7590" y="9227"/>
                </a:cubicBezTo>
                <a:cubicBezTo>
                  <a:pt x="7543" y="9274"/>
                  <a:pt x="7506" y="9353"/>
                  <a:pt x="7466" y="9376"/>
                </a:cubicBezTo>
                <a:cubicBezTo>
                  <a:pt x="7405" y="9411"/>
                  <a:pt x="7371" y="9441"/>
                  <a:pt x="7367" y="9500"/>
                </a:cubicBezTo>
                <a:cubicBezTo>
                  <a:pt x="7361" y="9590"/>
                  <a:pt x="7388" y="9599"/>
                  <a:pt x="7466" y="9599"/>
                </a:cubicBezTo>
                <a:cubicBezTo>
                  <a:pt x="7570" y="9599"/>
                  <a:pt x="7609" y="9609"/>
                  <a:pt x="7689" y="9550"/>
                </a:cubicBezTo>
              </a:path>
              <a:path w="1836" h="1489">
                <a:moveTo>
                  <a:pt x="7913" y="9004"/>
                </a:moveTo>
                <a:cubicBezTo>
                  <a:pt x="7971" y="9004"/>
                  <a:pt x="8028" y="9004"/>
                  <a:pt x="8086" y="9004"/>
                </a:cubicBezTo>
              </a:path>
              <a:path w="1836" h="1489">
                <a:moveTo>
                  <a:pt x="8012" y="9178"/>
                </a:moveTo>
                <a:cubicBezTo>
                  <a:pt x="8105" y="9228"/>
                  <a:pt x="8128" y="9227"/>
                  <a:pt x="8235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9"/>
          <p:cNvSpPr/>
          <p:nvPr/>
        </p:nvSpPr>
        <p:spPr>
          <a:xfrm>
            <a:off x="3152880" y="2741760"/>
            <a:ext cx="1839960" cy="714240"/>
          </a:xfrm>
          <a:custGeom>
            <a:avLst/>
            <a:gdLst/>
            <a:ahLst/>
            <a:rect l="l" t="t" r="r" b="b"/>
            <a:pathLst>
              <a:path w="5111" h="1985">
                <a:moveTo>
                  <a:pt x="8756" y="8632"/>
                </a:moveTo>
                <a:cubicBezTo>
                  <a:pt x="8791" y="8571"/>
                  <a:pt x="8832" y="8530"/>
                  <a:pt x="8905" y="8508"/>
                </a:cubicBezTo>
                <a:cubicBezTo>
                  <a:pt x="8973" y="8487"/>
                  <a:pt x="9034" y="8527"/>
                  <a:pt x="9079" y="8558"/>
                </a:cubicBezTo>
                <a:cubicBezTo>
                  <a:pt x="9134" y="8596"/>
                  <a:pt x="9100" y="8688"/>
                  <a:pt x="9079" y="8731"/>
                </a:cubicBezTo>
                <a:cubicBezTo>
                  <a:pt x="9046" y="8798"/>
                  <a:pt x="9007" y="8818"/>
                  <a:pt x="8954" y="8855"/>
                </a:cubicBezTo>
                <a:cubicBezTo>
                  <a:pt x="8896" y="8896"/>
                  <a:pt x="8926" y="8910"/>
                  <a:pt x="8855" y="8930"/>
                </a:cubicBezTo>
                <a:cubicBezTo>
                  <a:pt x="8929" y="8930"/>
                  <a:pt x="9127" y="8894"/>
                  <a:pt x="9178" y="8954"/>
                </a:cubicBezTo>
                <a:cubicBezTo>
                  <a:pt x="9223" y="9007"/>
                  <a:pt x="9274" y="9087"/>
                  <a:pt x="9277" y="9153"/>
                </a:cubicBezTo>
                <a:cubicBezTo>
                  <a:pt x="9280" y="9221"/>
                  <a:pt x="9268" y="9337"/>
                  <a:pt x="9203" y="9376"/>
                </a:cubicBezTo>
                <a:cubicBezTo>
                  <a:pt x="9171" y="9395"/>
                  <a:pt x="9037" y="9440"/>
                  <a:pt x="9004" y="9451"/>
                </a:cubicBezTo>
                <a:cubicBezTo>
                  <a:pt x="8974" y="9461"/>
                  <a:pt x="8848" y="9395"/>
                  <a:pt x="8830" y="9376"/>
                </a:cubicBezTo>
                <a:cubicBezTo>
                  <a:pt x="8810" y="9336"/>
                  <a:pt x="8802" y="9329"/>
                  <a:pt x="8806" y="9302"/>
                </a:cubicBezTo>
              </a:path>
              <a:path w="5111" h="1985">
                <a:moveTo>
                  <a:pt x="9500" y="8434"/>
                </a:moveTo>
                <a:cubicBezTo>
                  <a:pt x="9626" y="8418"/>
                  <a:pt x="9602" y="8443"/>
                  <a:pt x="9723" y="8483"/>
                </a:cubicBezTo>
                <a:cubicBezTo>
                  <a:pt x="9806" y="8510"/>
                  <a:pt x="9864" y="8569"/>
                  <a:pt x="9897" y="8657"/>
                </a:cubicBezTo>
                <a:cubicBezTo>
                  <a:pt x="9961" y="8827"/>
                  <a:pt x="9944" y="8909"/>
                  <a:pt x="9897" y="9079"/>
                </a:cubicBezTo>
                <a:cubicBezTo>
                  <a:pt x="9873" y="9166"/>
                  <a:pt x="9850" y="9248"/>
                  <a:pt x="9773" y="9302"/>
                </a:cubicBezTo>
                <a:cubicBezTo>
                  <a:pt x="9678" y="9369"/>
                  <a:pt x="9638" y="9402"/>
                  <a:pt x="9550" y="9327"/>
                </a:cubicBezTo>
                <a:cubicBezTo>
                  <a:pt x="9516" y="9298"/>
                  <a:pt x="9509" y="9185"/>
                  <a:pt x="9550" y="9153"/>
                </a:cubicBezTo>
                <a:cubicBezTo>
                  <a:pt x="9605" y="9111"/>
                  <a:pt x="9695" y="9201"/>
                  <a:pt x="9723" y="9227"/>
                </a:cubicBezTo>
                <a:cubicBezTo>
                  <a:pt x="9767" y="9267"/>
                  <a:pt x="9828" y="9350"/>
                  <a:pt x="9872" y="9376"/>
                </a:cubicBezTo>
                <a:cubicBezTo>
                  <a:pt x="9963" y="9430"/>
                  <a:pt x="9948" y="9450"/>
                  <a:pt x="9996" y="9401"/>
                </a:cubicBezTo>
              </a:path>
              <a:path w="5111" h="1985">
                <a:moveTo>
                  <a:pt x="10269" y="8954"/>
                </a:moveTo>
                <a:cubicBezTo>
                  <a:pt x="10329" y="8987"/>
                  <a:pt x="10439" y="9041"/>
                  <a:pt x="10517" y="9004"/>
                </a:cubicBezTo>
                <a:cubicBezTo>
                  <a:pt x="10534" y="8987"/>
                  <a:pt x="10550" y="8971"/>
                  <a:pt x="10567" y="8954"/>
                </a:cubicBezTo>
              </a:path>
              <a:path w="5111" h="1985">
                <a:moveTo>
                  <a:pt x="10765" y="8558"/>
                </a:moveTo>
                <a:cubicBezTo>
                  <a:pt x="10814" y="8472"/>
                  <a:pt x="10837" y="8444"/>
                  <a:pt x="10939" y="8434"/>
                </a:cubicBezTo>
                <a:cubicBezTo>
                  <a:pt x="11073" y="8421"/>
                  <a:pt x="11086" y="8546"/>
                  <a:pt x="11137" y="8632"/>
                </a:cubicBezTo>
                <a:cubicBezTo>
                  <a:pt x="11185" y="8714"/>
                  <a:pt x="11167" y="8790"/>
                  <a:pt x="11162" y="8880"/>
                </a:cubicBezTo>
                <a:cubicBezTo>
                  <a:pt x="11157" y="8967"/>
                  <a:pt x="11161" y="9097"/>
                  <a:pt x="11112" y="9178"/>
                </a:cubicBezTo>
                <a:cubicBezTo>
                  <a:pt x="11063" y="9259"/>
                  <a:pt x="10990" y="9345"/>
                  <a:pt x="10914" y="9376"/>
                </a:cubicBezTo>
                <a:cubicBezTo>
                  <a:pt x="10822" y="9413"/>
                  <a:pt x="10790" y="9356"/>
                  <a:pt x="10740" y="9302"/>
                </a:cubicBezTo>
                <a:cubicBezTo>
                  <a:pt x="10699" y="9258"/>
                  <a:pt x="10675" y="9239"/>
                  <a:pt x="10691" y="9153"/>
                </a:cubicBezTo>
                <a:cubicBezTo>
                  <a:pt x="10699" y="9136"/>
                  <a:pt x="10708" y="9120"/>
                  <a:pt x="10716" y="9103"/>
                </a:cubicBezTo>
                <a:cubicBezTo>
                  <a:pt x="10774" y="9118"/>
                  <a:pt x="10861" y="9140"/>
                  <a:pt x="10914" y="9178"/>
                </a:cubicBezTo>
                <a:cubicBezTo>
                  <a:pt x="10985" y="9229"/>
                  <a:pt x="11035" y="9310"/>
                  <a:pt x="11088" y="9376"/>
                </a:cubicBezTo>
                <a:cubicBezTo>
                  <a:pt x="11131" y="9430"/>
                  <a:pt x="11136" y="9474"/>
                  <a:pt x="11162" y="9525"/>
                </a:cubicBezTo>
                <a:cubicBezTo>
                  <a:pt x="11199" y="9600"/>
                  <a:pt x="11189" y="9597"/>
                  <a:pt x="11237" y="9550"/>
                </a:cubicBezTo>
              </a:path>
              <a:path w="5111" h="1985">
                <a:moveTo>
                  <a:pt x="11633" y="8930"/>
                </a:moveTo>
                <a:cubicBezTo>
                  <a:pt x="11778" y="8930"/>
                  <a:pt x="11904" y="8949"/>
                  <a:pt x="12030" y="8880"/>
                </a:cubicBezTo>
              </a:path>
              <a:path w="5111" h="1985">
                <a:moveTo>
                  <a:pt x="11757" y="9103"/>
                </a:moveTo>
                <a:cubicBezTo>
                  <a:pt x="11925" y="9170"/>
                  <a:pt x="11936" y="9128"/>
                  <a:pt x="12105" y="9079"/>
                </a:cubicBezTo>
              </a:path>
              <a:path w="5111" h="1985">
                <a:moveTo>
                  <a:pt x="12427" y="8632"/>
                </a:moveTo>
                <a:cubicBezTo>
                  <a:pt x="12492" y="8531"/>
                  <a:pt x="12485" y="8508"/>
                  <a:pt x="12601" y="8508"/>
                </a:cubicBezTo>
                <a:cubicBezTo>
                  <a:pt x="12658" y="8508"/>
                  <a:pt x="12745" y="8509"/>
                  <a:pt x="12774" y="8558"/>
                </a:cubicBezTo>
                <a:cubicBezTo>
                  <a:pt x="12812" y="8623"/>
                  <a:pt x="12852" y="8709"/>
                  <a:pt x="12799" y="8781"/>
                </a:cubicBezTo>
                <a:cubicBezTo>
                  <a:pt x="12757" y="8838"/>
                  <a:pt x="12695" y="8848"/>
                  <a:pt x="12626" y="8880"/>
                </a:cubicBezTo>
                <a:cubicBezTo>
                  <a:pt x="12552" y="8915"/>
                  <a:pt x="12324" y="8929"/>
                  <a:pt x="12402" y="8954"/>
                </a:cubicBezTo>
                <a:cubicBezTo>
                  <a:pt x="12522" y="8992"/>
                  <a:pt x="12613" y="8950"/>
                  <a:pt x="12725" y="9004"/>
                </a:cubicBezTo>
                <a:cubicBezTo>
                  <a:pt x="12789" y="9035"/>
                  <a:pt x="12883" y="9068"/>
                  <a:pt x="12898" y="9153"/>
                </a:cubicBezTo>
                <a:cubicBezTo>
                  <a:pt x="12906" y="9197"/>
                  <a:pt x="12920" y="9340"/>
                  <a:pt x="12874" y="9376"/>
                </a:cubicBezTo>
                <a:cubicBezTo>
                  <a:pt x="12738" y="9483"/>
                  <a:pt x="12675" y="9471"/>
                  <a:pt x="12526" y="9451"/>
                </a:cubicBezTo>
                <a:cubicBezTo>
                  <a:pt x="12435" y="9439"/>
                  <a:pt x="12388" y="9465"/>
                  <a:pt x="12328" y="9376"/>
                </a:cubicBezTo>
                <a:cubicBezTo>
                  <a:pt x="12308" y="9336"/>
                  <a:pt x="12299" y="9330"/>
                  <a:pt x="12303" y="9302"/>
                </a:cubicBezTo>
              </a:path>
              <a:path w="5111" h="1985">
                <a:moveTo>
                  <a:pt x="13146" y="8657"/>
                </a:moveTo>
                <a:cubicBezTo>
                  <a:pt x="13138" y="8781"/>
                  <a:pt x="13112" y="8835"/>
                  <a:pt x="13072" y="8954"/>
                </a:cubicBezTo>
                <a:cubicBezTo>
                  <a:pt x="13039" y="9052"/>
                  <a:pt x="13040" y="9169"/>
                  <a:pt x="13047" y="9252"/>
                </a:cubicBezTo>
                <a:cubicBezTo>
                  <a:pt x="13054" y="9334"/>
                  <a:pt x="13092" y="9436"/>
                  <a:pt x="13171" y="9475"/>
                </a:cubicBezTo>
                <a:cubicBezTo>
                  <a:pt x="13249" y="9514"/>
                  <a:pt x="13381" y="9563"/>
                  <a:pt x="13469" y="9550"/>
                </a:cubicBezTo>
                <a:cubicBezTo>
                  <a:pt x="13619" y="9528"/>
                  <a:pt x="13725" y="9431"/>
                  <a:pt x="13816" y="9327"/>
                </a:cubicBezTo>
                <a:cubicBezTo>
                  <a:pt x="13888" y="9245"/>
                  <a:pt x="13866" y="9107"/>
                  <a:pt x="13866" y="9004"/>
                </a:cubicBezTo>
                <a:cubicBezTo>
                  <a:pt x="13866" y="8852"/>
                  <a:pt x="13828" y="8806"/>
                  <a:pt x="13742" y="8706"/>
                </a:cubicBezTo>
                <a:cubicBezTo>
                  <a:pt x="13651" y="8600"/>
                  <a:pt x="13623" y="8618"/>
                  <a:pt x="13519" y="8558"/>
                </a:cubicBezTo>
                <a:cubicBezTo>
                  <a:pt x="13456" y="8522"/>
                  <a:pt x="13440" y="8509"/>
                  <a:pt x="13370" y="8483"/>
                </a:cubicBezTo>
              </a:path>
              <a:path w="5111" h="1985">
                <a:moveTo>
                  <a:pt x="13246" y="7640"/>
                </a:moveTo>
                <a:cubicBezTo>
                  <a:pt x="13271" y="7615"/>
                  <a:pt x="13279" y="7607"/>
                  <a:pt x="13295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10"/>
          <p:cNvSpPr/>
          <p:nvPr/>
        </p:nvSpPr>
        <p:spPr>
          <a:xfrm>
            <a:off x="5419800" y="2687760"/>
            <a:ext cx="1305000" cy="474480"/>
          </a:xfrm>
          <a:custGeom>
            <a:avLst/>
            <a:gdLst/>
            <a:ahLst/>
            <a:rect l="l" t="t" r="r" b="b"/>
            <a:pathLst>
              <a:path w="3623" h="1316">
                <a:moveTo>
                  <a:pt x="15900" y="8086"/>
                </a:moveTo>
                <a:cubicBezTo>
                  <a:pt x="15862" y="8150"/>
                  <a:pt x="15871" y="8212"/>
                  <a:pt x="15850" y="8285"/>
                </a:cubicBezTo>
                <a:cubicBezTo>
                  <a:pt x="15828" y="8362"/>
                  <a:pt x="15823" y="8434"/>
                  <a:pt x="15801" y="8508"/>
                </a:cubicBezTo>
                <a:cubicBezTo>
                  <a:pt x="15780" y="8579"/>
                  <a:pt x="15776" y="8628"/>
                  <a:pt x="15776" y="8706"/>
                </a:cubicBezTo>
                <a:cubicBezTo>
                  <a:pt x="15819" y="8578"/>
                  <a:pt x="15816" y="8464"/>
                  <a:pt x="15850" y="8334"/>
                </a:cubicBezTo>
                <a:cubicBezTo>
                  <a:pt x="15873" y="8245"/>
                  <a:pt x="15883" y="8154"/>
                  <a:pt x="15900" y="8062"/>
                </a:cubicBezTo>
                <a:cubicBezTo>
                  <a:pt x="15919" y="7960"/>
                  <a:pt x="15941" y="7837"/>
                  <a:pt x="15974" y="7739"/>
                </a:cubicBezTo>
                <a:cubicBezTo>
                  <a:pt x="15990" y="7692"/>
                  <a:pt x="16019" y="7652"/>
                  <a:pt x="16049" y="7615"/>
                </a:cubicBezTo>
                <a:cubicBezTo>
                  <a:pt x="16093" y="7671"/>
                  <a:pt x="16102" y="7705"/>
                  <a:pt x="16123" y="7764"/>
                </a:cubicBezTo>
                <a:cubicBezTo>
                  <a:pt x="16152" y="7847"/>
                  <a:pt x="16167" y="7926"/>
                  <a:pt x="16197" y="8012"/>
                </a:cubicBezTo>
                <a:cubicBezTo>
                  <a:pt x="16227" y="8098"/>
                  <a:pt x="16232" y="8176"/>
                  <a:pt x="16272" y="8260"/>
                </a:cubicBezTo>
                <a:cubicBezTo>
                  <a:pt x="16306" y="8333"/>
                  <a:pt x="16334" y="8411"/>
                  <a:pt x="16371" y="8483"/>
                </a:cubicBezTo>
                <a:cubicBezTo>
                  <a:pt x="16377" y="8494"/>
                  <a:pt x="16408" y="8545"/>
                  <a:pt x="16421" y="8582"/>
                </a:cubicBezTo>
              </a:path>
              <a:path w="3623" h="1316">
                <a:moveTo>
                  <a:pt x="15949" y="8409"/>
                </a:moveTo>
                <a:cubicBezTo>
                  <a:pt x="16052" y="8409"/>
                  <a:pt x="16152" y="8398"/>
                  <a:pt x="16247" y="8434"/>
                </a:cubicBezTo>
              </a:path>
              <a:path w="3623" h="1316">
                <a:moveTo>
                  <a:pt x="16619" y="8409"/>
                </a:moveTo>
                <a:cubicBezTo>
                  <a:pt x="16698" y="8409"/>
                  <a:pt x="16803" y="8386"/>
                  <a:pt x="16867" y="8434"/>
                </a:cubicBezTo>
                <a:cubicBezTo>
                  <a:pt x="16837" y="8486"/>
                  <a:pt x="16809" y="8539"/>
                  <a:pt x="16768" y="8582"/>
                </a:cubicBezTo>
                <a:cubicBezTo>
                  <a:pt x="16740" y="8611"/>
                  <a:pt x="16674" y="8683"/>
                  <a:pt x="16644" y="8706"/>
                </a:cubicBezTo>
                <a:cubicBezTo>
                  <a:pt x="16602" y="8706"/>
                  <a:pt x="16594" y="8723"/>
                  <a:pt x="16619" y="8781"/>
                </a:cubicBezTo>
                <a:cubicBezTo>
                  <a:pt x="16743" y="8781"/>
                  <a:pt x="16916" y="8821"/>
                  <a:pt x="16991" y="8731"/>
                </a:cubicBezTo>
              </a:path>
              <a:path w="3623" h="1316">
                <a:moveTo>
                  <a:pt x="17314" y="8186"/>
                </a:moveTo>
                <a:cubicBezTo>
                  <a:pt x="17413" y="8186"/>
                  <a:pt x="17512" y="8186"/>
                  <a:pt x="17611" y="8186"/>
                </a:cubicBezTo>
              </a:path>
              <a:path w="3623" h="1316">
                <a:moveTo>
                  <a:pt x="17835" y="7813"/>
                </a:moveTo>
                <a:cubicBezTo>
                  <a:pt x="17932" y="7752"/>
                  <a:pt x="17969" y="7739"/>
                  <a:pt x="18083" y="7739"/>
                </a:cubicBezTo>
                <a:cubicBezTo>
                  <a:pt x="18187" y="7739"/>
                  <a:pt x="18245" y="7741"/>
                  <a:pt x="18331" y="7813"/>
                </a:cubicBezTo>
                <a:cubicBezTo>
                  <a:pt x="18393" y="7865"/>
                  <a:pt x="18333" y="7955"/>
                  <a:pt x="18306" y="8012"/>
                </a:cubicBezTo>
                <a:cubicBezTo>
                  <a:pt x="18269" y="8090"/>
                  <a:pt x="18204" y="8128"/>
                  <a:pt x="18157" y="8186"/>
                </a:cubicBezTo>
                <a:cubicBezTo>
                  <a:pt x="18120" y="8231"/>
                  <a:pt x="18032" y="8289"/>
                  <a:pt x="18008" y="8334"/>
                </a:cubicBezTo>
                <a:cubicBezTo>
                  <a:pt x="17976" y="8394"/>
                  <a:pt x="17934" y="8416"/>
                  <a:pt x="17934" y="8483"/>
                </a:cubicBezTo>
                <a:cubicBezTo>
                  <a:pt x="17934" y="8580"/>
                  <a:pt x="18029" y="8624"/>
                  <a:pt x="18107" y="8632"/>
                </a:cubicBezTo>
                <a:cubicBezTo>
                  <a:pt x="18293" y="8652"/>
                  <a:pt x="18491" y="8632"/>
                  <a:pt x="18678" y="8632"/>
                </a:cubicBezTo>
              </a:path>
              <a:path w="3623" h="1316">
                <a:moveTo>
                  <a:pt x="15081" y="8136"/>
                </a:moveTo>
                <a:cubicBezTo>
                  <a:pt x="15142" y="8136"/>
                  <a:pt x="15227" y="8136"/>
                  <a:pt x="15280" y="8161"/>
                </a:cubicBezTo>
                <a:cubicBezTo>
                  <a:pt x="15288" y="8169"/>
                  <a:pt x="15296" y="8178"/>
                  <a:pt x="15304" y="8186"/>
                </a:cubicBezTo>
              </a:path>
              <a:path w="3623" h="1316">
                <a:moveTo>
                  <a:pt x="15056" y="8334"/>
                </a:moveTo>
                <a:cubicBezTo>
                  <a:pt x="15168" y="8334"/>
                  <a:pt x="15281" y="8339"/>
                  <a:pt x="15379" y="8359"/>
                </a:cubicBezTo>
                <a:cubicBezTo>
                  <a:pt x="15485" y="8380"/>
                  <a:pt x="15503" y="8359"/>
                  <a:pt x="15478" y="8409"/>
                </a:cubicBezTo>
              </a:path>
              <a:path w="3623" h="1316">
                <a:moveTo>
                  <a:pt x="16818" y="7466"/>
                </a:moveTo>
                <a:lnTo>
                  <a:pt x="16818" y="746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11"/>
          <p:cNvSpPr/>
          <p:nvPr/>
        </p:nvSpPr>
        <p:spPr>
          <a:xfrm>
            <a:off x="2187720" y="3616200"/>
            <a:ext cx="2322360" cy="544680"/>
          </a:xfrm>
          <a:custGeom>
            <a:avLst/>
            <a:gdLst/>
            <a:ahLst/>
            <a:rect l="l" t="t" r="r" b="b"/>
            <a:pathLst>
              <a:path w="6450" h="1514">
                <a:moveTo>
                  <a:pt x="6276" y="10716"/>
                </a:moveTo>
                <a:cubicBezTo>
                  <a:pt x="6226" y="10865"/>
                  <a:pt x="6192" y="11015"/>
                  <a:pt x="6152" y="11162"/>
                </a:cubicBezTo>
                <a:cubicBezTo>
                  <a:pt x="6135" y="11226"/>
                  <a:pt x="6108" y="11310"/>
                  <a:pt x="6077" y="11361"/>
                </a:cubicBezTo>
                <a:cubicBezTo>
                  <a:pt x="6109" y="11307"/>
                  <a:pt x="6142" y="11206"/>
                  <a:pt x="6152" y="11137"/>
                </a:cubicBezTo>
                <a:cubicBezTo>
                  <a:pt x="6175" y="10985"/>
                  <a:pt x="6217" y="10842"/>
                  <a:pt x="6251" y="10691"/>
                </a:cubicBezTo>
                <a:cubicBezTo>
                  <a:pt x="6278" y="10569"/>
                  <a:pt x="6285" y="10463"/>
                  <a:pt x="6325" y="10344"/>
                </a:cubicBezTo>
                <a:cubicBezTo>
                  <a:pt x="6350" y="10268"/>
                  <a:pt x="6353" y="10194"/>
                  <a:pt x="6375" y="10120"/>
                </a:cubicBezTo>
                <a:cubicBezTo>
                  <a:pt x="6383" y="10095"/>
                  <a:pt x="6392" y="10071"/>
                  <a:pt x="6400" y="10046"/>
                </a:cubicBezTo>
                <a:cubicBezTo>
                  <a:pt x="6452" y="10125"/>
                  <a:pt x="6447" y="10204"/>
                  <a:pt x="6474" y="10294"/>
                </a:cubicBezTo>
                <a:cubicBezTo>
                  <a:pt x="6508" y="10406"/>
                  <a:pt x="6521" y="10525"/>
                  <a:pt x="6548" y="10641"/>
                </a:cubicBezTo>
                <a:cubicBezTo>
                  <a:pt x="6581" y="10783"/>
                  <a:pt x="6624" y="10902"/>
                  <a:pt x="6672" y="11038"/>
                </a:cubicBezTo>
                <a:cubicBezTo>
                  <a:pt x="6705" y="11131"/>
                  <a:pt x="6741" y="11225"/>
                  <a:pt x="6772" y="11311"/>
                </a:cubicBezTo>
                <a:cubicBezTo>
                  <a:pt x="6780" y="11332"/>
                  <a:pt x="6857" y="11420"/>
                  <a:pt x="6796" y="11361"/>
                </a:cubicBezTo>
              </a:path>
              <a:path w="6450" h="1514">
                <a:moveTo>
                  <a:pt x="6350" y="11013"/>
                </a:moveTo>
                <a:cubicBezTo>
                  <a:pt x="6424" y="11013"/>
                  <a:pt x="6478" y="11035"/>
                  <a:pt x="6548" y="11038"/>
                </a:cubicBezTo>
                <a:cubicBezTo>
                  <a:pt x="6638" y="11042"/>
                  <a:pt x="6731" y="11038"/>
                  <a:pt x="6821" y="11038"/>
                </a:cubicBezTo>
              </a:path>
              <a:path w="6450" h="1514">
                <a:moveTo>
                  <a:pt x="7094" y="10988"/>
                </a:moveTo>
                <a:cubicBezTo>
                  <a:pt x="7220" y="10998"/>
                  <a:pt x="7186" y="10981"/>
                  <a:pt x="7268" y="11063"/>
                </a:cubicBezTo>
                <a:cubicBezTo>
                  <a:pt x="7226" y="11135"/>
                  <a:pt x="7205" y="11157"/>
                  <a:pt x="7119" y="11162"/>
                </a:cubicBezTo>
                <a:cubicBezTo>
                  <a:pt x="7102" y="11162"/>
                  <a:pt x="7086" y="11162"/>
                  <a:pt x="7069" y="11162"/>
                </a:cubicBezTo>
                <a:cubicBezTo>
                  <a:pt x="7126" y="11200"/>
                  <a:pt x="7188" y="11208"/>
                  <a:pt x="7243" y="11237"/>
                </a:cubicBezTo>
                <a:cubicBezTo>
                  <a:pt x="7282" y="11257"/>
                  <a:pt x="7378" y="11312"/>
                  <a:pt x="7392" y="11361"/>
                </a:cubicBezTo>
                <a:cubicBezTo>
                  <a:pt x="7417" y="11446"/>
                  <a:pt x="7336" y="11496"/>
                  <a:pt x="7268" y="11509"/>
                </a:cubicBezTo>
                <a:cubicBezTo>
                  <a:pt x="7200" y="11522"/>
                  <a:pt x="7147" y="11500"/>
                  <a:pt x="7094" y="11460"/>
                </a:cubicBezTo>
                <a:cubicBezTo>
                  <a:pt x="7051" y="11428"/>
                  <a:pt x="7085" y="11404"/>
                  <a:pt x="7094" y="11361"/>
                </a:cubicBezTo>
              </a:path>
              <a:path w="6450" h="1514">
                <a:moveTo>
                  <a:pt x="7714" y="10889"/>
                </a:moveTo>
                <a:cubicBezTo>
                  <a:pt x="7797" y="10889"/>
                  <a:pt x="7879" y="10889"/>
                  <a:pt x="7962" y="10889"/>
                </a:cubicBezTo>
              </a:path>
              <a:path w="6450" h="1514">
                <a:moveTo>
                  <a:pt x="7813" y="10914"/>
                </a:moveTo>
                <a:cubicBezTo>
                  <a:pt x="7895" y="10941"/>
                  <a:pt x="7974" y="10960"/>
                  <a:pt x="8062" y="10964"/>
                </a:cubicBezTo>
                <a:cubicBezTo>
                  <a:pt x="8078" y="10964"/>
                  <a:pt x="8095" y="10964"/>
                  <a:pt x="8111" y="10964"/>
                </a:cubicBezTo>
              </a:path>
              <a:path w="6450" h="1514">
                <a:moveTo>
                  <a:pt x="8483" y="10492"/>
                </a:moveTo>
                <a:cubicBezTo>
                  <a:pt x="8548" y="10460"/>
                  <a:pt x="8554" y="10402"/>
                  <a:pt x="8657" y="10418"/>
                </a:cubicBezTo>
                <a:cubicBezTo>
                  <a:pt x="8729" y="10429"/>
                  <a:pt x="8859" y="10483"/>
                  <a:pt x="8855" y="10567"/>
                </a:cubicBezTo>
                <a:cubicBezTo>
                  <a:pt x="8850" y="10689"/>
                  <a:pt x="8787" y="10708"/>
                  <a:pt x="8706" y="10765"/>
                </a:cubicBezTo>
                <a:cubicBezTo>
                  <a:pt x="8678" y="10794"/>
                  <a:pt x="8665" y="10802"/>
                  <a:pt x="8632" y="10790"/>
                </a:cubicBezTo>
                <a:cubicBezTo>
                  <a:pt x="8686" y="10844"/>
                  <a:pt x="8744" y="10848"/>
                  <a:pt x="8806" y="10889"/>
                </a:cubicBezTo>
                <a:cubicBezTo>
                  <a:pt x="8890" y="10944"/>
                  <a:pt x="9001" y="11033"/>
                  <a:pt x="9029" y="11137"/>
                </a:cubicBezTo>
                <a:cubicBezTo>
                  <a:pt x="9047" y="11205"/>
                  <a:pt x="9066" y="11283"/>
                  <a:pt x="9004" y="11336"/>
                </a:cubicBezTo>
                <a:cubicBezTo>
                  <a:pt x="8955" y="11378"/>
                  <a:pt x="8868" y="11407"/>
                  <a:pt x="8806" y="11410"/>
                </a:cubicBezTo>
                <a:cubicBezTo>
                  <a:pt x="8730" y="11413"/>
                  <a:pt x="8668" y="11417"/>
                  <a:pt x="8607" y="11385"/>
                </a:cubicBezTo>
                <a:cubicBezTo>
                  <a:pt x="8552" y="11358"/>
                  <a:pt x="8536" y="11343"/>
                  <a:pt x="8558" y="11286"/>
                </a:cubicBezTo>
              </a:path>
              <a:path w="6450" h="1514">
                <a:moveTo>
                  <a:pt x="9376" y="10592"/>
                </a:moveTo>
                <a:cubicBezTo>
                  <a:pt x="9350" y="10727"/>
                  <a:pt x="9309" y="10841"/>
                  <a:pt x="9277" y="10964"/>
                </a:cubicBezTo>
                <a:cubicBezTo>
                  <a:pt x="9246" y="11081"/>
                  <a:pt x="9260" y="11106"/>
                  <a:pt x="9302" y="11212"/>
                </a:cubicBezTo>
                <a:cubicBezTo>
                  <a:pt x="9335" y="11295"/>
                  <a:pt x="9378" y="11364"/>
                  <a:pt x="9475" y="11385"/>
                </a:cubicBezTo>
                <a:cubicBezTo>
                  <a:pt x="9559" y="11403"/>
                  <a:pt x="9609" y="11380"/>
                  <a:pt x="9649" y="11311"/>
                </a:cubicBezTo>
                <a:cubicBezTo>
                  <a:pt x="9699" y="11227"/>
                  <a:pt x="9720" y="11133"/>
                  <a:pt x="9723" y="11038"/>
                </a:cubicBezTo>
                <a:cubicBezTo>
                  <a:pt x="9727" y="10914"/>
                  <a:pt x="9688" y="10818"/>
                  <a:pt x="9624" y="10716"/>
                </a:cubicBezTo>
                <a:cubicBezTo>
                  <a:pt x="9582" y="10649"/>
                  <a:pt x="9518" y="10564"/>
                  <a:pt x="9451" y="10517"/>
                </a:cubicBezTo>
                <a:cubicBezTo>
                  <a:pt x="9394" y="10476"/>
                  <a:pt x="9400" y="10505"/>
                  <a:pt x="9351" y="10517"/>
                </a:cubicBezTo>
              </a:path>
              <a:path w="6450" h="1514">
                <a:moveTo>
                  <a:pt x="9872" y="10988"/>
                </a:moveTo>
                <a:cubicBezTo>
                  <a:pt x="9932" y="10972"/>
                  <a:pt x="9975" y="10967"/>
                  <a:pt x="10021" y="10939"/>
                </a:cubicBezTo>
              </a:path>
              <a:path w="6450" h="1514">
                <a:moveTo>
                  <a:pt x="10269" y="10567"/>
                </a:moveTo>
                <a:cubicBezTo>
                  <a:pt x="10421" y="10486"/>
                  <a:pt x="10415" y="10464"/>
                  <a:pt x="10542" y="10567"/>
                </a:cubicBezTo>
                <a:cubicBezTo>
                  <a:pt x="10614" y="10625"/>
                  <a:pt x="10599" y="10693"/>
                  <a:pt x="10592" y="10765"/>
                </a:cubicBezTo>
                <a:cubicBezTo>
                  <a:pt x="10584" y="10844"/>
                  <a:pt x="10552" y="10914"/>
                  <a:pt x="10517" y="10988"/>
                </a:cubicBezTo>
                <a:cubicBezTo>
                  <a:pt x="10480" y="11067"/>
                  <a:pt x="10432" y="11131"/>
                  <a:pt x="10393" y="11212"/>
                </a:cubicBezTo>
                <a:cubicBezTo>
                  <a:pt x="10369" y="11260"/>
                  <a:pt x="10360" y="11274"/>
                  <a:pt x="10368" y="11311"/>
                </a:cubicBezTo>
                <a:cubicBezTo>
                  <a:pt x="10412" y="11267"/>
                  <a:pt x="10449" y="11242"/>
                  <a:pt x="10517" y="11261"/>
                </a:cubicBezTo>
                <a:cubicBezTo>
                  <a:pt x="10603" y="11285"/>
                  <a:pt x="10673" y="11323"/>
                  <a:pt x="10765" y="11336"/>
                </a:cubicBezTo>
                <a:cubicBezTo>
                  <a:pt x="10812" y="11342"/>
                  <a:pt x="10866" y="11336"/>
                  <a:pt x="10914" y="11336"/>
                </a:cubicBezTo>
              </a:path>
              <a:path w="6450" h="1514">
                <a:moveTo>
                  <a:pt x="11038" y="10939"/>
                </a:moveTo>
                <a:cubicBezTo>
                  <a:pt x="11112" y="10939"/>
                  <a:pt x="11187" y="10939"/>
                  <a:pt x="11261" y="10939"/>
                </a:cubicBezTo>
              </a:path>
              <a:path w="6450" h="1514">
                <a:moveTo>
                  <a:pt x="11112" y="11088"/>
                </a:moveTo>
                <a:cubicBezTo>
                  <a:pt x="11195" y="11103"/>
                  <a:pt x="11252" y="11112"/>
                  <a:pt x="11336" y="11112"/>
                </a:cubicBezTo>
              </a:path>
              <a:path w="6450" h="1514">
                <a:moveTo>
                  <a:pt x="11658" y="10790"/>
                </a:moveTo>
                <a:cubicBezTo>
                  <a:pt x="11692" y="10730"/>
                  <a:pt x="11725" y="10677"/>
                  <a:pt x="11807" y="10691"/>
                </a:cubicBezTo>
                <a:cubicBezTo>
                  <a:pt x="11873" y="10703"/>
                  <a:pt x="11966" y="10708"/>
                  <a:pt x="11981" y="10790"/>
                </a:cubicBezTo>
                <a:cubicBezTo>
                  <a:pt x="11997" y="10878"/>
                  <a:pt x="11943" y="10919"/>
                  <a:pt x="11906" y="10988"/>
                </a:cubicBezTo>
                <a:cubicBezTo>
                  <a:pt x="11867" y="11062"/>
                  <a:pt x="11806" y="11102"/>
                  <a:pt x="11757" y="11162"/>
                </a:cubicBezTo>
                <a:cubicBezTo>
                  <a:pt x="11702" y="11229"/>
                  <a:pt x="11692" y="11278"/>
                  <a:pt x="11733" y="11361"/>
                </a:cubicBezTo>
                <a:cubicBezTo>
                  <a:pt x="11755" y="11406"/>
                  <a:pt x="11835" y="11472"/>
                  <a:pt x="11881" y="11485"/>
                </a:cubicBezTo>
                <a:cubicBezTo>
                  <a:pt x="11952" y="11505"/>
                  <a:pt x="12041" y="11481"/>
                  <a:pt x="12105" y="11460"/>
                </a:cubicBezTo>
              </a:path>
              <a:path w="6450" h="1514">
                <a:moveTo>
                  <a:pt x="12477" y="10840"/>
                </a:moveTo>
                <a:cubicBezTo>
                  <a:pt x="12407" y="10800"/>
                  <a:pt x="12386" y="10790"/>
                  <a:pt x="12303" y="10790"/>
                </a:cubicBezTo>
                <a:cubicBezTo>
                  <a:pt x="12246" y="10790"/>
                  <a:pt x="12275" y="10869"/>
                  <a:pt x="12278" y="10889"/>
                </a:cubicBezTo>
                <a:cubicBezTo>
                  <a:pt x="12291" y="10985"/>
                  <a:pt x="12337" y="11008"/>
                  <a:pt x="12378" y="11088"/>
                </a:cubicBezTo>
                <a:cubicBezTo>
                  <a:pt x="12433" y="11194"/>
                  <a:pt x="12502" y="11316"/>
                  <a:pt x="12526" y="11435"/>
                </a:cubicBezTo>
                <a:cubicBezTo>
                  <a:pt x="12538" y="11492"/>
                  <a:pt x="12508" y="11520"/>
                  <a:pt x="12477" y="11559"/>
                </a:cubicBezTo>
                <a:cubicBezTo>
                  <a:pt x="12425" y="11544"/>
                  <a:pt x="12370" y="11501"/>
                  <a:pt x="12353" y="11435"/>
                </a:cubicBezTo>
                <a:cubicBezTo>
                  <a:pt x="12336" y="11370"/>
                  <a:pt x="12328" y="11307"/>
                  <a:pt x="12328" y="11237"/>
                </a:cubicBezTo>
                <a:cubicBezTo>
                  <a:pt x="12328" y="11191"/>
                  <a:pt x="12366" y="11097"/>
                  <a:pt x="12402" y="11063"/>
                </a:cubicBezTo>
                <a:cubicBezTo>
                  <a:pt x="12446" y="11041"/>
                  <a:pt x="12458" y="11038"/>
                  <a:pt x="12477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12"/>
          <p:cNvSpPr/>
          <p:nvPr/>
        </p:nvSpPr>
        <p:spPr>
          <a:xfrm>
            <a:off x="490680" y="3946680"/>
            <a:ext cx="1903320" cy="857160"/>
          </a:xfrm>
          <a:custGeom>
            <a:avLst/>
            <a:gdLst/>
            <a:ahLst/>
            <a:rect l="l" t="t" r="r" b="b"/>
            <a:pathLst>
              <a:path w="5285" h="2382">
                <a:moveTo>
                  <a:pt x="3547" y="12278"/>
                </a:moveTo>
                <a:cubicBezTo>
                  <a:pt x="3538" y="12354"/>
                  <a:pt x="3506" y="12428"/>
                  <a:pt x="3497" y="12502"/>
                </a:cubicBezTo>
                <a:cubicBezTo>
                  <a:pt x="3487" y="12579"/>
                  <a:pt x="3493" y="12675"/>
                  <a:pt x="3473" y="12750"/>
                </a:cubicBezTo>
                <a:cubicBezTo>
                  <a:pt x="3449" y="12798"/>
                  <a:pt x="3440" y="12812"/>
                  <a:pt x="3448" y="12849"/>
                </a:cubicBezTo>
                <a:cubicBezTo>
                  <a:pt x="3474" y="12747"/>
                  <a:pt x="3473" y="12657"/>
                  <a:pt x="3473" y="12551"/>
                </a:cubicBezTo>
                <a:cubicBezTo>
                  <a:pt x="3473" y="12418"/>
                  <a:pt x="3480" y="12261"/>
                  <a:pt x="3497" y="12129"/>
                </a:cubicBezTo>
                <a:cubicBezTo>
                  <a:pt x="3518" y="11963"/>
                  <a:pt x="3573" y="11797"/>
                  <a:pt x="3597" y="11633"/>
                </a:cubicBezTo>
                <a:cubicBezTo>
                  <a:pt x="3609" y="11552"/>
                  <a:pt x="3612" y="11435"/>
                  <a:pt x="3646" y="11361"/>
                </a:cubicBezTo>
                <a:cubicBezTo>
                  <a:pt x="3676" y="11331"/>
                  <a:pt x="3687" y="11317"/>
                  <a:pt x="3696" y="11286"/>
                </a:cubicBezTo>
                <a:cubicBezTo>
                  <a:pt x="3711" y="11359"/>
                  <a:pt x="3729" y="11432"/>
                  <a:pt x="3746" y="11509"/>
                </a:cubicBezTo>
                <a:cubicBezTo>
                  <a:pt x="3771" y="11625"/>
                  <a:pt x="3816" y="11741"/>
                  <a:pt x="3845" y="11857"/>
                </a:cubicBezTo>
                <a:cubicBezTo>
                  <a:pt x="3881" y="12000"/>
                  <a:pt x="3930" y="12136"/>
                  <a:pt x="3969" y="12278"/>
                </a:cubicBezTo>
                <a:cubicBezTo>
                  <a:pt x="4004" y="12406"/>
                  <a:pt x="4066" y="12508"/>
                  <a:pt x="4118" y="12626"/>
                </a:cubicBezTo>
                <a:cubicBezTo>
                  <a:pt x="4150" y="12698"/>
                  <a:pt x="4179" y="12758"/>
                  <a:pt x="4217" y="12824"/>
                </a:cubicBezTo>
                <a:cubicBezTo>
                  <a:pt x="4225" y="12841"/>
                  <a:pt x="4234" y="12857"/>
                  <a:pt x="4242" y="12874"/>
                </a:cubicBezTo>
              </a:path>
              <a:path w="5285" h="2382">
                <a:moveTo>
                  <a:pt x="3646" y="12477"/>
                </a:moveTo>
                <a:cubicBezTo>
                  <a:pt x="3716" y="12437"/>
                  <a:pt x="3761" y="12406"/>
                  <a:pt x="3845" y="12402"/>
                </a:cubicBezTo>
                <a:cubicBezTo>
                  <a:pt x="3913" y="12398"/>
                  <a:pt x="3971" y="12427"/>
                  <a:pt x="4043" y="12427"/>
                </a:cubicBezTo>
              </a:path>
              <a:path w="5285" h="2382">
                <a:moveTo>
                  <a:pt x="4539" y="12750"/>
                </a:moveTo>
                <a:cubicBezTo>
                  <a:pt x="4571" y="12835"/>
                  <a:pt x="4564" y="12904"/>
                  <a:pt x="4564" y="12998"/>
                </a:cubicBezTo>
                <a:cubicBezTo>
                  <a:pt x="4564" y="13082"/>
                  <a:pt x="4579" y="13145"/>
                  <a:pt x="4589" y="13221"/>
                </a:cubicBezTo>
                <a:cubicBezTo>
                  <a:pt x="4589" y="13287"/>
                  <a:pt x="4589" y="13304"/>
                  <a:pt x="4589" y="13345"/>
                </a:cubicBezTo>
              </a:path>
              <a:path w="5285" h="2382">
                <a:moveTo>
                  <a:pt x="4961" y="12353"/>
                </a:moveTo>
                <a:cubicBezTo>
                  <a:pt x="5057" y="12318"/>
                  <a:pt x="5131" y="12284"/>
                  <a:pt x="5234" y="12278"/>
                </a:cubicBezTo>
                <a:cubicBezTo>
                  <a:pt x="5242" y="12278"/>
                  <a:pt x="5251" y="12278"/>
                  <a:pt x="5259" y="12278"/>
                </a:cubicBezTo>
              </a:path>
              <a:path w="5285" h="2382">
                <a:moveTo>
                  <a:pt x="5159" y="12229"/>
                </a:moveTo>
                <a:cubicBezTo>
                  <a:pt x="5267" y="12229"/>
                  <a:pt x="5374" y="12229"/>
                  <a:pt x="5482" y="12229"/>
                </a:cubicBezTo>
                <a:cubicBezTo>
                  <a:pt x="5405" y="12258"/>
                  <a:pt x="5344" y="12254"/>
                  <a:pt x="5259" y="12254"/>
                </a:cubicBezTo>
                <a:cubicBezTo>
                  <a:pt x="5134" y="12254"/>
                  <a:pt x="5155" y="12275"/>
                  <a:pt x="5234" y="12303"/>
                </a:cubicBezTo>
                <a:cubicBezTo>
                  <a:pt x="5311" y="12330"/>
                  <a:pt x="5373" y="12328"/>
                  <a:pt x="5457" y="12328"/>
                </a:cubicBezTo>
                <a:cubicBezTo>
                  <a:pt x="5507" y="12328"/>
                  <a:pt x="5523" y="12328"/>
                  <a:pt x="5556" y="12328"/>
                </a:cubicBezTo>
                <a:cubicBezTo>
                  <a:pt x="5490" y="12303"/>
                  <a:pt x="5423" y="12299"/>
                  <a:pt x="5358" y="12278"/>
                </a:cubicBezTo>
                <a:cubicBezTo>
                  <a:pt x="5293" y="12257"/>
                  <a:pt x="5091" y="12254"/>
                  <a:pt x="5159" y="12254"/>
                </a:cubicBezTo>
                <a:cubicBezTo>
                  <a:pt x="5184" y="12254"/>
                  <a:pt x="5209" y="12254"/>
                  <a:pt x="5234" y="12254"/>
                </a:cubicBezTo>
                <a:cubicBezTo>
                  <a:pt x="5277" y="12254"/>
                  <a:pt x="5517" y="12240"/>
                  <a:pt x="5457" y="12229"/>
                </a:cubicBezTo>
                <a:cubicBezTo>
                  <a:pt x="5420" y="12222"/>
                  <a:pt x="5349" y="12229"/>
                  <a:pt x="5308" y="12229"/>
                </a:cubicBezTo>
              </a:path>
              <a:path w="5285" h="2382">
                <a:moveTo>
                  <a:pt x="5904" y="11857"/>
                </a:moveTo>
                <a:cubicBezTo>
                  <a:pt x="5968" y="11793"/>
                  <a:pt x="6021" y="11724"/>
                  <a:pt x="6102" y="11708"/>
                </a:cubicBezTo>
                <a:cubicBezTo>
                  <a:pt x="6168" y="11695"/>
                  <a:pt x="6241" y="11707"/>
                  <a:pt x="6300" y="11733"/>
                </a:cubicBezTo>
                <a:cubicBezTo>
                  <a:pt x="6365" y="11761"/>
                  <a:pt x="6398" y="11814"/>
                  <a:pt x="6400" y="11881"/>
                </a:cubicBezTo>
                <a:cubicBezTo>
                  <a:pt x="6404" y="12003"/>
                  <a:pt x="6402" y="12051"/>
                  <a:pt x="6350" y="12154"/>
                </a:cubicBezTo>
                <a:cubicBezTo>
                  <a:pt x="6307" y="12239"/>
                  <a:pt x="6274" y="12319"/>
                  <a:pt x="6226" y="12402"/>
                </a:cubicBezTo>
                <a:cubicBezTo>
                  <a:pt x="6184" y="12475"/>
                  <a:pt x="6129" y="12559"/>
                  <a:pt x="6077" y="12626"/>
                </a:cubicBezTo>
                <a:cubicBezTo>
                  <a:pt x="6034" y="12680"/>
                  <a:pt x="5959" y="12716"/>
                  <a:pt x="5978" y="12799"/>
                </a:cubicBezTo>
                <a:cubicBezTo>
                  <a:pt x="5997" y="12886"/>
                  <a:pt x="6078" y="12895"/>
                  <a:pt x="6152" y="12898"/>
                </a:cubicBezTo>
                <a:cubicBezTo>
                  <a:pt x="6255" y="12902"/>
                  <a:pt x="6374" y="12928"/>
                  <a:pt x="6474" y="12948"/>
                </a:cubicBezTo>
                <a:cubicBezTo>
                  <a:pt x="6543" y="12962"/>
                  <a:pt x="6578" y="12973"/>
                  <a:pt x="6648" y="12973"/>
                </a:cubicBezTo>
              </a:path>
              <a:path w="5285" h="2382">
                <a:moveTo>
                  <a:pt x="2902" y="11906"/>
                </a:moveTo>
                <a:cubicBezTo>
                  <a:pt x="2996" y="11906"/>
                  <a:pt x="3089" y="11893"/>
                  <a:pt x="3175" y="11931"/>
                </a:cubicBezTo>
                <a:cubicBezTo>
                  <a:pt x="3251" y="11965"/>
                  <a:pt x="3248" y="11934"/>
                  <a:pt x="3225" y="12005"/>
                </a:cubicBezTo>
              </a:path>
              <a:path w="5285" h="2382">
                <a:moveTo>
                  <a:pt x="2877" y="12154"/>
                </a:moveTo>
                <a:cubicBezTo>
                  <a:pt x="2951" y="12154"/>
                  <a:pt x="3009" y="12170"/>
                  <a:pt x="3076" y="12179"/>
                </a:cubicBezTo>
                <a:cubicBezTo>
                  <a:pt x="3101" y="12179"/>
                  <a:pt x="3125" y="12179"/>
                  <a:pt x="3150" y="12179"/>
                </a:cubicBezTo>
              </a:path>
              <a:path w="5285" h="2382">
                <a:moveTo>
                  <a:pt x="1563" y="11956"/>
                </a:moveTo>
                <a:cubicBezTo>
                  <a:pt x="1527" y="12062"/>
                  <a:pt x="1477" y="12151"/>
                  <a:pt x="1439" y="12254"/>
                </a:cubicBezTo>
                <a:cubicBezTo>
                  <a:pt x="1422" y="12299"/>
                  <a:pt x="1359" y="12440"/>
                  <a:pt x="1364" y="12477"/>
                </a:cubicBezTo>
                <a:cubicBezTo>
                  <a:pt x="1374" y="12548"/>
                  <a:pt x="1411" y="12352"/>
                  <a:pt x="1414" y="12328"/>
                </a:cubicBezTo>
                <a:cubicBezTo>
                  <a:pt x="1442" y="12103"/>
                  <a:pt x="1422" y="11858"/>
                  <a:pt x="1439" y="11633"/>
                </a:cubicBezTo>
                <a:cubicBezTo>
                  <a:pt x="1449" y="11491"/>
                  <a:pt x="1469" y="11374"/>
                  <a:pt x="1513" y="11237"/>
                </a:cubicBezTo>
                <a:cubicBezTo>
                  <a:pt x="1538" y="11159"/>
                  <a:pt x="1547" y="11056"/>
                  <a:pt x="1588" y="10988"/>
                </a:cubicBezTo>
                <a:cubicBezTo>
                  <a:pt x="1596" y="10980"/>
                  <a:pt x="1604" y="10972"/>
                  <a:pt x="1612" y="10964"/>
                </a:cubicBezTo>
                <a:cubicBezTo>
                  <a:pt x="1646" y="11031"/>
                  <a:pt x="1668" y="11090"/>
                  <a:pt x="1687" y="11162"/>
                </a:cubicBezTo>
                <a:cubicBezTo>
                  <a:pt x="1719" y="11286"/>
                  <a:pt x="1755" y="11410"/>
                  <a:pt x="1786" y="11534"/>
                </a:cubicBezTo>
                <a:cubicBezTo>
                  <a:pt x="1818" y="11661"/>
                  <a:pt x="1876" y="11812"/>
                  <a:pt x="1935" y="11931"/>
                </a:cubicBezTo>
                <a:cubicBezTo>
                  <a:pt x="1990" y="12041"/>
                  <a:pt x="2055" y="12143"/>
                  <a:pt x="2108" y="12254"/>
                </a:cubicBezTo>
                <a:cubicBezTo>
                  <a:pt x="2142" y="12325"/>
                  <a:pt x="2165" y="12365"/>
                  <a:pt x="2208" y="12427"/>
                </a:cubicBezTo>
                <a:cubicBezTo>
                  <a:pt x="2200" y="12419"/>
                  <a:pt x="2191" y="12410"/>
                  <a:pt x="2183" y="12402"/>
                </a:cubicBezTo>
              </a:path>
              <a:path w="5285" h="2382">
                <a:moveTo>
                  <a:pt x="1538" y="11981"/>
                </a:moveTo>
                <a:cubicBezTo>
                  <a:pt x="1593" y="11948"/>
                  <a:pt x="1644" y="11956"/>
                  <a:pt x="1712" y="11956"/>
                </a:cubicBezTo>
                <a:cubicBezTo>
                  <a:pt x="1789" y="11956"/>
                  <a:pt x="1865" y="11974"/>
                  <a:pt x="1935" y="12005"/>
                </a:cubicBezTo>
                <a:cubicBezTo>
                  <a:pt x="1951" y="12013"/>
                  <a:pt x="1968" y="12022"/>
                  <a:pt x="1984" y="12030"/>
                </a:cubicBezTo>
              </a:path>
              <a:path w="5285" h="2382">
                <a:moveTo>
                  <a:pt x="2406" y="12278"/>
                </a:moveTo>
                <a:cubicBezTo>
                  <a:pt x="2458" y="12228"/>
                  <a:pt x="2472" y="12191"/>
                  <a:pt x="2555" y="12204"/>
                </a:cubicBezTo>
                <a:cubicBezTo>
                  <a:pt x="2620" y="12215"/>
                  <a:pt x="2688" y="12285"/>
                  <a:pt x="2704" y="12353"/>
                </a:cubicBezTo>
                <a:cubicBezTo>
                  <a:pt x="2726" y="12446"/>
                  <a:pt x="2743" y="12539"/>
                  <a:pt x="2704" y="12626"/>
                </a:cubicBezTo>
                <a:cubicBezTo>
                  <a:pt x="2686" y="12665"/>
                  <a:pt x="2648" y="12783"/>
                  <a:pt x="2604" y="12799"/>
                </a:cubicBezTo>
                <a:cubicBezTo>
                  <a:pt x="2563" y="12814"/>
                  <a:pt x="2524" y="12818"/>
                  <a:pt x="2480" y="12824"/>
                </a:cubicBezTo>
                <a:cubicBezTo>
                  <a:pt x="2546" y="12745"/>
                  <a:pt x="2583" y="12782"/>
                  <a:pt x="2679" y="12799"/>
                </a:cubicBezTo>
                <a:cubicBezTo>
                  <a:pt x="2741" y="12810"/>
                  <a:pt x="2789" y="12838"/>
                  <a:pt x="2853" y="12849"/>
                </a:cubicBezTo>
                <a:cubicBezTo>
                  <a:pt x="2897" y="12849"/>
                  <a:pt x="2917" y="12852"/>
                  <a:pt x="2877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13"/>
          <p:cNvSpPr/>
          <p:nvPr/>
        </p:nvSpPr>
        <p:spPr>
          <a:xfrm>
            <a:off x="517680" y="4653000"/>
            <a:ext cx="1670040" cy="554040"/>
          </a:xfrm>
          <a:custGeom>
            <a:avLst/>
            <a:gdLst/>
            <a:ahLst/>
            <a:rect l="l" t="t" r="r" b="b"/>
            <a:pathLst>
              <a:path w="4639" h="1539">
                <a:moveTo>
                  <a:pt x="1662" y="13643"/>
                </a:moveTo>
                <a:cubicBezTo>
                  <a:pt x="1578" y="13857"/>
                  <a:pt x="1497" y="14066"/>
                  <a:pt x="1439" y="14288"/>
                </a:cubicBezTo>
                <a:cubicBezTo>
                  <a:pt x="1474" y="14172"/>
                  <a:pt x="1508" y="14057"/>
                  <a:pt x="1538" y="13940"/>
                </a:cubicBezTo>
                <a:cubicBezTo>
                  <a:pt x="1574" y="13800"/>
                  <a:pt x="1603" y="13659"/>
                  <a:pt x="1637" y="13519"/>
                </a:cubicBezTo>
                <a:cubicBezTo>
                  <a:pt x="1666" y="13401"/>
                  <a:pt x="1698" y="13286"/>
                  <a:pt x="1736" y="13171"/>
                </a:cubicBezTo>
                <a:cubicBezTo>
                  <a:pt x="1758" y="13104"/>
                  <a:pt x="1784" y="13007"/>
                  <a:pt x="1811" y="12948"/>
                </a:cubicBezTo>
                <a:cubicBezTo>
                  <a:pt x="1819" y="12940"/>
                  <a:pt x="1828" y="12931"/>
                  <a:pt x="1836" y="12923"/>
                </a:cubicBezTo>
                <a:cubicBezTo>
                  <a:pt x="1908" y="12985"/>
                  <a:pt x="1887" y="13025"/>
                  <a:pt x="1910" y="13122"/>
                </a:cubicBezTo>
                <a:cubicBezTo>
                  <a:pt x="1937" y="13240"/>
                  <a:pt x="1958" y="13351"/>
                  <a:pt x="1984" y="13469"/>
                </a:cubicBezTo>
                <a:cubicBezTo>
                  <a:pt x="2032" y="13688"/>
                  <a:pt x="2076" y="13931"/>
                  <a:pt x="2158" y="14139"/>
                </a:cubicBezTo>
                <a:cubicBezTo>
                  <a:pt x="2176" y="14184"/>
                  <a:pt x="2250" y="14361"/>
                  <a:pt x="2208" y="14188"/>
                </a:cubicBezTo>
              </a:path>
              <a:path w="4639" h="1539">
                <a:moveTo>
                  <a:pt x="1662" y="13742"/>
                </a:moveTo>
                <a:cubicBezTo>
                  <a:pt x="1732" y="13798"/>
                  <a:pt x="1849" y="13848"/>
                  <a:pt x="1935" y="13866"/>
                </a:cubicBezTo>
                <a:cubicBezTo>
                  <a:pt x="2003" y="13866"/>
                  <a:pt x="2022" y="13863"/>
                  <a:pt x="2059" y="13891"/>
                </a:cubicBezTo>
              </a:path>
              <a:path w="4639" h="1539">
                <a:moveTo>
                  <a:pt x="2307" y="13891"/>
                </a:moveTo>
                <a:cubicBezTo>
                  <a:pt x="2356" y="13877"/>
                  <a:pt x="2444" y="13870"/>
                  <a:pt x="2505" y="13891"/>
                </a:cubicBezTo>
                <a:cubicBezTo>
                  <a:pt x="2535" y="13901"/>
                  <a:pt x="2616" y="13921"/>
                  <a:pt x="2629" y="13965"/>
                </a:cubicBezTo>
                <a:cubicBezTo>
                  <a:pt x="2653" y="14050"/>
                  <a:pt x="2561" y="14057"/>
                  <a:pt x="2505" y="14064"/>
                </a:cubicBezTo>
                <a:cubicBezTo>
                  <a:pt x="2554" y="14094"/>
                  <a:pt x="2584" y="14095"/>
                  <a:pt x="2629" y="14139"/>
                </a:cubicBezTo>
                <a:cubicBezTo>
                  <a:pt x="2673" y="14182"/>
                  <a:pt x="2716" y="14219"/>
                  <a:pt x="2704" y="14288"/>
                </a:cubicBezTo>
                <a:cubicBezTo>
                  <a:pt x="2691" y="14363"/>
                  <a:pt x="2652" y="14387"/>
                  <a:pt x="2604" y="14436"/>
                </a:cubicBezTo>
                <a:cubicBezTo>
                  <a:pt x="2568" y="14472"/>
                  <a:pt x="2478" y="14473"/>
                  <a:pt x="2456" y="14412"/>
                </a:cubicBezTo>
                <a:cubicBezTo>
                  <a:pt x="2456" y="14395"/>
                  <a:pt x="2456" y="14379"/>
                  <a:pt x="2456" y="14362"/>
                </a:cubicBezTo>
              </a:path>
              <a:path w="4639" h="1539">
                <a:moveTo>
                  <a:pt x="2927" y="13891"/>
                </a:moveTo>
                <a:cubicBezTo>
                  <a:pt x="3014" y="13878"/>
                  <a:pt x="3089" y="13836"/>
                  <a:pt x="3125" y="13891"/>
                </a:cubicBezTo>
              </a:path>
              <a:path w="4639" h="1539">
                <a:moveTo>
                  <a:pt x="3001" y="13915"/>
                </a:moveTo>
                <a:cubicBezTo>
                  <a:pt x="3043" y="13931"/>
                  <a:pt x="3132" y="13980"/>
                  <a:pt x="3175" y="13965"/>
                </a:cubicBezTo>
                <a:cubicBezTo>
                  <a:pt x="3198" y="13942"/>
                  <a:pt x="3206" y="13938"/>
                  <a:pt x="3200" y="13915"/>
                </a:cubicBezTo>
              </a:path>
              <a:path w="4639" h="1539">
                <a:moveTo>
                  <a:pt x="3621" y="13692"/>
                </a:moveTo>
                <a:cubicBezTo>
                  <a:pt x="3616" y="13787"/>
                  <a:pt x="3617" y="13897"/>
                  <a:pt x="3597" y="13990"/>
                </a:cubicBezTo>
                <a:cubicBezTo>
                  <a:pt x="3582" y="14061"/>
                  <a:pt x="3595" y="14174"/>
                  <a:pt x="3572" y="14238"/>
                </a:cubicBezTo>
                <a:cubicBezTo>
                  <a:pt x="3564" y="14246"/>
                  <a:pt x="3555" y="14255"/>
                  <a:pt x="3547" y="14263"/>
                </a:cubicBezTo>
                <a:cubicBezTo>
                  <a:pt x="3557" y="14180"/>
                  <a:pt x="3588" y="14100"/>
                  <a:pt x="3597" y="14015"/>
                </a:cubicBezTo>
                <a:cubicBezTo>
                  <a:pt x="3609" y="13906"/>
                  <a:pt x="3615" y="13798"/>
                  <a:pt x="3646" y="13692"/>
                </a:cubicBezTo>
                <a:cubicBezTo>
                  <a:pt x="3672" y="13603"/>
                  <a:pt x="3704" y="13510"/>
                  <a:pt x="3721" y="13419"/>
                </a:cubicBezTo>
                <a:cubicBezTo>
                  <a:pt x="3735" y="13348"/>
                  <a:pt x="3748" y="13304"/>
                  <a:pt x="3795" y="13246"/>
                </a:cubicBezTo>
                <a:cubicBezTo>
                  <a:pt x="3842" y="13292"/>
                  <a:pt x="3883" y="13353"/>
                  <a:pt x="3894" y="13419"/>
                </a:cubicBezTo>
                <a:cubicBezTo>
                  <a:pt x="3910" y="13519"/>
                  <a:pt x="3935" y="13595"/>
                  <a:pt x="3969" y="13692"/>
                </a:cubicBezTo>
                <a:cubicBezTo>
                  <a:pt x="4006" y="13797"/>
                  <a:pt x="4055" y="13887"/>
                  <a:pt x="4093" y="13990"/>
                </a:cubicBezTo>
                <a:cubicBezTo>
                  <a:pt x="4121" y="14065"/>
                  <a:pt x="4136" y="14108"/>
                  <a:pt x="4192" y="14163"/>
                </a:cubicBezTo>
                <a:cubicBezTo>
                  <a:pt x="4217" y="14188"/>
                  <a:pt x="4225" y="14196"/>
                  <a:pt x="4192" y="14163"/>
                </a:cubicBezTo>
              </a:path>
              <a:path w="4639" h="1539">
                <a:moveTo>
                  <a:pt x="3770" y="13742"/>
                </a:moveTo>
                <a:cubicBezTo>
                  <a:pt x="3872" y="13751"/>
                  <a:pt x="3963" y="13783"/>
                  <a:pt x="4068" y="13791"/>
                </a:cubicBezTo>
              </a:path>
              <a:path w="4639" h="1539">
                <a:moveTo>
                  <a:pt x="4341" y="13816"/>
                </a:moveTo>
                <a:cubicBezTo>
                  <a:pt x="4391" y="13821"/>
                  <a:pt x="4494" y="13820"/>
                  <a:pt x="4514" y="13891"/>
                </a:cubicBezTo>
                <a:cubicBezTo>
                  <a:pt x="4533" y="13958"/>
                  <a:pt x="4470" y="13970"/>
                  <a:pt x="4440" y="14015"/>
                </a:cubicBezTo>
                <a:cubicBezTo>
                  <a:pt x="4408" y="14063"/>
                  <a:pt x="4383" y="14098"/>
                  <a:pt x="4341" y="14139"/>
                </a:cubicBezTo>
                <a:cubicBezTo>
                  <a:pt x="4302" y="14178"/>
                  <a:pt x="4261" y="14259"/>
                  <a:pt x="4341" y="14288"/>
                </a:cubicBezTo>
                <a:cubicBezTo>
                  <a:pt x="4424" y="14318"/>
                  <a:pt x="4568" y="14284"/>
                  <a:pt x="4638" y="14263"/>
                </a:cubicBezTo>
                <a:cubicBezTo>
                  <a:pt x="4646" y="14263"/>
                  <a:pt x="4655" y="14263"/>
                  <a:pt x="4663" y="14263"/>
                </a:cubicBezTo>
              </a:path>
              <a:path w="4639" h="1539">
                <a:moveTo>
                  <a:pt x="4986" y="13767"/>
                </a:moveTo>
                <a:cubicBezTo>
                  <a:pt x="5066" y="13734"/>
                  <a:pt x="5107" y="13739"/>
                  <a:pt x="5184" y="13717"/>
                </a:cubicBezTo>
                <a:cubicBezTo>
                  <a:pt x="5241" y="13689"/>
                  <a:pt x="5264" y="13678"/>
                  <a:pt x="5308" y="13667"/>
                </a:cubicBezTo>
              </a:path>
              <a:path w="4639" h="1539">
                <a:moveTo>
                  <a:pt x="5655" y="13295"/>
                </a:moveTo>
                <a:cubicBezTo>
                  <a:pt x="5754" y="13260"/>
                  <a:pt x="5804" y="13234"/>
                  <a:pt x="5904" y="13295"/>
                </a:cubicBezTo>
                <a:cubicBezTo>
                  <a:pt x="5991" y="13348"/>
                  <a:pt x="5984" y="13438"/>
                  <a:pt x="6003" y="13519"/>
                </a:cubicBezTo>
                <a:cubicBezTo>
                  <a:pt x="6028" y="13625"/>
                  <a:pt x="6000" y="13761"/>
                  <a:pt x="5953" y="13866"/>
                </a:cubicBezTo>
                <a:cubicBezTo>
                  <a:pt x="5908" y="13965"/>
                  <a:pt x="5854" y="14059"/>
                  <a:pt x="5779" y="14139"/>
                </a:cubicBezTo>
                <a:cubicBezTo>
                  <a:pt x="5728" y="14192"/>
                  <a:pt x="5669" y="14227"/>
                  <a:pt x="5606" y="14263"/>
                </a:cubicBezTo>
                <a:cubicBezTo>
                  <a:pt x="5554" y="14198"/>
                  <a:pt x="5548" y="14178"/>
                  <a:pt x="5606" y="14114"/>
                </a:cubicBezTo>
                <a:cubicBezTo>
                  <a:pt x="5652" y="14063"/>
                  <a:pt x="5725" y="14090"/>
                  <a:pt x="5779" y="14114"/>
                </a:cubicBezTo>
                <a:cubicBezTo>
                  <a:pt x="5832" y="14138"/>
                  <a:pt x="6008" y="14267"/>
                  <a:pt x="6052" y="14263"/>
                </a:cubicBezTo>
                <a:cubicBezTo>
                  <a:pt x="6060" y="14255"/>
                  <a:pt x="6069" y="14246"/>
                  <a:pt x="6077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4"/>
          <p:cNvSpPr/>
          <p:nvPr/>
        </p:nvSpPr>
        <p:spPr>
          <a:xfrm>
            <a:off x="561960" y="5224320"/>
            <a:ext cx="384120" cy="625680"/>
          </a:xfrm>
          <a:custGeom>
            <a:avLst/>
            <a:gdLst/>
            <a:ahLst/>
            <a:rect l="l" t="t" r="r" b="b"/>
            <a:pathLst>
              <a:path w="1067" h="1737">
                <a:moveTo>
                  <a:pt x="1588" y="15453"/>
                </a:moveTo>
                <a:cubicBezTo>
                  <a:pt x="1579" y="15548"/>
                  <a:pt x="1563" y="15627"/>
                  <a:pt x="1563" y="15726"/>
                </a:cubicBezTo>
                <a:cubicBezTo>
                  <a:pt x="1563" y="15790"/>
                  <a:pt x="1566" y="15816"/>
                  <a:pt x="1588" y="15875"/>
                </a:cubicBezTo>
                <a:cubicBezTo>
                  <a:pt x="1646" y="15771"/>
                  <a:pt x="1620" y="15690"/>
                  <a:pt x="1637" y="15577"/>
                </a:cubicBezTo>
                <a:cubicBezTo>
                  <a:pt x="1665" y="15396"/>
                  <a:pt x="1659" y="15212"/>
                  <a:pt x="1687" y="15032"/>
                </a:cubicBezTo>
                <a:cubicBezTo>
                  <a:pt x="1704" y="14920"/>
                  <a:pt x="1744" y="14789"/>
                  <a:pt x="1786" y="14684"/>
                </a:cubicBezTo>
                <a:cubicBezTo>
                  <a:pt x="1816" y="14607"/>
                  <a:pt x="1847" y="14556"/>
                  <a:pt x="1910" y="14511"/>
                </a:cubicBezTo>
                <a:cubicBezTo>
                  <a:pt x="1939" y="14588"/>
                  <a:pt x="1942" y="14655"/>
                  <a:pt x="1960" y="14734"/>
                </a:cubicBezTo>
                <a:cubicBezTo>
                  <a:pt x="1988" y="14857"/>
                  <a:pt x="1988" y="14982"/>
                  <a:pt x="2009" y="15106"/>
                </a:cubicBezTo>
                <a:cubicBezTo>
                  <a:pt x="2041" y="15295"/>
                  <a:pt x="2084" y="15491"/>
                  <a:pt x="2133" y="15677"/>
                </a:cubicBezTo>
                <a:cubicBezTo>
                  <a:pt x="2150" y="15740"/>
                  <a:pt x="2157" y="15798"/>
                  <a:pt x="2183" y="15850"/>
                </a:cubicBezTo>
              </a:path>
              <a:path w="1067" h="1737">
                <a:moveTo>
                  <a:pt x="1736" y="15156"/>
                </a:moveTo>
                <a:cubicBezTo>
                  <a:pt x="1829" y="15186"/>
                  <a:pt x="1917" y="15223"/>
                  <a:pt x="2009" y="15255"/>
                </a:cubicBezTo>
                <a:cubicBezTo>
                  <a:pt x="2074" y="15277"/>
                  <a:pt x="2089" y="15285"/>
                  <a:pt x="2133" y="15280"/>
                </a:cubicBezTo>
              </a:path>
              <a:path w="1067" h="1737">
                <a:moveTo>
                  <a:pt x="2431" y="15379"/>
                </a:moveTo>
                <a:cubicBezTo>
                  <a:pt x="2373" y="15460"/>
                  <a:pt x="2324" y="15503"/>
                  <a:pt x="2381" y="15602"/>
                </a:cubicBezTo>
                <a:cubicBezTo>
                  <a:pt x="2419" y="15668"/>
                  <a:pt x="2464" y="15670"/>
                  <a:pt x="2530" y="15677"/>
                </a:cubicBezTo>
              </a:path>
              <a:path w="1067" h="1737">
                <a:moveTo>
                  <a:pt x="2629" y="15304"/>
                </a:moveTo>
                <a:cubicBezTo>
                  <a:pt x="2621" y="15423"/>
                  <a:pt x="2590" y="15532"/>
                  <a:pt x="2580" y="15652"/>
                </a:cubicBezTo>
                <a:cubicBezTo>
                  <a:pt x="2569" y="15794"/>
                  <a:pt x="2555" y="15930"/>
                  <a:pt x="2555" y="16073"/>
                </a:cubicBezTo>
                <a:cubicBezTo>
                  <a:pt x="2555" y="16150"/>
                  <a:pt x="2554" y="16179"/>
                  <a:pt x="2580" y="162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5"/>
          <p:cNvSpPr/>
          <p:nvPr/>
        </p:nvSpPr>
        <p:spPr>
          <a:xfrm>
            <a:off x="1071720" y="5268960"/>
            <a:ext cx="822240" cy="571320"/>
          </a:xfrm>
          <a:custGeom>
            <a:avLst/>
            <a:gdLst/>
            <a:ahLst/>
            <a:rect l="l" t="t" r="r" b="b"/>
            <a:pathLst>
              <a:path w="2283" h="1588">
                <a:moveTo>
                  <a:pt x="3026" y="15280"/>
                </a:moveTo>
                <a:cubicBezTo>
                  <a:pt x="3125" y="15299"/>
                  <a:pt x="3141" y="15307"/>
                  <a:pt x="3200" y="15304"/>
                </a:cubicBezTo>
              </a:path>
              <a:path w="2283" h="1588">
                <a:moveTo>
                  <a:pt x="2977" y="15404"/>
                </a:moveTo>
                <a:cubicBezTo>
                  <a:pt x="3033" y="15460"/>
                  <a:pt x="3093" y="15514"/>
                  <a:pt x="3175" y="15528"/>
                </a:cubicBezTo>
                <a:cubicBezTo>
                  <a:pt x="3228" y="15537"/>
                  <a:pt x="3295" y="15528"/>
                  <a:pt x="3349" y="15528"/>
                </a:cubicBezTo>
              </a:path>
              <a:path w="2283" h="1588">
                <a:moveTo>
                  <a:pt x="3646" y="15354"/>
                </a:moveTo>
                <a:cubicBezTo>
                  <a:pt x="3622" y="15442"/>
                  <a:pt x="3587" y="15540"/>
                  <a:pt x="3572" y="15627"/>
                </a:cubicBezTo>
                <a:cubicBezTo>
                  <a:pt x="3562" y="15689"/>
                  <a:pt x="3568" y="15753"/>
                  <a:pt x="3597" y="15801"/>
                </a:cubicBezTo>
                <a:cubicBezTo>
                  <a:pt x="3636" y="15692"/>
                  <a:pt x="3685" y="15586"/>
                  <a:pt x="3721" y="15478"/>
                </a:cubicBezTo>
                <a:cubicBezTo>
                  <a:pt x="3766" y="15343"/>
                  <a:pt x="3785" y="15195"/>
                  <a:pt x="3820" y="15056"/>
                </a:cubicBezTo>
                <a:cubicBezTo>
                  <a:pt x="3847" y="14949"/>
                  <a:pt x="3900" y="14841"/>
                  <a:pt x="3919" y="14734"/>
                </a:cubicBezTo>
                <a:cubicBezTo>
                  <a:pt x="3933" y="14659"/>
                  <a:pt x="3922" y="14676"/>
                  <a:pt x="3994" y="14635"/>
                </a:cubicBezTo>
                <a:cubicBezTo>
                  <a:pt x="4042" y="14684"/>
                  <a:pt x="4060" y="14741"/>
                  <a:pt x="4068" y="14808"/>
                </a:cubicBezTo>
                <a:cubicBezTo>
                  <a:pt x="4084" y="14932"/>
                  <a:pt x="4130" y="15056"/>
                  <a:pt x="4142" y="15180"/>
                </a:cubicBezTo>
                <a:cubicBezTo>
                  <a:pt x="4156" y="15331"/>
                  <a:pt x="4201" y="15476"/>
                  <a:pt x="4217" y="15627"/>
                </a:cubicBezTo>
                <a:cubicBezTo>
                  <a:pt x="4227" y="15715"/>
                  <a:pt x="4217" y="15811"/>
                  <a:pt x="4217" y="15900"/>
                </a:cubicBezTo>
              </a:path>
              <a:path w="2283" h="1588">
                <a:moveTo>
                  <a:pt x="3919" y="15478"/>
                </a:moveTo>
                <a:cubicBezTo>
                  <a:pt x="4038" y="15514"/>
                  <a:pt x="4105" y="15543"/>
                  <a:pt x="4217" y="15553"/>
                </a:cubicBezTo>
              </a:path>
              <a:path w="2283" h="1588">
                <a:moveTo>
                  <a:pt x="4539" y="15577"/>
                </a:moveTo>
                <a:cubicBezTo>
                  <a:pt x="4614" y="15615"/>
                  <a:pt x="4634" y="15642"/>
                  <a:pt x="4688" y="15701"/>
                </a:cubicBezTo>
                <a:cubicBezTo>
                  <a:pt x="4716" y="15729"/>
                  <a:pt x="4725" y="15743"/>
                  <a:pt x="4713" y="15776"/>
                </a:cubicBezTo>
                <a:cubicBezTo>
                  <a:pt x="4636" y="15776"/>
                  <a:pt x="4574" y="15745"/>
                  <a:pt x="4564" y="15825"/>
                </a:cubicBezTo>
                <a:cubicBezTo>
                  <a:pt x="4554" y="15901"/>
                  <a:pt x="4612" y="15980"/>
                  <a:pt x="4638" y="16049"/>
                </a:cubicBezTo>
                <a:cubicBezTo>
                  <a:pt x="4655" y="16095"/>
                  <a:pt x="4694" y="16199"/>
                  <a:pt x="4614" y="16222"/>
                </a:cubicBezTo>
                <a:cubicBezTo>
                  <a:pt x="4563" y="16237"/>
                  <a:pt x="4470" y="16190"/>
                  <a:pt x="4440" y="16148"/>
                </a:cubicBezTo>
                <a:cubicBezTo>
                  <a:pt x="4394" y="16083"/>
                  <a:pt x="4418" y="16039"/>
                  <a:pt x="4440" y="15974"/>
                </a:cubicBezTo>
              </a:path>
              <a:path w="2283" h="1588">
                <a:moveTo>
                  <a:pt x="5011" y="15453"/>
                </a:moveTo>
                <a:cubicBezTo>
                  <a:pt x="5161" y="15453"/>
                  <a:pt x="5185" y="15474"/>
                  <a:pt x="5259" y="154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6"/>
          <p:cNvSpPr/>
          <p:nvPr/>
        </p:nvSpPr>
        <p:spPr>
          <a:xfrm>
            <a:off x="2035080" y="5348160"/>
            <a:ext cx="189000" cy="376200"/>
          </a:xfrm>
          <a:custGeom>
            <a:avLst/>
            <a:gdLst/>
            <a:ahLst/>
            <a:rect l="l" t="t" r="r" b="b"/>
            <a:pathLst>
              <a:path w="522" h="1043">
                <a:moveTo>
                  <a:pt x="5755" y="14908"/>
                </a:moveTo>
                <a:cubicBezTo>
                  <a:pt x="5871" y="14867"/>
                  <a:pt x="5942" y="14827"/>
                  <a:pt x="6052" y="14908"/>
                </a:cubicBezTo>
                <a:cubicBezTo>
                  <a:pt x="6121" y="14959"/>
                  <a:pt x="6123" y="15037"/>
                  <a:pt x="6102" y="15106"/>
                </a:cubicBezTo>
                <a:cubicBezTo>
                  <a:pt x="6061" y="15239"/>
                  <a:pt x="5967" y="15238"/>
                  <a:pt x="5879" y="15329"/>
                </a:cubicBezTo>
                <a:cubicBezTo>
                  <a:pt x="5800" y="15410"/>
                  <a:pt x="5681" y="15532"/>
                  <a:pt x="5655" y="15652"/>
                </a:cubicBezTo>
                <a:cubicBezTo>
                  <a:pt x="5642" y="15711"/>
                  <a:pt x="5653" y="15788"/>
                  <a:pt x="5705" y="15825"/>
                </a:cubicBezTo>
                <a:cubicBezTo>
                  <a:pt x="5782" y="15879"/>
                  <a:pt x="5914" y="15891"/>
                  <a:pt x="6003" y="15900"/>
                </a:cubicBezTo>
                <a:cubicBezTo>
                  <a:pt x="6077" y="15907"/>
                  <a:pt x="6145" y="15912"/>
                  <a:pt x="6176" y="158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7"/>
          <p:cNvSpPr/>
          <p:nvPr/>
        </p:nvSpPr>
        <p:spPr>
          <a:xfrm>
            <a:off x="527040" y="5732640"/>
            <a:ext cx="1625760" cy="518760"/>
          </a:xfrm>
          <a:custGeom>
            <a:avLst/>
            <a:gdLst/>
            <a:ahLst/>
            <a:rect l="l" t="t" r="r" b="b"/>
            <a:pathLst>
              <a:path w="4516" h="1439">
                <a:moveTo>
                  <a:pt x="1687" y="16570"/>
                </a:moveTo>
                <a:cubicBezTo>
                  <a:pt x="1687" y="16666"/>
                  <a:pt x="1708" y="16747"/>
                  <a:pt x="1712" y="16842"/>
                </a:cubicBezTo>
                <a:cubicBezTo>
                  <a:pt x="1716" y="16931"/>
                  <a:pt x="1715" y="17008"/>
                  <a:pt x="1687" y="17090"/>
                </a:cubicBezTo>
              </a:path>
              <a:path w="4516" h="1439">
                <a:moveTo>
                  <a:pt x="1538" y="17214"/>
                </a:moveTo>
                <a:cubicBezTo>
                  <a:pt x="1474" y="17102"/>
                  <a:pt x="1441" y="17027"/>
                  <a:pt x="1463" y="16892"/>
                </a:cubicBezTo>
                <a:cubicBezTo>
                  <a:pt x="1484" y="16764"/>
                  <a:pt x="1534" y="16636"/>
                  <a:pt x="1588" y="16520"/>
                </a:cubicBezTo>
                <a:cubicBezTo>
                  <a:pt x="1642" y="16404"/>
                  <a:pt x="1731" y="16310"/>
                  <a:pt x="1786" y="16197"/>
                </a:cubicBezTo>
                <a:cubicBezTo>
                  <a:pt x="1832" y="16101"/>
                  <a:pt x="1884" y="16051"/>
                  <a:pt x="1960" y="15974"/>
                </a:cubicBezTo>
                <a:cubicBezTo>
                  <a:pt x="2010" y="15923"/>
                  <a:pt x="2071" y="15953"/>
                  <a:pt x="2084" y="16024"/>
                </a:cubicBezTo>
                <a:cubicBezTo>
                  <a:pt x="2103" y="16126"/>
                  <a:pt x="2124" y="16243"/>
                  <a:pt x="2133" y="16346"/>
                </a:cubicBezTo>
                <a:cubicBezTo>
                  <a:pt x="2144" y="16479"/>
                  <a:pt x="2172" y="16611"/>
                  <a:pt x="2183" y="16743"/>
                </a:cubicBezTo>
                <a:cubicBezTo>
                  <a:pt x="2192" y="16847"/>
                  <a:pt x="2196" y="16942"/>
                  <a:pt x="2208" y="17041"/>
                </a:cubicBezTo>
              </a:path>
              <a:path w="4516" h="1439">
                <a:moveTo>
                  <a:pt x="1786" y="16694"/>
                </a:moveTo>
                <a:cubicBezTo>
                  <a:pt x="1856" y="16763"/>
                  <a:pt x="1893" y="16780"/>
                  <a:pt x="1984" y="16818"/>
                </a:cubicBezTo>
                <a:cubicBezTo>
                  <a:pt x="2053" y="16847"/>
                  <a:pt x="2107" y="16842"/>
                  <a:pt x="2183" y="16842"/>
                </a:cubicBezTo>
              </a:path>
              <a:path w="4516" h="1439">
                <a:moveTo>
                  <a:pt x="2456" y="16842"/>
                </a:moveTo>
                <a:cubicBezTo>
                  <a:pt x="2529" y="16835"/>
                  <a:pt x="2570" y="16829"/>
                  <a:pt x="2629" y="16793"/>
                </a:cubicBezTo>
              </a:path>
              <a:path w="4516" h="1439">
                <a:moveTo>
                  <a:pt x="2505" y="16793"/>
                </a:moveTo>
                <a:cubicBezTo>
                  <a:pt x="2441" y="16830"/>
                  <a:pt x="2410" y="16834"/>
                  <a:pt x="2431" y="16892"/>
                </a:cubicBezTo>
                <a:cubicBezTo>
                  <a:pt x="2458" y="16966"/>
                  <a:pt x="2494" y="16999"/>
                  <a:pt x="2530" y="17066"/>
                </a:cubicBezTo>
                <a:cubicBezTo>
                  <a:pt x="2554" y="17111"/>
                  <a:pt x="2614" y="17233"/>
                  <a:pt x="2530" y="17264"/>
                </a:cubicBezTo>
                <a:cubicBezTo>
                  <a:pt x="2419" y="17305"/>
                  <a:pt x="2347" y="17205"/>
                  <a:pt x="2381" y="17115"/>
                </a:cubicBezTo>
                <a:cubicBezTo>
                  <a:pt x="2389" y="17107"/>
                  <a:pt x="2398" y="17098"/>
                  <a:pt x="2406" y="17090"/>
                </a:cubicBezTo>
              </a:path>
              <a:path w="4516" h="1439">
                <a:moveTo>
                  <a:pt x="3101" y="16768"/>
                </a:moveTo>
                <a:cubicBezTo>
                  <a:pt x="3134" y="16760"/>
                  <a:pt x="3167" y="16751"/>
                  <a:pt x="3200" y="16743"/>
                </a:cubicBezTo>
              </a:path>
              <a:path w="4516" h="1439">
                <a:moveTo>
                  <a:pt x="3001" y="16867"/>
                </a:moveTo>
                <a:cubicBezTo>
                  <a:pt x="3046" y="16957"/>
                  <a:pt x="3084" y="16993"/>
                  <a:pt x="3200" y="16966"/>
                </a:cubicBezTo>
                <a:cubicBezTo>
                  <a:pt x="3216" y="16958"/>
                  <a:pt x="3233" y="16950"/>
                  <a:pt x="3249" y="16942"/>
                </a:cubicBezTo>
              </a:path>
              <a:path w="4516" h="1439">
                <a:moveTo>
                  <a:pt x="3671" y="16669"/>
                </a:moveTo>
                <a:cubicBezTo>
                  <a:pt x="3638" y="16759"/>
                  <a:pt x="3609" y="16853"/>
                  <a:pt x="3572" y="16942"/>
                </a:cubicBezTo>
                <a:cubicBezTo>
                  <a:pt x="3541" y="17017"/>
                  <a:pt x="3550" y="17074"/>
                  <a:pt x="3497" y="17140"/>
                </a:cubicBezTo>
                <a:cubicBezTo>
                  <a:pt x="3497" y="17031"/>
                  <a:pt x="3502" y="16944"/>
                  <a:pt x="3547" y="16842"/>
                </a:cubicBezTo>
                <a:cubicBezTo>
                  <a:pt x="3608" y="16705"/>
                  <a:pt x="3649" y="16579"/>
                  <a:pt x="3721" y="16446"/>
                </a:cubicBezTo>
                <a:cubicBezTo>
                  <a:pt x="3779" y="16338"/>
                  <a:pt x="3844" y="16227"/>
                  <a:pt x="3894" y="16123"/>
                </a:cubicBezTo>
                <a:cubicBezTo>
                  <a:pt x="3913" y="16083"/>
                  <a:pt x="3951" y="15926"/>
                  <a:pt x="4018" y="15925"/>
                </a:cubicBezTo>
                <a:cubicBezTo>
                  <a:pt x="4026" y="15933"/>
                  <a:pt x="4035" y="15941"/>
                  <a:pt x="4043" y="15949"/>
                </a:cubicBezTo>
                <a:cubicBezTo>
                  <a:pt x="4070" y="16030"/>
                  <a:pt x="4090" y="16110"/>
                  <a:pt x="4093" y="16197"/>
                </a:cubicBezTo>
                <a:cubicBezTo>
                  <a:pt x="4097" y="16325"/>
                  <a:pt x="4132" y="16444"/>
                  <a:pt x="4142" y="16570"/>
                </a:cubicBezTo>
                <a:cubicBezTo>
                  <a:pt x="4153" y="16704"/>
                  <a:pt x="4183" y="16831"/>
                  <a:pt x="4192" y="16966"/>
                </a:cubicBezTo>
              </a:path>
              <a:path w="4516" h="1439">
                <a:moveTo>
                  <a:pt x="3894" y="16545"/>
                </a:moveTo>
                <a:cubicBezTo>
                  <a:pt x="4010" y="16562"/>
                  <a:pt x="4102" y="16570"/>
                  <a:pt x="4217" y="16570"/>
                </a:cubicBezTo>
              </a:path>
              <a:path w="4516" h="1439">
                <a:moveTo>
                  <a:pt x="4316" y="16718"/>
                </a:moveTo>
                <a:cubicBezTo>
                  <a:pt x="4292" y="16806"/>
                  <a:pt x="4276" y="16863"/>
                  <a:pt x="4316" y="16942"/>
                </a:cubicBezTo>
                <a:cubicBezTo>
                  <a:pt x="4339" y="16987"/>
                  <a:pt x="4375" y="17063"/>
                  <a:pt x="4440" y="17041"/>
                </a:cubicBezTo>
                <a:cubicBezTo>
                  <a:pt x="4478" y="17003"/>
                  <a:pt x="4501" y="16985"/>
                  <a:pt x="4539" y="16966"/>
                </a:cubicBezTo>
              </a:path>
              <a:path w="4516" h="1439">
                <a:moveTo>
                  <a:pt x="4614" y="16619"/>
                </a:moveTo>
                <a:cubicBezTo>
                  <a:pt x="4606" y="16732"/>
                  <a:pt x="4575" y="16829"/>
                  <a:pt x="4564" y="16942"/>
                </a:cubicBezTo>
                <a:cubicBezTo>
                  <a:pt x="4554" y="17041"/>
                  <a:pt x="4548" y="17144"/>
                  <a:pt x="4514" y="17239"/>
                </a:cubicBezTo>
                <a:cubicBezTo>
                  <a:pt x="4496" y="17289"/>
                  <a:pt x="4490" y="17310"/>
                  <a:pt x="4490" y="17363"/>
                </a:cubicBezTo>
              </a:path>
              <a:path w="4516" h="1439">
                <a:moveTo>
                  <a:pt x="4911" y="16694"/>
                </a:moveTo>
                <a:cubicBezTo>
                  <a:pt x="5001" y="16668"/>
                  <a:pt x="5073" y="16663"/>
                  <a:pt x="5159" y="16644"/>
                </a:cubicBezTo>
                <a:cubicBezTo>
                  <a:pt x="5184" y="16636"/>
                  <a:pt x="5209" y="16627"/>
                  <a:pt x="5234" y="16619"/>
                </a:cubicBezTo>
              </a:path>
              <a:path w="4516" h="1439">
                <a:moveTo>
                  <a:pt x="5556" y="16346"/>
                </a:moveTo>
                <a:cubicBezTo>
                  <a:pt x="5652" y="16346"/>
                  <a:pt x="5677" y="16349"/>
                  <a:pt x="5755" y="16396"/>
                </a:cubicBezTo>
                <a:cubicBezTo>
                  <a:pt x="5844" y="16450"/>
                  <a:pt x="5874" y="16470"/>
                  <a:pt x="5829" y="16570"/>
                </a:cubicBezTo>
                <a:cubicBezTo>
                  <a:pt x="5792" y="16653"/>
                  <a:pt x="5744" y="16703"/>
                  <a:pt x="5680" y="16768"/>
                </a:cubicBezTo>
                <a:cubicBezTo>
                  <a:pt x="5609" y="16840"/>
                  <a:pt x="5530" y="16897"/>
                  <a:pt x="5457" y="16966"/>
                </a:cubicBezTo>
                <a:cubicBezTo>
                  <a:pt x="5400" y="17020"/>
                  <a:pt x="5359" y="17058"/>
                  <a:pt x="5308" y="17115"/>
                </a:cubicBezTo>
                <a:cubicBezTo>
                  <a:pt x="5259" y="17169"/>
                  <a:pt x="5292" y="17221"/>
                  <a:pt x="5358" y="17239"/>
                </a:cubicBezTo>
                <a:cubicBezTo>
                  <a:pt x="5498" y="17276"/>
                  <a:pt x="5674" y="17189"/>
                  <a:pt x="5804" y="17264"/>
                </a:cubicBezTo>
                <a:cubicBezTo>
                  <a:pt x="5854" y="17293"/>
                  <a:pt x="5902" y="17323"/>
                  <a:pt x="5953" y="17338"/>
                </a:cubicBezTo>
                <a:cubicBezTo>
                  <a:pt x="5961" y="17338"/>
                  <a:pt x="5970" y="17338"/>
                  <a:pt x="5978" y="173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8"/>
          <p:cNvSpPr/>
          <p:nvPr/>
        </p:nvSpPr>
        <p:spPr>
          <a:xfrm>
            <a:off x="6062760" y="2633760"/>
            <a:ext cx="9360" cy="28440"/>
          </a:xfrm>
          <a:custGeom>
            <a:avLst/>
            <a:gdLst/>
            <a:ahLst/>
            <a:rect l="l" t="t" r="r" b="b"/>
            <a:pathLst>
              <a:path w="26" h="76">
                <a:moveTo>
                  <a:pt x="16867" y="7367"/>
                </a:moveTo>
                <a:cubicBezTo>
                  <a:pt x="16867" y="7375"/>
                  <a:pt x="16867" y="7384"/>
                  <a:pt x="16867" y="7392"/>
                </a:cubicBezTo>
              </a:path>
              <a:path w="26" h="76">
                <a:moveTo>
                  <a:pt x="16867" y="7367"/>
                </a:moveTo>
                <a:cubicBezTo>
                  <a:pt x="16867" y="7359"/>
                  <a:pt x="16867" y="7350"/>
                  <a:pt x="16867" y="7342"/>
                </a:cubicBezTo>
              </a:path>
              <a:path w="26" h="76">
                <a:moveTo>
                  <a:pt x="16867" y="7342"/>
                </a:moveTo>
                <a:cubicBezTo>
                  <a:pt x="16859" y="7334"/>
                  <a:pt x="16850" y="7325"/>
                  <a:pt x="16842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9"/>
          <p:cNvSpPr/>
          <p:nvPr/>
        </p:nvSpPr>
        <p:spPr>
          <a:xfrm>
            <a:off x="473040" y="3321000"/>
            <a:ext cx="1224000" cy="509760"/>
          </a:xfrm>
          <a:custGeom>
            <a:avLst/>
            <a:gdLst/>
            <a:ahLst/>
            <a:rect l="l" t="t" r="r" b="b"/>
            <a:pathLst>
              <a:path w="3399" h="1415">
                <a:moveTo>
                  <a:pt x="1414" y="10046"/>
                </a:moveTo>
                <a:cubicBezTo>
                  <a:pt x="1389" y="10145"/>
                  <a:pt x="1368" y="10242"/>
                  <a:pt x="1364" y="10344"/>
                </a:cubicBezTo>
                <a:cubicBezTo>
                  <a:pt x="1364" y="10410"/>
                  <a:pt x="1364" y="10443"/>
                  <a:pt x="1364" y="10368"/>
                </a:cubicBezTo>
                <a:cubicBezTo>
                  <a:pt x="1364" y="10215"/>
                  <a:pt x="1377" y="10072"/>
                  <a:pt x="1389" y="9922"/>
                </a:cubicBezTo>
                <a:cubicBezTo>
                  <a:pt x="1400" y="9789"/>
                  <a:pt x="1407" y="9656"/>
                  <a:pt x="1439" y="9525"/>
                </a:cubicBezTo>
                <a:cubicBezTo>
                  <a:pt x="1460" y="9440"/>
                  <a:pt x="1505" y="9376"/>
                  <a:pt x="1538" y="9302"/>
                </a:cubicBezTo>
                <a:cubicBezTo>
                  <a:pt x="1546" y="9277"/>
                  <a:pt x="1555" y="9252"/>
                  <a:pt x="1563" y="9227"/>
                </a:cubicBezTo>
                <a:cubicBezTo>
                  <a:pt x="1607" y="9282"/>
                  <a:pt x="1641" y="9332"/>
                  <a:pt x="1662" y="9401"/>
                </a:cubicBezTo>
                <a:cubicBezTo>
                  <a:pt x="1704" y="9539"/>
                  <a:pt x="1710" y="9689"/>
                  <a:pt x="1761" y="9823"/>
                </a:cubicBezTo>
                <a:cubicBezTo>
                  <a:pt x="1820" y="9977"/>
                  <a:pt x="1838" y="10120"/>
                  <a:pt x="1885" y="10269"/>
                </a:cubicBezTo>
                <a:cubicBezTo>
                  <a:pt x="1896" y="10302"/>
                  <a:pt x="1966" y="10385"/>
                  <a:pt x="1910" y="10418"/>
                </a:cubicBezTo>
                <a:cubicBezTo>
                  <a:pt x="1885" y="10418"/>
                  <a:pt x="1877" y="10418"/>
                  <a:pt x="1860" y="10418"/>
                </a:cubicBezTo>
              </a:path>
              <a:path w="3399" h="1415">
                <a:moveTo>
                  <a:pt x="1315" y="10120"/>
                </a:moveTo>
                <a:cubicBezTo>
                  <a:pt x="1487" y="10120"/>
                  <a:pt x="1643" y="10134"/>
                  <a:pt x="1811" y="10145"/>
                </a:cubicBezTo>
              </a:path>
              <a:path w="3399" h="1415">
                <a:moveTo>
                  <a:pt x="2356" y="10344"/>
                </a:moveTo>
                <a:cubicBezTo>
                  <a:pt x="2350" y="10421"/>
                  <a:pt x="2332" y="10489"/>
                  <a:pt x="2332" y="10567"/>
                </a:cubicBezTo>
                <a:cubicBezTo>
                  <a:pt x="2332" y="10639"/>
                  <a:pt x="2331" y="10665"/>
                  <a:pt x="2381" y="10592"/>
                </a:cubicBezTo>
              </a:path>
              <a:path w="3399" h="1415">
                <a:moveTo>
                  <a:pt x="2729" y="9922"/>
                </a:moveTo>
                <a:cubicBezTo>
                  <a:pt x="2825" y="9922"/>
                  <a:pt x="2855" y="9920"/>
                  <a:pt x="2902" y="9971"/>
                </a:cubicBezTo>
              </a:path>
              <a:path w="3399" h="1415">
                <a:moveTo>
                  <a:pt x="2753" y="10071"/>
                </a:moveTo>
                <a:cubicBezTo>
                  <a:pt x="2841" y="10047"/>
                  <a:pt x="2909" y="10046"/>
                  <a:pt x="3001" y="10046"/>
                </a:cubicBezTo>
                <a:cubicBezTo>
                  <a:pt x="3026" y="10046"/>
                  <a:pt x="3051" y="10046"/>
                  <a:pt x="3076" y="10046"/>
                </a:cubicBezTo>
              </a:path>
              <a:path w="3399" h="1415">
                <a:moveTo>
                  <a:pt x="3398" y="9376"/>
                </a:moveTo>
                <a:cubicBezTo>
                  <a:pt x="3538" y="9353"/>
                  <a:pt x="3713" y="9290"/>
                  <a:pt x="3770" y="9451"/>
                </a:cubicBezTo>
                <a:cubicBezTo>
                  <a:pt x="3805" y="9551"/>
                  <a:pt x="3700" y="9578"/>
                  <a:pt x="3646" y="9599"/>
                </a:cubicBezTo>
                <a:cubicBezTo>
                  <a:pt x="3570" y="9629"/>
                  <a:pt x="3524" y="9670"/>
                  <a:pt x="3448" y="9699"/>
                </a:cubicBezTo>
                <a:cubicBezTo>
                  <a:pt x="3496" y="9782"/>
                  <a:pt x="3556" y="9787"/>
                  <a:pt x="3646" y="9823"/>
                </a:cubicBezTo>
                <a:cubicBezTo>
                  <a:pt x="3724" y="9854"/>
                  <a:pt x="3828" y="9927"/>
                  <a:pt x="3870" y="9996"/>
                </a:cubicBezTo>
                <a:cubicBezTo>
                  <a:pt x="3922" y="10080"/>
                  <a:pt x="3871" y="10169"/>
                  <a:pt x="3820" y="10195"/>
                </a:cubicBezTo>
                <a:cubicBezTo>
                  <a:pt x="3737" y="10237"/>
                  <a:pt x="3639" y="10220"/>
                  <a:pt x="3547" y="10220"/>
                </a:cubicBezTo>
                <a:cubicBezTo>
                  <a:pt x="3482" y="10220"/>
                  <a:pt x="3362" y="10218"/>
                  <a:pt x="3373" y="10120"/>
                </a:cubicBezTo>
                <a:cubicBezTo>
                  <a:pt x="3381" y="10120"/>
                  <a:pt x="3390" y="10120"/>
                  <a:pt x="3398" y="10120"/>
                </a:cubicBezTo>
              </a:path>
              <a:path w="3399" h="1415">
                <a:moveTo>
                  <a:pt x="4167" y="9500"/>
                </a:moveTo>
                <a:cubicBezTo>
                  <a:pt x="4267" y="9505"/>
                  <a:pt x="4424" y="9494"/>
                  <a:pt x="4490" y="9599"/>
                </a:cubicBezTo>
                <a:cubicBezTo>
                  <a:pt x="4537" y="9674"/>
                  <a:pt x="4512" y="9780"/>
                  <a:pt x="4465" y="9847"/>
                </a:cubicBezTo>
                <a:cubicBezTo>
                  <a:pt x="4389" y="9955"/>
                  <a:pt x="4179" y="10039"/>
                  <a:pt x="4217" y="10195"/>
                </a:cubicBezTo>
                <a:cubicBezTo>
                  <a:pt x="4235" y="10269"/>
                  <a:pt x="4462" y="10332"/>
                  <a:pt x="4514" y="10344"/>
                </a:cubicBezTo>
                <a:cubicBezTo>
                  <a:pt x="4617" y="10369"/>
                  <a:pt x="4652" y="10378"/>
                  <a:pt x="4713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actorial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4"/>
          <p:cNvSpPr/>
          <p:nvPr/>
        </p:nvSpPr>
        <p:spPr>
          <a:xfrm>
            <a:off x="704880" y="1830240"/>
            <a:ext cx="260280" cy="438120"/>
          </a:xfrm>
          <a:custGeom>
            <a:avLst/>
            <a:gdLst/>
            <a:ahLst/>
            <a:rect l="l" t="t" r="r" b="b"/>
            <a:pathLst>
              <a:path w="720" h="1216">
                <a:moveTo>
                  <a:pt x="2084" y="5184"/>
                </a:moveTo>
                <a:cubicBezTo>
                  <a:pt x="2163" y="5174"/>
                  <a:pt x="2223" y="5159"/>
                  <a:pt x="2307" y="5159"/>
                </a:cubicBezTo>
                <a:cubicBezTo>
                  <a:pt x="2384" y="5159"/>
                  <a:pt x="2456" y="5122"/>
                  <a:pt x="2530" y="5110"/>
                </a:cubicBezTo>
                <a:cubicBezTo>
                  <a:pt x="2592" y="5100"/>
                  <a:pt x="2619" y="5108"/>
                  <a:pt x="2679" y="5085"/>
                </a:cubicBezTo>
              </a:path>
              <a:path w="720" h="1216">
                <a:moveTo>
                  <a:pt x="2183" y="5184"/>
                </a:moveTo>
                <a:cubicBezTo>
                  <a:pt x="2164" y="5270"/>
                  <a:pt x="2142" y="5373"/>
                  <a:pt x="2133" y="5457"/>
                </a:cubicBezTo>
                <a:cubicBezTo>
                  <a:pt x="2125" y="5532"/>
                  <a:pt x="2117" y="5584"/>
                  <a:pt x="2108" y="5655"/>
                </a:cubicBezTo>
                <a:cubicBezTo>
                  <a:pt x="2131" y="5627"/>
                  <a:pt x="2179" y="5522"/>
                  <a:pt x="2208" y="5507"/>
                </a:cubicBezTo>
                <a:cubicBezTo>
                  <a:pt x="2255" y="5484"/>
                  <a:pt x="2348" y="5553"/>
                  <a:pt x="2381" y="5581"/>
                </a:cubicBezTo>
                <a:cubicBezTo>
                  <a:pt x="2462" y="5648"/>
                  <a:pt x="2475" y="5748"/>
                  <a:pt x="2530" y="5829"/>
                </a:cubicBezTo>
                <a:cubicBezTo>
                  <a:pt x="2586" y="5911"/>
                  <a:pt x="2623" y="5972"/>
                  <a:pt x="2629" y="6077"/>
                </a:cubicBezTo>
                <a:cubicBezTo>
                  <a:pt x="2638" y="6242"/>
                  <a:pt x="2520" y="6236"/>
                  <a:pt x="2381" y="6276"/>
                </a:cubicBezTo>
                <a:cubicBezTo>
                  <a:pt x="2282" y="6304"/>
                  <a:pt x="2181" y="6307"/>
                  <a:pt x="2084" y="6276"/>
                </a:cubicBezTo>
                <a:cubicBezTo>
                  <a:pt x="2010" y="6253"/>
                  <a:pt x="1964" y="6227"/>
                  <a:pt x="1960" y="6152"/>
                </a:cubicBezTo>
                <a:cubicBezTo>
                  <a:pt x="1960" y="6135"/>
                  <a:pt x="1960" y="6119"/>
                  <a:pt x="1960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5"/>
          <p:cNvSpPr/>
          <p:nvPr/>
        </p:nvSpPr>
        <p:spPr>
          <a:xfrm>
            <a:off x="1204920" y="1643040"/>
            <a:ext cx="46080" cy="625320"/>
          </a:xfrm>
          <a:custGeom>
            <a:avLst/>
            <a:gdLst/>
            <a:ahLst/>
            <a:rect l="l" t="t" r="r" b="b"/>
            <a:pathLst>
              <a:path w="125" h="1737">
                <a:moveTo>
                  <a:pt x="3448" y="4564"/>
                </a:moveTo>
                <a:cubicBezTo>
                  <a:pt x="3448" y="4652"/>
                  <a:pt x="3432" y="4728"/>
                  <a:pt x="3423" y="4812"/>
                </a:cubicBezTo>
                <a:cubicBezTo>
                  <a:pt x="3406" y="4964"/>
                  <a:pt x="3373" y="5104"/>
                  <a:pt x="3373" y="5259"/>
                </a:cubicBezTo>
                <a:cubicBezTo>
                  <a:pt x="3373" y="5363"/>
                  <a:pt x="3332" y="5481"/>
                  <a:pt x="3349" y="5581"/>
                </a:cubicBezTo>
                <a:cubicBezTo>
                  <a:pt x="3360" y="5649"/>
                  <a:pt x="3393" y="5730"/>
                  <a:pt x="3373" y="5804"/>
                </a:cubicBezTo>
                <a:cubicBezTo>
                  <a:pt x="3365" y="5821"/>
                  <a:pt x="3357" y="5837"/>
                  <a:pt x="3349" y="5854"/>
                </a:cubicBezTo>
              </a:path>
              <a:path w="125" h="1737">
                <a:moveTo>
                  <a:pt x="3423" y="6201"/>
                </a:moveTo>
                <a:cubicBezTo>
                  <a:pt x="3378" y="6246"/>
                  <a:pt x="3361" y="6255"/>
                  <a:pt x="3373" y="6300"/>
                </a:cubicBezTo>
                <a:cubicBezTo>
                  <a:pt x="3387" y="6292"/>
                  <a:pt x="3529" y="6220"/>
                  <a:pt x="3473" y="6176"/>
                </a:cubicBezTo>
                <a:cubicBezTo>
                  <a:pt x="3433" y="6145"/>
                  <a:pt x="3394" y="6205"/>
                  <a:pt x="3373" y="62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6"/>
          <p:cNvSpPr/>
          <p:nvPr/>
        </p:nvSpPr>
        <p:spPr>
          <a:xfrm>
            <a:off x="1473120" y="2017800"/>
            <a:ext cx="115920" cy="9036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4093" y="5680"/>
                </a:moveTo>
                <a:cubicBezTo>
                  <a:pt x="4189" y="5661"/>
                  <a:pt x="4310" y="5647"/>
                  <a:pt x="4390" y="5606"/>
                </a:cubicBezTo>
              </a:path>
              <a:path w="323" h="249">
                <a:moveTo>
                  <a:pt x="4167" y="5854"/>
                </a:moveTo>
                <a:cubicBezTo>
                  <a:pt x="4250" y="5854"/>
                  <a:pt x="4332" y="5854"/>
                  <a:pt x="4415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7"/>
          <p:cNvSpPr/>
          <p:nvPr/>
        </p:nvSpPr>
        <p:spPr>
          <a:xfrm>
            <a:off x="1874880" y="1795320"/>
            <a:ext cx="2921040" cy="411480"/>
          </a:xfrm>
          <a:custGeom>
            <a:avLst/>
            <a:gdLst/>
            <a:ahLst/>
            <a:rect l="l" t="t" r="r" b="b"/>
            <a:pathLst>
              <a:path w="8112" h="1142">
                <a:moveTo>
                  <a:pt x="5358" y="5085"/>
                </a:moveTo>
                <a:cubicBezTo>
                  <a:pt x="5433" y="5085"/>
                  <a:pt x="5487" y="5072"/>
                  <a:pt x="5556" y="5060"/>
                </a:cubicBezTo>
                <a:cubicBezTo>
                  <a:pt x="5628" y="5048"/>
                  <a:pt x="5708" y="5039"/>
                  <a:pt x="5779" y="5035"/>
                </a:cubicBezTo>
                <a:cubicBezTo>
                  <a:pt x="5831" y="5035"/>
                  <a:pt x="5849" y="5034"/>
                  <a:pt x="5879" y="5011"/>
                </a:cubicBezTo>
              </a:path>
              <a:path w="8112" h="1142">
                <a:moveTo>
                  <a:pt x="5407" y="5085"/>
                </a:moveTo>
                <a:cubicBezTo>
                  <a:pt x="5372" y="5149"/>
                  <a:pt x="5325" y="5234"/>
                  <a:pt x="5308" y="5308"/>
                </a:cubicBezTo>
                <a:cubicBezTo>
                  <a:pt x="5297" y="5359"/>
                  <a:pt x="5281" y="5434"/>
                  <a:pt x="5259" y="5482"/>
                </a:cubicBezTo>
                <a:cubicBezTo>
                  <a:pt x="5251" y="5490"/>
                  <a:pt x="5242" y="5499"/>
                  <a:pt x="5234" y="5507"/>
                </a:cubicBezTo>
                <a:cubicBezTo>
                  <a:pt x="5295" y="5471"/>
                  <a:pt x="5352" y="5426"/>
                  <a:pt x="5407" y="5383"/>
                </a:cubicBezTo>
                <a:cubicBezTo>
                  <a:pt x="5459" y="5343"/>
                  <a:pt x="5523" y="5348"/>
                  <a:pt x="5581" y="5383"/>
                </a:cubicBezTo>
                <a:cubicBezTo>
                  <a:pt x="5657" y="5429"/>
                  <a:pt x="5668" y="5477"/>
                  <a:pt x="5705" y="5556"/>
                </a:cubicBezTo>
                <a:cubicBezTo>
                  <a:pt x="5747" y="5644"/>
                  <a:pt x="5790" y="5706"/>
                  <a:pt x="5804" y="5804"/>
                </a:cubicBezTo>
                <a:cubicBezTo>
                  <a:pt x="5819" y="5910"/>
                  <a:pt x="5666" y="5960"/>
                  <a:pt x="5581" y="5978"/>
                </a:cubicBezTo>
                <a:cubicBezTo>
                  <a:pt x="5488" y="5997"/>
                  <a:pt x="5318" y="5993"/>
                  <a:pt x="5234" y="5953"/>
                </a:cubicBezTo>
                <a:cubicBezTo>
                  <a:pt x="5180" y="5927"/>
                  <a:pt x="5237" y="5901"/>
                  <a:pt x="5259" y="5879"/>
                </a:cubicBezTo>
              </a:path>
              <a:path w="8112" h="1142">
                <a:moveTo>
                  <a:pt x="6251" y="5631"/>
                </a:moveTo>
                <a:lnTo>
                  <a:pt x="6251" y="5631"/>
                </a:lnTo>
              </a:path>
              <a:path w="8112" h="1142">
                <a:moveTo>
                  <a:pt x="6672" y="5085"/>
                </a:moveTo>
                <a:cubicBezTo>
                  <a:pt x="6663" y="5161"/>
                  <a:pt x="6637" y="5196"/>
                  <a:pt x="6598" y="5259"/>
                </a:cubicBezTo>
                <a:cubicBezTo>
                  <a:pt x="6559" y="5323"/>
                  <a:pt x="6513" y="5408"/>
                  <a:pt x="6499" y="5482"/>
                </a:cubicBezTo>
                <a:cubicBezTo>
                  <a:pt x="6499" y="5531"/>
                  <a:pt x="6499" y="5548"/>
                  <a:pt x="6499" y="5581"/>
                </a:cubicBezTo>
                <a:cubicBezTo>
                  <a:pt x="6561" y="5572"/>
                  <a:pt x="6608" y="5542"/>
                  <a:pt x="6672" y="5531"/>
                </a:cubicBezTo>
                <a:cubicBezTo>
                  <a:pt x="6743" y="5519"/>
                  <a:pt x="6830" y="5537"/>
                  <a:pt x="6896" y="5507"/>
                </a:cubicBezTo>
                <a:cubicBezTo>
                  <a:pt x="6904" y="5499"/>
                  <a:pt x="6913" y="5490"/>
                  <a:pt x="6921" y="5482"/>
                </a:cubicBezTo>
              </a:path>
              <a:path w="8112" h="1142">
                <a:moveTo>
                  <a:pt x="7069" y="4986"/>
                </a:moveTo>
                <a:cubicBezTo>
                  <a:pt x="7051" y="5092"/>
                  <a:pt x="7043" y="5206"/>
                  <a:pt x="7020" y="5308"/>
                </a:cubicBezTo>
                <a:cubicBezTo>
                  <a:pt x="6996" y="5416"/>
                  <a:pt x="6990" y="5523"/>
                  <a:pt x="6970" y="5631"/>
                </a:cubicBezTo>
                <a:cubicBezTo>
                  <a:pt x="6953" y="5723"/>
                  <a:pt x="6926" y="5818"/>
                  <a:pt x="6896" y="5904"/>
                </a:cubicBezTo>
                <a:cubicBezTo>
                  <a:pt x="6888" y="5926"/>
                  <a:pt x="6871" y="6106"/>
                  <a:pt x="6871" y="5978"/>
                </a:cubicBezTo>
              </a:path>
              <a:path w="8112" h="1142">
                <a:moveTo>
                  <a:pt x="7293" y="5755"/>
                </a:moveTo>
                <a:lnTo>
                  <a:pt x="7293" y="5755"/>
                </a:lnTo>
              </a:path>
              <a:path w="8112" h="1142">
                <a:moveTo>
                  <a:pt x="7590" y="5333"/>
                </a:moveTo>
                <a:cubicBezTo>
                  <a:pt x="7662" y="5262"/>
                  <a:pt x="7743" y="5151"/>
                  <a:pt x="7838" y="5110"/>
                </a:cubicBezTo>
                <a:cubicBezTo>
                  <a:pt x="7915" y="5076"/>
                  <a:pt x="7984" y="5036"/>
                  <a:pt x="8062" y="5085"/>
                </a:cubicBezTo>
                <a:cubicBezTo>
                  <a:pt x="8150" y="5140"/>
                  <a:pt x="8028" y="5283"/>
                  <a:pt x="7987" y="5333"/>
                </a:cubicBezTo>
                <a:cubicBezTo>
                  <a:pt x="7934" y="5397"/>
                  <a:pt x="7853" y="5432"/>
                  <a:pt x="7789" y="5482"/>
                </a:cubicBezTo>
                <a:cubicBezTo>
                  <a:pt x="7750" y="5513"/>
                  <a:pt x="7710" y="5544"/>
                  <a:pt x="7665" y="5556"/>
                </a:cubicBezTo>
                <a:cubicBezTo>
                  <a:pt x="7727" y="5520"/>
                  <a:pt x="7764" y="5486"/>
                  <a:pt x="7838" y="5482"/>
                </a:cubicBezTo>
                <a:cubicBezTo>
                  <a:pt x="7935" y="5477"/>
                  <a:pt x="7916" y="5537"/>
                  <a:pt x="7938" y="5606"/>
                </a:cubicBezTo>
                <a:cubicBezTo>
                  <a:pt x="7970" y="5703"/>
                  <a:pt x="7951" y="5753"/>
                  <a:pt x="7938" y="5854"/>
                </a:cubicBezTo>
                <a:cubicBezTo>
                  <a:pt x="7929" y="5919"/>
                  <a:pt x="7899" y="5962"/>
                  <a:pt x="7838" y="6003"/>
                </a:cubicBezTo>
                <a:cubicBezTo>
                  <a:pt x="7804" y="6026"/>
                  <a:pt x="7705" y="6061"/>
                  <a:pt x="7665" y="6052"/>
                </a:cubicBezTo>
                <a:cubicBezTo>
                  <a:pt x="7545" y="6025"/>
                  <a:pt x="7570" y="5998"/>
                  <a:pt x="7640" y="5928"/>
                </a:cubicBezTo>
              </a:path>
              <a:path w="8112" h="1142">
                <a:moveTo>
                  <a:pt x="8210" y="5755"/>
                </a:moveTo>
                <a:cubicBezTo>
                  <a:pt x="8210" y="5747"/>
                  <a:pt x="8210" y="5738"/>
                  <a:pt x="8210" y="5730"/>
                </a:cubicBezTo>
              </a:path>
              <a:path w="8112" h="1142">
                <a:moveTo>
                  <a:pt x="8657" y="5184"/>
                </a:moveTo>
                <a:cubicBezTo>
                  <a:pt x="8711" y="5117"/>
                  <a:pt x="8776" y="5017"/>
                  <a:pt x="8880" y="5035"/>
                </a:cubicBezTo>
                <a:cubicBezTo>
                  <a:pt x="8972" y="5051"/>
                  <a:pt x="9015" y="5119"/>
                  <a:pt x="9029" y="5209"/>
                </a:cubicBezTo>
                <a:cubicBezTo>
                  <a:pt x="9046" y="5319"/>
                  <a:pt x="9010" y="5427"/>
                  <a:pt x="8979" y="5531"/>
                </a:cubicBezTo>
                <a:cubicBezTo>
                  <a:pt x="8947" y="5638"/>
                  <a:pt x="8882" y="5732"/>
                  <a:pt x="8830" y="5829"/>
                </a:cubicBezTo>
                <a:cubicBezTo>
                  <a:pt x="8789" y="5906"/>
                  <a:pt x="8733" y="5960"/>
                  <a:pt x="8657" y="6003"/>
                </a:cubicBezTo>
                <a:cubicBezTo>
                  <a:pt x="8598" y="6036"/>
                  <a:pt x="8568" y="6076"/>
                  <a:pt x="8508" y="6028"/>
                </a:cubicBezTo>
                <a:cubicBezTo>
                  <a:pt x="8455" y="5986"/>
                  <a:pt x="8486" y="5934"/>
                  <a:pt x="8533" y="5904"/>
                </a:cubicBezTo>
                <a:cubicBezTo>
                  <a:pt x="8607" y="5857"/>
                  <a:pt x="8651" y="5873"/>
                  <a:pt x="8706" y="5928"/>
                </a:cubicBezTo>
                <a:cubicBezTo>
                  <a:pt x="8747" y="5969"/>
                  <a:pt x="8779" y="6000"/>
                  <a:pt x="8806" y="6052"/>
                </a:cubicBezTo>
                <a:cubicBezTo>
                  <a:pt x="8837" y="6111"/>
                  <a:pt x="8839" y="6158"/>
                  <a:pt x="8855" y="6077"/>
                </a:cubicBezTo>
              </a:path>
              <a:path w="8112" h="1142">
                <a:moveTo>
                  <a:pt x="9351" y="5680"/>
                </a:moveTo>
                <a:cubicBezTo>
                  <a:pt x="9410" y="5672"/>
                  <a:pt x="9412" y="5686"/>
                  <a:pt x="9426" y="5631"/>
                </a:cubicBezTo>
              </a:path>
              <a:path w="8112" h="1142">
                <a:moveTo>
                  <a:pt x="9971" y="5035"/>
                </a:moveTo>
                <a:cubicBezTo>
                  <a:pt x="9935" y="5147"/>
                  <a:pt x="9920" y="5246"/>
                  <a:pt x="9897" y="5358"/>
                </a:cubicBezTo>
                <a:cubicBezTo>
                  <a:pt x="9872" y="5483"/>
                  <a:pt x="9847" y="5575"/>
                  <a:pt x="9847" y="5705"/>
                </a:cubicBezTo>
                <a:cubicBezTo>
                  <a:pt x="9847" y="5804"/>
                  <a:pt x="9828" y="5885"/>
                  <a:pt x="9823" y="5978"/>
                </a:cubicBezTo>
                <a:cubicBezTo>
                  <a:pt x="9820" y="6041"/>
                  <a:pt x="9860" y="6109"/>
                  <a:pt x="9798" y="6028"/>
                </a:cubicBezTo>
              </a:path>
              <a:path w="8112" h="1142">
                <a:moveTo>
                  <a:pt x="10368" y="5606"/>
                </a:moveTo>
                <a:cubicBezTo>
                  <a:pt x="10500" y="5606"/>
                  <a:pt x="10633" y="5606"/>
                  <a:pt x="10765" y="5606"/>
                </a:cubicBezTo>
              </a:path>
              <a:path w="8112" h="1142">
                <a:moveTo>
                  <a:pt x="10418" y="5730"/>
                </a:moveTo>
                <a:cubicBezTo>
                  <a:pt x="10523" y="5797"/>
                  <a:pt x="10568" y="5824"/>
                  <a:pt x="10691" y="5829"/>
                </a:cubicBezTo>
                <a:cubicBezTo>
                  <a:pt x="10759" y="5829"/>
                  <a:pt x="10778" y="5826"/>
                  <a:pt x="10815" y="5854"/>
                </a:cubicBezTo>
              </a:path>
              <a:path w="8112" h="1142">
                <a:moveTo>
                  <a:pt x="11584" y="5110"/>
                </a:moveTo>
                <a:cubicBezTo>
                  <a:pt x="11584" y="5194"/>
                  <a:pt x="11580" y="5252"/>
                  <a:pt x="11559" y="5333"/>
                </a:cubicBezTo>
                <a:cubicBezTo>
                  <a:pt x="11513" y="5509"/>
                  <a:pt x="11441" y="5680"/>
                  <a:pt x="11385" y="5854"/>
                </a:cubicBezTo>
                <a:cubicBezTo>
                  <a:pt x="11363" y="5923"/>
                  <a:pt x="11238" y="6049"/>
                  <a:pt x="11311" y="6052"/>
                </a:cubicBezTo>
                <a:cubicBezTo>
                  <a:pt x="11319" y="6044"/>
                  <a:pt x="11328" y="6036"/>
                  <a:pt x="11336" y="6028"/>
                </a:cubicBezTo>
              </a:path>
              <a:path w="8112" h="1142">
                <a:moveTo>
                  <a:pt x="11857" y="5333"/>
                </a:moveTo>
                <a:cubicBezTo>
                  <a:pt x="11947" y="5243"/>
                  <a:pt x="12026" y="5147"/>
                  <a:pt x="12154" y="5110"/>
                </a:cubicBezTo>
                <a:cubicBezTo>
                  <a:pt x="12201" y="5096"/>
                  <a:pt x="12312" y="5128"/>
                  <a:pt x="12328" y="5184"/>
                </a:cubicBezTo>
                <a:cubicBezTo>
                  <a:pt x="12350" y="5260"/>
                  <a:pt x="12301" y="5338"/>
                  <a:pt x="12278" y="5407"/>
                </a:cubicBezTo>
                <a:cubicBezTo>
                  <a:pt x="12245" y="5504"/>
                  <a:pt x="12211" y="5574"/>
                  <a:pt x="12154" y="5655"/>
                </a:cubicBezTo>
                <a:cubicBezTo>
                  <a:pt x="12095" y="5739"/>
                  <a:pt x="12029" y="5806"/>
                  <a:pt x="11956" y="5879"/>
                </a:cubicBezTo>
                <a:cubicBezTo>
                  <a:pt x="11882" y="5953"/>
                  <a:pt x="11806" y="6027"/>
                  <a:pt x="11733" y="6102"/>
                </a:cubicBezTo>
                <a:cubicBezTo>
                  <a:pt x="11818" y="6092"/>
                  <a:pt x="11893" y="6077"/>
                  <a:pt x="11981" y="6077"/>
                </a:cubicBezTo>
                <a:cubicBezTo>
                  <a:pt x="12097" y="6077"/>
                  <a:pt x="12256" y="6103"/>
                  <a:pt x="12353" y="6052"/>
                </a:cubicBezTo>
                <a:cubicBezTo>
                  <a:pt x="12369" y="6044"/>
                  <a:pt x="12386" y="6036"/>
                  <a:pt x="12402" y="6028"/>
                </a:cubicBezTo>
              </a:path>
              <a:path w="8112" h="1142">
                <a:moveTo>
                  <a:pt x="12675" y="5184"/>
                </a:moveTo>
                <a:cubicBezTo>
                  <a:pt x="12661" y="5292"/>
                  <a:pt x="12597" y="5366"/>
                  <a:pt x="12551" y="5457"/>
                </a:cubicBezTo>
                <a:cubicBezTo>
                  <a:pt x="12510" y="5539"/>
                  <a:pt x="12481" y="5641"/>
                  <a:pt x="12477" y="5730"/>
                </a:cubicBezTo>
                <a:cubicBezTo>
                  <a:pt x="12472" y="5837"/>
                  <a:pt x="12486" y="5891"/>
                  <a:pt x="12551" y="5978"/>
                </a:cubicBezTo>
                <a:cubicBezTo>
                  <a:pt x="12597" y="6040"/>
                  <a:pt x="12683" y="6028"/>
                  <a:pt x="12750" y="6028"/>
                </a:cubicBezTo>
                <a:cubicBezTo>
                  <a:pt x="12835" y="6028"/>
                  <a:pt x="12917" y="6023"/>
                  <a:pt x="12998" y="6003"/>
                </a:cubicBezTo>
                <a:cubicBezTo>
                  <a:pt x="13088" y="5980"/>
                  <a:pt x="13164" y="5901"/>
                  <a:pt x="13221" y="5829"/>
                </a:cubicBezTo>
                <a:cubicBezTo>
                  <a:pt x="13282" y="5752"/>
                  <a:pt x="13306" y="5651"/>
                  <a:pt x="13320" y="5556"/>
                </a:cubicBezTo>
                <a:cubicBezTo>
                  <a:pt x="13332" y="5476"/>
                  <a:pt x="13317" y="5400"/>
                  <a:pt x="13271" y="5333"/>
                </a:cubicBezTo>
                <a:cubicBezTo>
                  <a:pt x="13242" y="5291"/>
                  <a:pt x="13174" y="5221"/>
                  <a:pt x="13122" y="5209"/>
                </a:cubicBezTo>
                <a:cubicBezTo>
                  <a:pt x="13060" y="5194"/>
                  <a:pt x="13017" y="5184"/>
                  <a:pt x="12948" y="5184"/>
                </a:cubicBezTo>
                <a:cubicBezTo>
                  <a:pt x="12940" y="5184"/>
                  <a:pt x="12931" y="5184"/>
                  <a:pt x="12923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8"/>
          <p:cNvSpPr/>
          <p:nvPr/>
        </p:nvSpPr>
        <p:spPr>
          <a:xfrm>
            <a:off x="534960" y="2955960"/>
            <a:ext cx="277920" cy="428760"/>
          </a:xfrm>
          <a:custGeom>
            <a:avLst/>
            <a:gdLst/>
            <a:ahLst/>
            <a:rect l="l" t="t" r="r" b="b"/>
            <a:pathLst>
              <a:path w="770" h="1192">
                <a:moveTo>
                  <a:pt x="1488" y="8235"/>
                </a:moveTo>
                <a:cubicBezTo>
                  <a:pt x="1617" y="8235"/>
                  <a:pt x="1735" y="8224"/>
                  <a:pt x="1860" y="8210"/>
                </a:cubicBezTo>
                <a:cubicBezTo>
                  <a:pt x="1988" y="8195"/>
                  <a:pt x="2127" y="8210"/>
                  <a:pt x="2257" y="8210"/>
                </a:cubicBezTo>
                <a:cubicBezTo>
                  <a:pt x="2248" y="8276"/>
                  <a:pt x="2224" y="8340"/>
                  <a:pt x="2208" y="8409"/>
                </a:cubicBezTo>
                <a:cubicBezTo>
                  <a:pt x="2185" y="8509"/>
                  <a:pt x="2144" y="8604"/>
                  <a:pt x="2133" y="8706"/>
                </a:cubicBezTo>
                <a:cubicBezTo>
                  <a:pt x="2119" y="8832"/>
                  <a:pt x="2108" y="8950"/>
                  <a:pt x="2108" y="9079"/>
                </a:cubicBezTo>
                <a:cubicBezTo>
                  <a:pt x="2108" y="9154"/>
                  <a:pt x="2101" y="9255"/>
                  <a:pt x="2084" y="9327"/>
                </a:cubicBezTo>
                <a:cubicBezTo>
                  <a:pt x="2077" y="9358"/>
                  <a:pt x="2016" y="9496"/>
                  <a:pt x="2059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9"/>
          <p:cNvSpPr/>
          <p:nvPr/>
        </p:nvSpPr>
        <p:spPr>
          <a:xfrm>
            <a:off x="1027080" y="2820960"/>
            <a:ext cx="36720" cy="528840"/>
          </a:xfrm>
          <a:custGeom>
            <a:avLst/>
            <a:gdLst/>
            <a:ahLst/>
            <a:rect l="l" t="t" r="r" b="b"/>
            <a:pathLst>
              <a:path w="100" h="1465">
                <a:moveTo>
                  <a:pt x="2902" y="7838"/>
                </a:moveTo>
                <a:cubicBezTo>
                  <a:pt x="2957" y="7893"/>
                  <a:pt x="2962" y="7929"/>
                  <a:pt x="2952" y="8012"/>
                </a:cubicBezTo>
                <a:cubicBezTo>
                  <a:pt x="2935" y="8147"/>
                  <a:pt x="2891" y="8276"/>
                  <a:pt x="2877" y="8409"/>
                </a:cubicBezTo>
                <a:cubicBezTo>
                  <a:pt x="2868" y="8490"/>
                  <a:pt x="2858" y="8578"/>
                  <a:pt x="2853" y="8657"/>
                </a:cubicBezTo>
                <a:cubicBezTo>
                  <a:pt x="2848" y="8747"/>
                  <a:pt x="2853" y="8840"/>
                  <a:pt x="2853" y="8930"/>
                </a:cubicBezTo>
              </a:path>
              <a:path w="100" h="1465">
                <a:moveTo>
                  <a:pt x="2902" y="9227"/>
                </a:moveTo>
                <a:cubicBezTo>
                  <a:pt x="2902" y="9285"/>
                  <a:pt x="2919" y="9310"/>
                  <a:pt x="2877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10"/>
          <p:cNvSpPr/>
          <p:nvPr/>
        </p:nvSpPr>
        <p:spPr>
          <a:xfrm>
            <a:off x="1258920" y="2990880"/>
            <a:ext cx="4456080" cy="492120"/>
          </a:xfrm>
          <a:custGeom>
            <a:avLst/>
            <a:gdLst/>
            <a:ahLst/>
            <a:rect l="l" t="t" r="r" b="b"/>
            <a:pathLst>
              <a:path w="12379" h="1365">
                <a:moveTo>
                  <a:pt x="3497" y="8806"/>
                </a:moveTo>
                <a:cubicBezTo>
                  <a:pt x="3571" y="8806"/>
                  <a:pt x="3625" y="8785"/>
                  <a:pt x="3696" y="8781"/>
                </a:cubicBezTo>
                <a:cubicBezTo>
                  <a:pt x="3745" y="8778"/>
                  <a:pt x="3796" y="8781"/>
                  <a:pt x="3845" y="8781"/>
                </a:cubicBezTo>
              </a:path>
              <a:path w="12379" h="1365">
                <a:moveTo>
                  <a:pt x="3522" y="9029"/>
                </a:moveTo>
                <a:cubicBezTo>
                  <a:pt x="3663" y="9029"/>
                  <a:pt x="3744" y="9036"/>
                  <a:pt x="3870" y="9004"/>
                </a:cubicBezTo>
              </a:path>
              <a:path w="12379" h="1365">
                <a:moveTo>
                  <a:pt x="4192" y="8434"/>
                </a:moveTo>
                <a:cubicBezTo>
                  <a:pt x="4270" y="8322"/>
                  <a:pt x="4279" y="8334"/>
                  <a:pt x="4415" y="8334"/>
                </a:cubicBezTo>
                <a:cubicBezTo>
                  <a:pt x="4503" y="8334"/>
                  <a:pt x="4577" y="8313"/>
                  <a:pt x="4663" y="8310"/>
                </a:cubicBezTo>
                <a:cubicBezTo>
                  <a:pt x="4769" y="8306"/>
                  <a:pt x="4863" y="8318"/>
                  <a:pt x="4961" y="8334"/>
                </a:cubicBezTo>
                <a:cubicBezTo>
                  <a:pt x="5062" y="8350"/>
                  <a:pt x="5035" y="8423"/>
                  <a:pt x="5011" y="8508"/>
                </a:cubicBezTo>
                <a:cubicBezTo>
                  <a:pt x="4983" y="8609"/>
                  <a:pt x="4926" y="8709"/>
                  <a:pt x="4887" y="8806"/>
                </a:cubicBezTo>
                <a:cubicBezTo>
                  <a:pt x="4842" y="8919"/>
                  <a:pt x="4795" y="9035"/>
                  <a:pt x="4762" y="9153"/>
                </a:cubicBezTo>
                <a:cubicBezTo>
                  <a:pt x="4736" y="9247"/>
                  <a:pt x="4729" y="9365"/>
                  <a:pt x="4688" y="9451"/>
                </a:cubicBezTo>
                <a:cubicBezTo>
                  <a:pt x="4673" y="9482"/>
                  <a:pt x="4616" y="9571"/>
                  <a:pt x="4688" y="9475"/>
                </a:cubicBezTo>
              </a:path>
              <a:path w="12379" h="1365">
                <a:moveTo>
                  <a:pt x="5159" y="9153"/>
                </a:moveTo>
                <a:cubicBezTo>
                  <a:pt x="5194" y="9153"/>
                  <a:pt x="5207" y="9144"/>
                  <a:pt x="5209" y="9103"/>
                </a:cubicBezTo>
              </a:path>
              <a:path w="12379" h="1365">
                <a:moveTo>
                  <a:pt x="5730" y="8483"/>
                </a:moveTo>
                <a:cubicBezTo>
                  <a:pt x="5721" y="8586"/>
                  <a:pt x="5697" y="8684"/>
                  <a:pt x="5655" y="8781"/>
                </a:cubicBezTo>
                <a:cubicBezTo>
                  <a:pt x="5604" y="8899"/>
                  <a:pt x="5544" y="9046"/>
                  <a:pt x="5531" y="9178"/>
                </a:cubicBezTo>
                <a:cubicBezTo>
                  <a:pt x="5524" y="9251"/>
                  <a:pt x="5546" y="9392"/>
                  <a:pt x="5606" y="9451"/>
                </a:cubicBezTo>
                <a:cubicBezTo>
                  <a:pt x="5674" y="9519"/>
                  <a:pt x="5774" y="9503"/>
                  <a:pt x="5854" y="9475"/>
                </a:cubicBezTo>
                <a:cubicBezTo>
                  <a:pt x="5954" y="9440"/>
                  <a:pt x="6019" y="9435"/>
                  <a:pt x="6077" y="9327"/>
                </a:cubicBezTo>
                <a:cubicBezTo>
                  <a:pt x="6110" y="9266"/>
                  <a:pt x="6102" y="9218"/>
                  <a:pt x="6102" y="9153"/>
                </a:cubicBezTo>
                <a:cubicBezTo>
                  <a:pt x="6044" y="9153"/>
                  <a:pt x="5981" y="9144"/>
                  <a:pt x="5928" y="9178"/>
                </a:cubicBezTo>
                <a:cubicBezTo>
                  <a:pt x="5860" y="9222"/>
                  <a:pt x="5762" y="9316"/>
                  <a:pt x="5779" y="9401"/>
                </a:cubicBezTo>
                <a:cubicBezTo>
                  <a:pt x="5807" y="9457"/>
                  <a:pt x="5822" y="9473"/>
                  <a:pt x="5879" y="9451"/>
                </a:cubicBezTo>
              </a:path>
              <a:path w="12379" h="1365">
                <a:moveTo>
                  <a:pt x="6424" y="9227"/>
                </a:moveTo>
                <a:cubicBezTo>
                  <a:pt x="6441" y="9211"/>
                  <a:pt x="6457" y="9194"/>
                  <a:pt x="6474" y="9178"/>
                </a:cubicBezTo>
              </a:path>
              <a:path w="12379" h="1365">
                <a:moveTo>
                  <a:pt x="7045" y="8558"/>
                </a:moveTo>
                <a:cubicBezTo>
                  <a:pt x="7212" y="8526"/>
                  <a:pt x="7233" y="8558"/>
                  <a:pt x="7392" y="8558"/>
                </a:cubicBezTo>
                <a:cubicBezTo>
                  <a:pt x="7417" y="8558"/>
                  <a:pt x="7441" y="8558"/>
                  <a:pt x="7466" y="8558"/>
                </a:cubicBezTo>
              </a:path>
              <a:path w="12379" h="1365">
                <a:moveTo>
                  <a:pt x="6970" y="8632"/>
                </a:moveTo>
                <a:cubicBezTo>
                  <a:pt x="6917" y="8670"/>
                  <a:pt x="6791" y="8733"/>
                  <a:pt x="6772" y="8806"/>
                </a:cubicBezTo>
                <a:cubicBezTo>
                  <a:pt x="6749" y="8895"/>
                  <a:pt x="6834" y="8924"/>
                  <a:pt x="6896" y="8930"/>
                </a:cubicBezTo>
                <a:cubicBezTo>
                  <a:pt x="7010" y="8942"/>
                  <a:pt x="7009" y="8893"/>
                  <a:pt x="7144" y="8930"/>
                </a:cubicBezTo>
                <a:cubicBezTo>
                  <a:pt x="7259" y="8962"/>
                  <a:pt x="7300" y="9040"/>
                  <a:pt x="7342" y="9153"/>
                </a:cubicBezTo>
                <a:cubicBezTo>
                  <a:pt x="7387" y="9274"/>
                  <a:pt x="7392" y="9330"/>
                  <a:pt x="7342" y="9451"/>
                </a:cubicBezTo>
                <a:cubicBezTo>
                  <a:pt x="7310" y="9529"/>
                  <a:pt x="7192" y="9589"/>
                  <a:pt x="7119" y="9599"/>
                </a:cubicBezTo>
                <a:cubicBezTo>
                  <a:pt x="7006" y="9615"/>
                  <a:pt x="6955" y="9569"/>
                  <a:pt x="6871" y="9500"/>
                </a:cubicBezTo>
                <a:cubicBezTo>
                  <a:pt x="6863" y="9492"/>
                  <a:pt x="6854" y="9483"/>
                  <a:pt x="6846" y="9475"/>
                </a:cubicBezTo>
              </a:path>
              <a:path w="12379" h="1365">
                <a:moveTo>
                  <a:pt x="7665" y="9252"/>
                </a:moveTo>
                <a:cubicBezTo>
                  <a:pt x="7685" y="9191"/>
                  <a:pt x="7683" y="9177"/>
                  <a:pt x="7714" y="9153"/>
                </a:cubicBezTo>
              </a:path>
              <a:path w="12379" h="1365">
                <a:moveTo>
                  <a:pt x="8161" y="8706"/>
                </a:moveTo>
                <a:cubicBezTo>
                  <a:pt x="8130" y="8799"/>
                  <a:pt x="8033" y="8978"/>
                  <a:pt x="8111" y="9079"/>
                </a:cubicBezTo>
                <a:cubicBezTo>
                  <a:pt x="8140" y="9116"/>
                  <a:pt x="8261" y="9184"/>
                  <a:pt x="8310" y="9178"/>
                </a:cubicBezTo>
                <a:cubicBezTo>
                  <a:pt x="8326" y="9170"/>
                  <a:pt x="8343" y="9161"/>
                  <a:pt x="8359" y="9153"/>
                </a:cubicBezTo>
              </a:path>
              <a:path w="12379" h="1365">
                <a:moveTo>
                  <a:pt x="8558" y="8558"/>
                </a:moveTo>
                <a:cubicBezTo>
                  <a:pt x="8549" y="8660"/>
                  <a:pt x="8522" y="8754"/>
                  <a:pt x="8508" y="8855"/>
                </a:cubicBezTo>
                <a:cubicBezTo>
                  <a:pt x="8484" y="9026"/>
                  <a:pt x="8486" y="9208"/>
                  <a:pt x="8458" y="9376"/>
                </a:cubicBezTo>
                <a:cubicBezTo>
                  <a:pt x="8451" y="9416"/>
                  <a:pt x="8424" y="9572"/>
                  <a:pt x="8409" y="9599"/>
                </a:cubicBezTo>
                <a:cubicBezTo>
                  <a:pt x="8401" y="9599"/>
                  <a:pt x="8392" y="9599"/>
                  <a:pt x="8384" y="9599"/>
                </a:cubicBezTo>
              </a:path>
              <a:path w="12379" h="1365">
                <a:moveTo>
                  <a:pt x="8682" y="9401"/>
                </a:moveTo>
                <a:cubicBezTo>
                  <a:pt x="8704" y="9378"/>
                  <a:pt x="8709" y="9370"/>
                  <a:pt x="8731" y="9376"/>
                </a:cubicBezTo>
              </a:path>
              <a:path w="12379" h="1365">
                <a:moveTo>
                  <a:pt x="9128" y="8657"/>
                </a:moveTo>
                <a:cubicBezTo>
                  <a:pt x="9197" y="8643"/>
                  <a:pt x="9337" y="8594"/>
                  <a:pt x="9401" y="8657"/>
                </a:cubicBezTo>
                <a:cubicBezTo>
                  <a:pt x="9444" y="8699"/>
                  <a:pt x="9416" y="8824"/>
                  <a:pt x="9376" y="8855"/>
                </a:cubicBezTo>
                <a:cubicBezTo>
                  <a:pt x="9304" y="8912"/>
                  <a:pt x="9243" y="8899"/>
                  <a:pt x="9153" y="8930"/>
                </a:cubicBezTo>
                <a:cubicBezTo>
                  <a:pt x="9097" y="8949"/>
                  <a:pt x="9092" y="8958"/>
                  <a:pt x="9054" y="9004"/>
                </a:cubicBezTo>
                <a:cubicBezTo>
                  <a:pt x="9131" y="9004"/>
                  <a:pt x="9194" y="9019"/>
                  <a:pt x="9252" y="9079"/>
                </a:cubicBezTo>
                <a:cubicBezTo>
                  <a:pt x="9326" y="9157"/>
                  <a:pt x="9347" y="9274"/>
                  <a:pt x="9351" y="9376"/>
                </a:cubicBezTo>
                <a:cubicBezTo>
                  <a:pt x="9353" y="9444"/>
                  <a:pt x="9275" y="9563"/>
                  <a:pt x="9203" y="9599"/>
                </a:cubicBezTo>
                <a:cubicBezTo>
                  <a:pt x="9132" y="9634"/>
                  <a:pt x="9072" y="9610"/>
                  <a:pt x="9004" y="9599"/>
                </a:cubicBezTo>
                <a:cubicBezTo>
                  <a:pt x="8912" y="9584"/>
                  <a:pt x="8921" y="9533"/>
                  <a:pt x="8905" y="9451"/>
                </a:cubicBezTo>
              </a:path>
              <a:path w="12379" h="1365">
                <a:moveTo>
                  <a:pt x="9674" y="9227"/>
                </a:moveTo>
                <a:cubicBezTo>
                  <a:pt x="9722" y="9120"/>
                  <a:pt x="9700" y="9186"/>
                  <a:pt x="9748" y="9079"/>
                </a:cubicBezTo>
              </a:path>
              <a:path w="12379" h="1365">
                <a:moveTo>
                  <a:pt x="10195" y="8582"/>
                </a:moveTo>
                <a:cubicBezTo>
                  <a:pt x="10342" y="8703"/>
                  <a:pt x="10446" y="8735"/>
                  <a:pt x="10368" y="8930"/>
                </a:cubicBezTo>
                <a:cubicBezTo>
                  <a:pt x="10313" y="9066"/>
                  <a:pt x="10221" y="9151"/>
                  <a:pt x="10120" y="9252"/>
                </a:cubicBezTo>
                <a:cubicBezTo>
                  <a:pt x="10080" y="9293"/>
                  <a:pt x="10001" y="9369"/>
                  <a:pt x="9947" y="9376"/>
                </a:cubicBezTo>
                <a:cubicBezTo>
                  <a:pt x="9930" y="9376"/>
                  <a:pt x="9914" y="9376"/>
                  <a:pt x="9897" y="9376"/>
                </a:cubicBezTo>
                <a:cubicBezTo>
                  <a:pt x="10033" y="9376"/>
                  <a:pt x="10030" y="9411"/>
                  <a:pt x="10145" y="9451"/>
                </a:cubicBezTo>
                <a:cubicBezTo>
                  <a:pt x="10197" y="9469"/>
                  <a:pt x="10288" y="9470"/>
                  <a:pt x="10344" y="9475"/>
                </a:cubicBezTo>
              </a:path>
              <a:path w="12379" h="1365">
                <a:moveTo>
                  <a:pt x="10716" y="9004"/>
                </a:moveTo>
                <a:cubicBezTo>
                  <a:pt x="10767" y="9004"/>
                  <a:pt x="10785" y="9002"/>
                  <a:pt x="10790" y="8954"/>
                </a:cubicBezTo>
              </a:path>
              <a:path w="12379" h="1365">
                <a:moveTo>
                  <a:pt x="11361" y="8483"/>
                </a:moveTo>
                <a:cubicBezTo>
                  <a:pt x="11334" y="8681"/>
                  <a:pt x="11281" y="8837"/>
                  <a:pt x="11237" y="9029"/>
                </a:cubicBezTo>
                <a:cubicBezTo>
                  <a:pt x="11206" y="9165"/>
                  <a:pt x="11192" y="9313"/>
                  <a:pt x="11187" y="9451"/>
                </a:cubicBezTo>
                <a:cubicBezTo>
                  <a:pt x="11184" y="9521"/>
                  <a:pt x="11164" y="9649"/>
                  <a:pt x="11237" y="9674"/>
                </a:cubicBezTo>
                <a:cubicBezTo>
                  <a:pt x="11245" y="9674"/>
                  <a:pt x="11253" y="9674"/>
                  <a:pt x="11261" y="9674"/>
                </a:cubicBezTo>
              </a:path>
              <a:path w="12379" h="1365">
                <a:moveTo>
                  <a:pt x="11683" y="9029"/>
                </a:moveTo>
                <a:cubicBezTo>
                  <a:pt x="11812" y="9017"/>
                  <a:pt x="11909" y="9004"/>
                  <a:pt x="12030" y="9004"/>
                </a:cubicBezTo>
              </a:path>
              <a:path w="12379" h="1365">
                <a:moveTo>
                  <a:pt x="11906" y="9302"/>
                </a:moveTo>
                <a:cubicBezTo>
                  <a:pt x="11997" y="9302"/>
                  <a:pt x="12088" y="9302"/>
                  <a:pt x="12179" y="9302"/>
                </a:cubicBezTo>
              </a:path>
              <a:path w="12379" h="1365">
                <a:moveTo>
                  <a:pt x="12948" y="8558"/>
                </a:moveTo>
                <a:cubicBezTo>
                  <a:pt x="13080" y="8558"/>
                  <a:pt x="13213" y="8558"/>
                  <a:pt x="13345" y="8558"/>
                </a:cubicBezTo>
              </a:path>
              <a:path w="12379" h="1365">
                <a:moveTo>
                  <a:pt x="12849" y="8632"/>
                </a:moveTo>
                <a:cubicBezTo>
                  <a:pt x="12784" y="8690"/>
                  <a:pt x="12719" y="8733"/>
                  <a:pt x="12675" y="8806"/>
                </a:cubicBezTo>
                <a:cubicBezTo>
                  <a:pt x="12667" y="8822"/>
                  <a:pt x="12658" y="8839"/>
                  <a:pt x="12650" y="8855"/>
                </a:cubicBezTo>
                <a:cubicBezTo>
                  <a:pt x="12708" y="8839"/>
                  <a:pt x="12739" y="8790"/>
                  <a:pt x="12799" y="8781"/>
                </a:cubicBezTo>
                <a:cubicBezTo>
                  <a:pt x="12924" y="8762"/>
                  <a:pt x="12959" y="8775"/>
                  <a:pt x="13022" y="8855"/>
                </a:cubicBezTo>
                <a:cubicBezTo>
                  <a:pt x="13088" y="8939"/>
                  <a:pt x="13094" y="9048"/>
                  <a:pt x="13097" y="9153"/>
                </a:cubicBezTo>
                <a:cubicBezTo>
                  <a:pt x="13100" y="9271"/>
                  <a:pt x="13076" y="9364"/>
                  <a:pt x="12998" y="9451"/>
                </a:cubicBezTo>
                <a:cubicBezTo>
                  <a:pt x="12932" y="9524"/>
                  <a:pt x="12868" y="9545"/>
                  <a:pt x="12774" y="9550"/>
                </a:cubicBezTo>
                <a:cubicBezTo>
                  <a:pt x="12699" y="9554"/>
                  <a:pt x="12591" y="9512"/>
                  <a:pt x="12526" y="9475"/>
                </a:cubicBezTo>
                <a:cubicBezTo>
                  <a:pt x="12491" y="9440"/>
                  <a:pt x="12479" y="9418"/>
                  <a:pt x="12477" y="9376"/>
                </a:cubicBezTo>
              </a:path>
              <a:path w="12379" h="1365">
                <a:moveTo>
                  <a:pt x="13717" y="8731"/>
                </a:moveTo>
                <a:cubicBezTo>
                  <a:pt x="13663" y="8885"/>
                  <a:pt x="13568" y="9026"/>
                  <a:pt x="13519" y="9178"/>
                </a:cubicBezTo>
                <a:cubicBezTo>
                  <a:pt x="13493" y="9257"/>
                  <a:pt x="13469" y="9375"/>
                  <a:pt x="13519" y="9451"/>
                </a:cubicBezTo>
                <a:cubicBezTo>
                  <a:pt x="13555" y="9505"/>
                  <a:pt x="13657" y="9536"/>
                  <a:pt x="13717" y="9525"/>
                </a:cubicBezTo>
                <a:cubicBezTo>
                  <a:pt x="13864" y="9497"/>
                  <a:pt x="13914" y="9366"/>
                  <a:pt x="13990" y="9252"/>
                </a:cubicBezTo>
                <a:cubicBezTo>
                  <a:pt x="14051" y="9160"/>
                  <a:pt x="14051" y="9098"/>
                  <a:pt x="14015" y="9004"/>
                </a:cubicBezTo>
                <a:cubicBezTo>
                  <a:pt x="13974" y="8895"/>
                  <a:pt x="13910" y="8881"/>
                  <a:pt x="13841" y="8806"/>
                </a:cubicBezTo>
                <a:cubicBezTo>
                  <a:pt x="13811" y="8776"/>
                  <a:pt x="13806" y="8762"/>
                  <a:pt x="13841" y="8731"/>
                </a:cubicBezTo>
              </a:path>
              <a:path w="12379" h="1365">
                <a:moveTo>
                  <a:pt x="14288" y="8582"/>
                </a:moveTo>
                <a:cubicBezTo>
                  <a:pt x="14301" y="8707"/>
                  <a:pt x="14292" y="8750"/>
                  <a:pt x="14263" y="8855"/>
                </a:cubicBezTo>
                <a:cubicBezTo>
                  <a:pt x="14232" y="8966"/>
                  <a:pt x="14230" y="8956"/>
                  <a:pt x="14312" y="9029"/>
                </a:cubicBezTo>
                <a:cubicBezTo>
                  <a:pt x="14370" y="9080"/>
                  <a:pt x="14452" y="9116"/>
                  <a:pt x="14536" y="9103"/>
                </a:cubicBezTo>
                <a:cubicBezTo>
                  <a:pt x="14608" y="9080"/>
                  <a:pt x="14631" y="9073"/>
                  <a:pt x="14660" y="9029"/>
                </a:cubicBezTo>
              </a:path>
              <a:path w="12379" h="1365">
                <a:moveTo>
                  <a:pt x="14883" y="8483"/>
                </a:moveTo>
                <a:cubicBezTo>
                  <a:pt x="14827" y="8631"/>
                  <a:pt x="14747" y="8776"/>
                  <a:pt x="14709" y="8930"/>
                </a:cubicBezTo>
                <a:cubicBezTo>
                  <a:pt x="14671" y="9085"/>
                  <a:pt x="14605" y="9241"/>
                  <a:pt x="14585" y="9401"/>
                </a:cubicBezTo>
                <a:cubicBezTo>
                  <a:pt x="14583" y="9418"/>
                  <a:pt x="14574" y="9638"/>
                  <a:pt x="14585" y="9624"/>
                </a:cubicBezTo>
                <a:cubicBezTo>
                  <a:pt x="14593" y="9599"/>
                  <a:pt x="14602" y="9575"/>
                  <a:pt x="14610" y="9550"/>
                </a:cubicBezTo>
              </a:path>
              <a:path w="12379" h="1365">
                <a:moveTo>
                  <a:pt x="15180" y="8706"/>
                </a:moveTo>
                <a:cubicBezTo>
                  <a:pt x="15146" y="8855"/>
                  <a:pt x="15114" y="9004"/>
                  <a:pt x="15081" y="9153"/>
                </a:cubicBezTo>
                <a:cubicBezTo>
                  <a:pt x="15054" y="9273"/>
                  <a:pt x="14999" y="9389"/>
                  <a:pt x="15081" y="9500"/>
                </a:cubicBezTo>
                <a:cubicBezTo>
                  <a:pt x="15143" y="9584"/>
                  <a:pt x="15210" y="9663"/>
                  <a:pt x="15304" y="9674"/>
                </a:cubicBezTo>
                <a:cubicBezTo>
                  <a:pt x="15428" y="9688"/>
                  <a:pt x="15538" y="9636"/>
                  <a:pt x="15627" y="9550"/>
                </a:cubicBezTo>
                <a:cubicBezTo>
                  <a:pt x="15767" y="9415"/>
                  <a:pt x="15856" y="9195"/>
                  <a:pt x="15875" y="9004"/>
                </a:cubicBezTo>
                <a:cubicBezTo>
                  <a:pt x="15891" y="8842"/>
                  <a:pt x="15838" y="8702"/>
                  <a:pt x="15677" y="8632"/>
                </a:cubicBezTo>
                <a:cubicBezTo>
                  <a:pt x="15534" y="8570"/>
                  <a:pt x="15467" y="8604"/>
                  <a:pt x="15329" y="8632"/>
                </a:cubicBezTo>
                <a:cubicBezTo>
                  <a:pt x="15304" y="8632"/>
                  <a:pt x="15280" y="8632"/>
                  <a:pt x="15255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8:18Z</dcterms:created>
  <dc:creator>jnewman</dc:creator>
  <dc:description/>
  <dc:language>en-US</dc:language>
  <cp:lastModifiedBy>abeason</cp:lastModifiedBy>
  <dcterms:modified xsi:type="dcterms:W3CDTF">2010-02-22T14:49:50Z</dcterms:modified>
  <cp:revision>11</cp:revision>
  <dc:subject/>
  <dc:title>Lesson 9.1 part one</dc:title>
</cp:coreProperties>
</file>